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88DD-2A30-4B6C-AB61-198C1ACFFC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DE78-610A-4DC3-B6B0-AD10230AB0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F3A-421B-493C-92EF-837B51BB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620-524D-4262-9F7E-17880AE6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215-7CE1-438D-A477-55931B94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15BA-BD2B-45B6-8D68-C348FEA5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5A70-0EB1-43EA-B911-AE6396C4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722C-18CF-4D0A-B91A-CEB418BF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E12D-9DA0-48B5-96DD-C48F4CF2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C403-8E98-493C-B998-49072CA5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CB55-B040-4A22-8E37-B938EB20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FC3F-774F-49DE-BC8D-F1D4D4C8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C5AA-B7C1-4447-AC43-C3915DCF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B079-D637-4A22-B5F5-29997F05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FC0E-1C4E-40EA-9520-193122B6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F376-1CAD-462A-BA8A-9380A52A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3939-FA9C-4CB5-A409-0A622E9B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89D5-9035-41FF-BD6B-3B1DB08C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AB21-D638-4A1B-9554-FE28F862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40E97-03B8-4F8A-8207-3AAB6DF3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BBFFA-60B3-4618-A74D-973A6CAA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5C48D-F2C4-4328-B5F3-7ECA112E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92E12-4350-48EC-9D86-FE906C05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ADD50-4603-4767-ADFC-6067907F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DDB5-C4F4-4695-8284-88732B50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AB354-5A35-4E48-9CFE-3B975FB9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B835D-4C16-4FA1-9341-BE99FEA7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2358E-03EC-4897-887F-207B5AE9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30C37-CB18-4FBC-B9D6-C6C3CC74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21388-3620-4877-A827-D9773ADE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DD546-41C9-4267-8416-E9CBE815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DA7B7-3B82-48A6-BD76-FB543484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A95E-C165-4E5A-9E7F-8CAFB7F9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2152-08D9-4EFA-BDA8-7A509F14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9D9-1FCA-47F8-B96C-C2CAB891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2BA4-4581-4E69-8C84-F2B18A42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1C18-6C0D-479D-873C-9FC5DF12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C58-5EFE-449F-96D4-CED35778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EA02-517E-41A9-A090-0C32368AD7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3733-1C85-4F76-898E-A2FE03D30D9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4E9D-C46C-45B3-9E83-6B398D6278D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362240" y="907920"/>
            <a:ext cx="671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 舌头的秘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594360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7034040" y="6000840"/>
            <a:ext cx="203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1976040" y="61261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189440" y="5943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啄木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03"/>
          <p:cNvPicPr/>
          <p:nvPr/>
        </p:nvPicPr>
        <p:blipFill>
          <a:blip r:embed="rId1"/>
          <a:stretch/>
        </p:blipFill>
        <p:spPr>
          <a:xfrm>
            <a:off x="2286000" y="228600"/>
            <a:ext cx="4471920" cy="5562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2895480" y="5943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舌尖有倒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400800" y="5943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捉害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609480" y="5943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7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53323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981080" y="59436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伸、缩舌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5257800" y="5943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”四周动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021680" y="5943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企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04"/>
          <p:cNvPicPr/>
          <p:nvPr/>
        </p:nvPicPr>
        <p:blipFill>
          <a:blip r:embed="rId1"/>
          <a:stretch/>
        </p:blipFill>
        <p:spPr>
          <a:xfrm>
            <a:off x="504720" y="228600"/>
            <a:ext cx="8134560" cy="54878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2514600" y="5943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舌头有小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5715000" y="5943600"/>
            <a:ext cx="29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逮住鱼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3336840" y="304920"/>
            <a:ext cx="30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523880" y="2286000"/>
            <a:ext cx="599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6920" y="1197000"/>
            <a:ext cx="74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朋友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有许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(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舌头的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(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o)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吗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"/>
          <p:cNvSpPr/>
          <p:nvPr/>
        </p:nvSpPr>
        <p:spPr>
          <a:xfrm>
            <a:off x="2084400" y="4189320"/>
            <a:ext cx="53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210400" y="3048120"/>
            <a:ext cx="231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）水（　）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828800" y="4343400"/>
            <a:ext cx="323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）奇（　）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021360" y="3048120"/>
            <a:ext cx="231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）颜（　）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097680" y="4343400"/>
            <a:ext cx="231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）面（　）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981080" y="1676520"/>
            <a:ext cx="178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填空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163600" y="306864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      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5979960" y="306864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      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2235240" y="436572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      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6051600" y="436572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    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529B-315C-4503-B96A-05CE0437302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336840" y="304920"/>
            <a:ext cx="30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360" y="692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边听边思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547640" y="1773360"/>
            <a:ext cx="599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课文告诉了我们哪些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物舌头的秘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10 舌头的秘密.mp3" descr="10 舌头的秘密"/>
          <p:cNvPicPr/>
          <p:nvPr/>
        </p:nvPicPr>
        <p:blipFill>
          <a:blip r:embed="rId2"/>
          <a:stretch/>
        </p:blipFill>
        <p:spPr>
          <a:xfrm>
            <a:off x="1116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2565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1295280"/>
            <a:ext cx="7086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523880" y="17524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676520" y="1523880"/>
            <a:ext cx="62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主学习提示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200320" y="2489040"/>
            <a:ext cx="5495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523880" y="289548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圈出本课的生字、新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每个自然段前标出自然段序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13"/>
          <p:cNvSpPr/>
          <p:nvPr/>
        </p:nvSpPr>
        <p:spPr>
          <a:xfrm>
            <a:off x="2700360" y="42069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595520" y="1467000"/>
            <a:ext cx="6634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09480" y="1981080"/>
            <a:ext cx="7467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hé tou     ràng kāi     hài chóng      tā 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066680" y="11430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838080" y="2438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舌 头   让 开   害 虫     它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762120" y="50292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dăi zhù     quán   néng gòu   qiān qí băi guà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762120" y="5486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逮 住       全      能 够      千 奇 百 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838080" y="335268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ròu cì        shū lǐ    sàn rè        xiăo ch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838080" y="38862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肉刺    梳理    散热     小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0"/>
          <p:cNvSpPr/>
          <p:nvPr/>
        </p:nvSpPr>
        <p:spPr>
          <a:xfrm>
            <a:off x="304920" y="533520"/>
            <a:ext cx="2971800" cy="1143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会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295280" y="2514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舌头  让开  害虫  它们  全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295280" y="3886200"/>
            <a:ext cx="72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逮住  肉刺  梳理  能够  散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371600" y="51814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齿  许多  千奇百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128600" y="1096920"/>
            <a:ext cx="30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304920" y="576360"/>
            <a:ext cx="2971800" cy="1143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会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295280" y="2514600"/>
            <a:ext cx="701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舌    让    害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619280" y="4221000"/>
            <a:ext cx="722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    全    住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128600" y="1096920"/>
            <a:ext cx="30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04920" y="609480"/>
            <a:ext cx="2971800" cy="1143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会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01"/>
          <p:cNvPicPr/>
          <p:nvPr/>
        </p:nvPicPr>
        <p:blipFill>
          <a:blip r:embed="rId1"/>
          <a:stretch/>
        </p:blipFill>
        <p:spPr>
          <a:xfrm>
            <a:off x="2197080" y="262080"/>
            <a:ext cx="4702320" cy="568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900000" y="6093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340000" y="6093000"/>
            <a:ext cx="24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长有肉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5364000" y="60930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梳理身上的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371600" y="1295280"/>
            <a:ext cx="7086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523880" y="17524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676520" y="1523880"/>
            <a:ext cx="62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合作学习提示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200320" y="2489040"/>
            <a:ext cx="5495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447920" y="25146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一种自己感兴趣的动物，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习用“读”——“说”——“再读”的方法研究其舌头的秘密。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2"/>
          <p:cNvPicPr/>
          <p:nvPr/>
        </p:nvPicPr>
        <p:blipFill>
          <a:blip r:embed="rId1"/>
          <a:stretch/>
        </p:blipFill>
        <p:spPr>
          <a:xfrm>
            <a:off x="2057400" y="228600"/>
            <a:ext cx="5032440" cy="54864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1158840" y="60958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76320" y="-217440"/>
            <a:ext cx="82296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438280" y="6095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伸出舌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25780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能够散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2:05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7:14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