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376-F89D-40D6-8207-A4EBE79B5B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D1FC-0107-4490-9EE8-82DB59141A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B27-9B75-4FE2-97B7-84522B1F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5A1-7E66-4403-8A08-9D98488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E38-F90F-44FD-A63E-27E70799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871-A734-4B84-8CC0-33FBD58C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E1C-D51D-4198-B9E4-F90414BA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75B-D3EC-4308-B7F8-10DBCB0E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667-96EA-44E4-B58E-0F1F4FA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2B8-DC5B-4C44-8944-0112A4F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EFE-B9C5-478B-877A-5962829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CCC-B7A9-4177-A1A2-2FA476C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90F-0AFA-4F7C-91D4-5E170B1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C15-9DDD-469D-B8B3-A2511FF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C3E-6640-4D01-A8D2-7216360FEF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551400" y="9144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</a:rPr>
              <a:t>水仙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108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0968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128824494839687500"/>
          <p:cNvPicPr/>
          <p:nvPr/>
        </p:nvPicPr>
        <p:blipFill>
          <a:blip r:embed="rId1"/>
          <a:stretch/>
        </p:blipFill>
        <p:spPr>
          <a:xfrm>
            <a:off x="2263680" y="609480"/>
            <a:ext cx="4616640" cy="5410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253040" y="6172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024440" y="990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47640" y="242244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绚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沁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肺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>
                <a:solidFill>
                  <a:srgbClr val="ff0000"/>
                </a:solidFill>
                <a:latin typeface="楷体_GB2312"/>
              </a:rPr>
              <a:t>腑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647640" y="2041560"/>
            <a:ext cx="784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是迎春的花。立春过去了，人们冬服未脱，它却静静地开放，告诉我们，春姑娘已回到人间。待到春意盎然时，它却悄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iǎo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然离去，只是默默地把春的消息报告给人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024440" y="990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7640" y="31082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562720" y="304920"/>
            <a:ext cx="3047760" cy="1447560"/>
          </a:xfrm>
          <a:prstGeom prst="cloudCallout">
            <a:avLst>
              <a:gd name="adj1" fmla="val 53231"/>
              <a:gd name="adj2" fmla="val 85305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水仙花的样子和喜爱水仙花的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8001000" y="35812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762120" y="4114800"/>
            <a:ext cx="5410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647640" y="243828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绚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沁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肺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120" y="44197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7772400" y="4038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276720" y="51973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934320" y="5181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447920" y="51814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1752480" y="55627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084480" y="4278240"/>
            <a:ext cx="284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47640" y="2422440"/>
            <a:ext cx="784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我的桌子上摆着一盆盛开的水仙花，那淡雅的花朵，翡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ě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翠般的绿叶，使人一看就生喜爱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花并不需要精心照料，只要一点点清水，就能够生长。从那葱头似的根部抽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chōu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出来的片片绿叶，翠色欲滴，直直地向上伸展。就在这片片绿叶中，盛开着朵朵水仙花。它们没有绚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丽的色彩，然而这白色的花，却像雪一样圣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洁，像云一样端庄，像玉兰一样高雅。它那细嫩的花朵散发出淡淡的清香，沁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人肺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743200" y="457200"/>
            <a:ext cx="3352680" cy="1600200"/>
          </a:xfrm>
          <a:prstGeom prst="cloudCallout">
            <a:avLst>
              <a:gd name="adj1" fmla="val -74337"/>
              <a:gd name="adj2" fmla="val 6606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仙花的确很美，它美在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762120" y="5562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3352680" y="55627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648320" y="518148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084480" y="4278240"/>
            <a:ext cx="284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6959520" y="19810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672320" y="23702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圣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672320" y="3119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端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672320" y="38941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高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47640" y="2041560"/>
            <a:ext cx="784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水仙是迎春的花。立春过去了，人们冬服未脱，它却静静地开放，告诉我们，春姑娘已回到人间。待到春意盎然时，它却悄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qiǎo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然离去，只是默默地把春的消息报告给人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2286000" y="25146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80960" y="30481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水仙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1752480" y="190512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30320" y="19890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根：葱头似的（形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830320" y="3119400"/>
            <a:ext cx="20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叶：翠色欲滴（色美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55680" y="4278240"/>
            <a:ext cx="303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花：像雪、像云、像玉（姿美）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959520" y="19810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672320" y="23702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圣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672320" y="31194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端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672320" y="38941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高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07880" y="37180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迎春的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38080" y="0"/>
            <a:ext cx="441972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仙花那么圣洁，那么端庄，那么高雅，面对它，你最想说什么？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9600" y="38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01_调整大小"/>
          <p:cNvPicPr/>
          <p:nvPr/>
        </p:nvPicPr>
        <p:blipFill>
          <a:blip r:embed="rId1"/>
          <a:stretch/>
        </p:blipFill>
        <p:spPr>
          <a:xfrm>
            <a:off x="1193760" y="1041480"/>
            <a:ext cx="6756480" cy="4775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363920" y="6172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野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tianzigez"/>
          <p:cNvPicPr/>
          <p:nvPr/>
        </p:nvPicPr>
        <p:blipFill>
          <a:blip r:embed="rId2"/>
          <a:stretch/>
        </p:blipFill>
        <p:spPr>
          <a:xfrm>
            <a:off x="53352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5564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38080" y="7621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tianzigez"/>
          <p:cNvPicPr/>
          <p:nvPr/>
        </p:nvPicPr>
        <p:blipFill>
          <a:blip r:embed="rId3"/>
          <a:stretch/>
        </p:blipFill>
        <p:spPr>
          <a:xfrm>
            <a:off x="2209680" y="1447920"/>
            <a:ext cx="1236960" cy="1236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243216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09680" y="7621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í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tianzigez"/>
          <p:cNvPicPr/>
          <p:nvPr/>
        </p:nvPicPr>
        <p:blipFill>
          <a:blip r:embed="rId4"/>
          <a:stretch/>
        </p:blipFill>
        <p:spPr>
          <a:xfrm>
            <a:off x="395460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417672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114800" y="762120"/>
            <a:ext cx="1066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tianzigez"/>
          <p:cNvPicPr/>
          <p:nvPr/>
        </p:nvPicPr>
        <p:blipFill>
          <a:blip r:embed="rId5"/>
          <a:stretch/>
        </p:blipFill>
        <p:spPr>
          <a:xfrm>
            <a:off x="571500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593748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15000" y="7621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ē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tianzigez"/>
          <p:cNvPicPr/>
          <p:nvPr/>
        </p:nvPicPr>
        <p:blipFill>
          <a:blip r:embed="rId6"/>
          <a:stretch/>
        </p:blipFill>
        <p:spPr>
          <a:xfrm>
            <a:off x="7373880" y="14479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7"/>
          <p:cNvSpPr/>
          <p:nvPr/>
        </p:nvSpPr>
        <p:spPr>
          <a:xfrm>
            <a:off x="7596360" y="1371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7391520" y="7621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ti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tianzigez"/>
          <p:cNvPicPr/>
          <p:nvPr/>
        </p:nvPicPr>
        <p:blipFill>
          <a:blip r:embed="rId7"/>
          <a:stretch/>
        </p:blipFill>
        <p:spPr>
          <a:xfrm>
            <a:off x="53352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75564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533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ě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tianzigez"/>
          <p:cNvPicPr/>
          <p:nvPr/>
        </p:nvPicPr>
        <p:blipFill>
          <a:blip r:embed="rId8"/>
          <a:stretch/>
        </p:blipFill>
        <p:spPr>
          <a:xfrm>
            <a:off x="2209680" y="4419720"/>
            <a:ext cx="1236960" cy="1236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243216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209680" y="3733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uà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5" descr="tianzigez"/>
          <p:cNvPicPr/>
          <p:nvPr/>
        </p:nvPicPr>
        <p:blipFill>
          <a:blip r:embed="rId9"/>
          <a:stretch/>
        </p:blipFill>
        <p:spPr>
          <a:xfrm>
            <a:off x="395460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6"/>
          <p:cNvSpPr/>
          <p:nvPr/>
        </p:nvSpPr>
        <p:spPr>
          <a:xfrm>
            <a:off x="417672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3962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qì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8" descr="tianzigez"/>
          <p:cNvPicPr/>
          <p:nvPr/>
        </p:nvPicPr>
        <p:blipFill>
          <a:blip r:embed="rId10"/>
          <a:stretch/>
        </p:blipFill>
        <p:spPr>
          <a:xfrm>
            <a:off x="571500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9"/>
          <p:cNvSpPr/>
          <p:nvPr/>
        </p:nvSpPr>
        <p:spPr>
          <a:xfrm>
            <a:off x="593748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715000" y="3733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è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1" descr="tianzigez"/>
          <p:cNvPicPr/>
          <p:nvPr/>
        </p:nvPicPr>
        <p:blipFill>
          <a:blip r:embed="rId11"/>
          <a:stretch/>
        </p:blipFill>
        <p:spPr>
          <a:xfrm>
            <a:off x="7373880" y="4419720"/>
            <a:ext cx="1236600" cy="1236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2"/>
          <p:cNvSpPr/>
          <p:nvPr/>
        </p:nvSpPr>
        <p:spPr>
          <a:xfrm>
            <a:off x="7596360" y="4343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Verdana"/>
              </a:rPr>
              <a:t>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7391520" y="3733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ǔ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ShockwaveFlash1" descr=""/>
          <p:cNvPicPr/>
          <p:nvPr/>
        </p:nvPicPr>
        <p:blipFill>
          <a:blip r:embed="rId12"/>
          <a:stretch/>
        </p:blipFill>
        <p:spPr>
          <a:xfrm>
            <a:off x="9144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ShockwaveFlash2" descr=""/>
          <p:cNvPicPr/>
          <p:nvPr/>
        </p:nvPicPr>
        <p:blipFill>
          <a:blip r:embed="rId13"/>
          <a:stretch/>
        </p:blipFill>
        <p:spPr>
          <a:xfrm>
            <a:off x="25146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ShockwaveFlash3" descr=""/>
          <p:cNvPicPr/>
          <p:nvPr/>
        </p:nvPicPr>
        <p:blipFill>
          <a:blip r:embed="rId14"/>
          <a:stretch/>
        </p:blipFill>
        <p:spPr>
          <a:xfrm>
            <a:off x="42670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ShockwaveFlash4" descr=""/>
          <p:cNvPicPr/>
          <p:nvPr/>
        </p:nvPicPr>
        <p:blipFill>
          <a:blip r:embed="rId15"/>
          <a:stretch/>
        </p:blipFill>
        <p:spPr>
          <a:xfrm>
            <a:off x="60958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ShockwaveFlash5" descr=""/>
          <p:cNvPicPr/>
          <p:nvPr/>
        </p:nvPicPr>
        <p:blipFill>
          <a:blip r:embed="rId16"/>
          <a:stretch/>
        </p:blipFill>
        <p:spPr>
          <a:xfrm>
            <a:off x="777240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ShockwaveFlash6" descr=""/>
          <p:cNvPicPr/>
          <p:nvPr/>
        </p:nvPicPr>
        <p:blipFill>
          <a:blip r:embed="rId17"/>
          <a:stretch/>
        </p:blipFill>
        <p:spPr>
          <a:xfrm>
            <a:off x="91440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ShockwaveFlash7" descr=""/>
          <p:cNvPicPr/>
          <p:nvPr/>
        </p:nvPicPr>
        <p:blipFill>
          <a:blip r:embed="rId18"/>
          <a:stretch/>
        </p:blipFill>
        <p:spPr>
          <a:xfrm>
            <a:off x="251460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ShockwaveFlash8" descr=""/>
          <p:cNvPicPr/>
          <p:nvPr/>
        </p:nvPicPr>
        <p:blipFill>
          <a:blip r:embed="rId19"/>
          <a:stretch/>
        </p:blipFill>
        <p:spPr>
          <a:xfrm>
            <a:off x="42670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ShockwaveFlash9" descr=""/>
          <p:cNvPicPr/>
          <p:nvPr/>
        </p:nvPicPr>
        <p:blipFill>
          <a:blip r:embed="rId20"/>
          <a:stretch/>
        </p:blipFill>
        <p:spPr>
          <a:xfrm>
            <a:off x="60958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ShockwaveFlash10" descr=""/>
          <p:cNvPicPr/>
          <p:nvPr/>
        </p:nvPicPr>
        <p:blipFill>
          <a:blip r:embed="rId21"/>
          <a:stretch/>
        </p:blipFill>
        <p:spPr>
          <a:xfrm>
            <a:off x="7772400" y="57150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762-9664-4FA4-AE46-2D90B8457B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22920" y="3049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野　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47640" y="1447920"/>
            <a:ext cx="78487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四月来了，接着五月也来了，这是繁花似锦的时节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这时节，溪岸旁、草地上、篱笆边、石缝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è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里，野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菊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和许多不知名的小花，都灿烂地开放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它们开放黄色的花，白色的花；它们开放蓝色的花，紫色的花。它们的花，有的像小酒杯，有的像小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铃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lí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铛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；它们的花，在草丛里谈心；它们的花，在和蝴蝶游戏；它们的花，结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jiē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］成种子，有的落在泥土中，有的在南风中飞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　　它们真心真意地开放花朵，在不很显眼的地方，给大自然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增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zēnɡ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添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tiān</a:t>
            </a:r>
            <a:r>
              <a:rPr b="0" lang="zh-CN" sz="2500" spc="-1" strike="noStrike">
                <a:solidFill>
                  <a:srgbClr val="000000"/>
                </a:solidFill>
                <a:latin typeface="楷体_GB2312"/>
              </a:rPr>
              <a:t>）了美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22920" y="3049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野　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47640" y="23464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四月来了，接着五月也来了，这是繁花似锦的时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这时节，溪岸旁、草地上、篱笆边、石缝［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fè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］里，野菊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和许多不知名的小花，都灿烂地开放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57200" y="304920"/>
            <a:ext cx="3809880" cy="19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野花盛开在什么时间？野花开在什么地方？这些野花开得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7238880" y="28954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1"/>
          <p:cNvSpPr/>
          <p:nvPr/>
        </p:nvSpPr>
        <p:spPr>
          <a:xfrm>
            <a:off x="1752480" y="3581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47640" y="15238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它们开放黄色的花，白色的花；它们开放蓝色的花，紫色的花。它们的花，有的像小酒杯，有的像小铃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í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铛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ā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；它们的花，在草丛里谈心；它们的花，在和蝴蝶游戏；它们的花，结［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iē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］成种子，有的落在泥土中，有的在南风中飞扬。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952880" y="20574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762120" y="25146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7238880" y="2514600"/>
            <a:ext cx="1067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762120" y="2971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2286000" y="2971800"/>
            <a:ext cx="4419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941560" y="2308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941560" y="3832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形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106960" y="2308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106960" y="3832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各种各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057400" y="26668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781200" y="2193840"/>
            <a:ext cx="758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　　它们真心真意地开放花朵，在不很显眼的地方，给大自然增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ēn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添（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tiā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）了美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838080" y="3657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932040" y="4719600"/>
            <a:ext cx="588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58640" y="3124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繁花似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941560" y="2308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41560" y="3832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形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106960" y="2308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106960" y="3832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各种各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89880" y="31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增添美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2057400" y="26668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6781680" y="2666880"/>
            <a:ext cx="152640" cy="152424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838080" y="380880"/>
            <a:ext cx="3886200" cy="1219320"/>
          </a:xfrm>
          <a:prstGeom prst="cloudCallout">
            <a:avLst>
              <a:gd name="adj1" fmla="val -40685"/>
              <a:gd name="adj2" fmla="val 133722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学了课文，你有什么感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3:37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53Z</dcterms:modified>
  <cp:revision>1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