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D143-76FA-41C7-9E1A-C30DB1B3BA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664E-92ED-4F9C-A162-B20F9279DBE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3F8-D055-4AB5-87CC-4EF073BB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E441-42A0-4E1A-B887-92FF29B4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204-FBDB-48E6-B413-DBD6B6BC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AF57-5C60-41DE-BB95-A7CF3DF6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AA6-258E-4180-A3C8-9DDBC109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98CB-1D47-4AD3-A320-3BA5079A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21B-BE13-4B4F-8063-5CE65990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754-504A-4194-A5C7-BE2AE1CF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9CE-F2BC-4F39-A029-47B40B43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FAD9-4DDA-4A3F-B199-D43DD26F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5F0-8465-4CAA-B8FB-2F7E0C9A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4845-FE66-4C26-9DC7-0C1ED6F5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A671-AFF5-4040-A462-58EAA2B97E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551400" y="91440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</a:rPr>
              <a:t>水仙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10800" y="6019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09680" y="380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128824494839687500"/>
          <p:cNvPicPr/>
          <p:nvPr/>
        </p:nvPicPr>
        <p:blipFill>
          <a:blip r:embed="rId1"/>
          <a:stretch/>
        </p:blipFill>
        <p:spPr>
          <a:xfrm>
            <a:off x="2263680" y="609480"/>
            <a:ext cx="4616640" cy="54104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4253040" y="61722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水仙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4024440" y="990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水仙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47640" y="2422440"/>
            <a:ext cx="7848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我的桌子上摆着一盆盛开的水仙花，那淡雅的花朵，</a:t>
            </a:r>
            <a:r>
              <a:rPr b="0" lang="zh-CN" sz="2500" spc="-1" strike="noStrike">
                <a:solidFill>
                  <a:srgbClr val="ff0000"/>
                </a:solidFill>
                <a:latin typeface="楷体_GB2312"/>
              </a:rPr>
              <a:t>翡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ěi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翠般的绿叶，使人一看就生喜爱之情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水仙花并不需要精心照料，只要一点点清水，就能够生长。从那葱头似的根部抽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chōu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出来的片片绿叶，翠色欲滴，直直地向上伸展。就在这片片绿叶中，盛开着朵朵水仙花。它们没有</a:t>
            </a:r>
            <a:r>
              <a:rPr b="0" lang="zh-CN" sz="2500" spc="-1" strike="noStrike">
                <a:solidFill>
                  <a:srgbClr val="ff0000"/>
                </a:solidFill>
                <a:latin typeface="楷体_GB2312"/>
              </a:rPr>
              <a:t>绚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xuàn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丽的色彩，然而这白色的花，却像雪一样圣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shènɡ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洁，像云一样端庄，像玉兰一样高雅。它那细嫩的花朵散发出淡淡的清香，</a:t>
            </a:r>
            <a:r>
              <a:rPr b="0" lang="zh-CN" sz="2500" spc="-1" strike="noStrike">
                <a:solidFill>
                  <a:srgbClr val="ff0000"/>
                </a:solidFill>
                <a:latin typeface="楷体_GB2312"/>
              </a:rPr>
              <a:t>沁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qìn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人</a:t>
            </a:r>
            <a:r>
              <a:rPr b="0" lang="zh-CN" sz="2500" spc="-1" strike="noStrike">
                <a:solidFill>
                  <a:srgbClr val="ff0000"/>
                </a:solidFill>
                <a:latin typeface="楷体_GB2312"/>
              </a:rPr>
              <a:t>肺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èi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0" lang="zh-CN" sz="2500" spc="-1" strike="noStrike">
                <a:solidFill>
                  <a:srgbClr val="ff0000"/>
                </a:solidFill>
                <a:latin typeface="楷体_GB2312"/>
              </a:rPr>
              <a:t>腑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ǔ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647640" y="2041560"/>
            <a:ext cx="784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水仙是迎春的花。立春过去了，人们冬服未脱，它却静静地开放，告诉我们，春姑娘已回到人间。待到春意盎然时，它却悄［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qiǎo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］然离去，只是默默地把春的消息报告给人们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4024440" y="990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水仙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47640" y="310824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　　我的桌子上摆着一盆盛开的水仙花，那淡雅的花朵，翡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fěi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）翠般的绿叶，使人一看就生喜爱之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5562720" y="304920"/>
            <a:ext cx="3047760" cy="1447560"/>
          </a:xfrm>
          <a:prstGeom prst="cloudCallout">
            <a:avLst>
              <a:gd name="adj1" fmla="val 53231"/>
              <a:gd name="adj2" fmla="val 85305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说说水仙花的样子和喜爱水仙花的原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8001000" y="358128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762120" y="4114800"/>
            <a:ext cx="5410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647640" y="2438280"/>
            <a:ext cx="7848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我的桌子上摆着一盆盛开的水仙花，那淡雅的花朵，翡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ěi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翠般的绿叶，使人一看就生喜爱之情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水仙花并不需要精心照料，只要一点点清水，就能够生长。从那葱头似的根部抽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chōu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出来的片片绿叶，翠色欲滴，直直地向上伸展。就在这片片绿叶中，盛开着朵朵水仙花。它们没有绚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xuàn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丽的色彩，然而这白色的花，却像雪一样圣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shènɡ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洁，像云一样端庄，像玉兰一样高雅。它那细嫩的花朵散发出淡淡的清香，沁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qìn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人肺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èi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腑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ǔ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2666880" y="4038480"/>
            <a:ext cx="15242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762120" y="441972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7772400" y="403848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3276720" y="519732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6934320" y="5181480"/>
            <a:ext cx="5331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1447920" y="518148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1752480" y="556272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480960" y="304812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水仙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752480" y="1905120"/>
            <a:ext cx="152640" cy="2895480"/>
          </a:xfrm>
          <a:custGeom>
            <a:avLst/>
            <a:gdLst>
              <a:gd name="textAreaLeft" fmla="*/ 97560 w 152640"/>
              <a:gd name="textAreaRight" fmla="*/ 153000 w 1526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830320" y="1989000"/>
            <a:ext cx="208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根：葱头似的（形美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830320" y="3119400"/>
            <a:ext cx="208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叶：翠色欲滴（色美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3084480" y="4278240"/>
            <a:ext cx="2847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花：像雪、像云、像玉（姿美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47640" y="2422440"/>
            <a:ext cx="7848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我的桌子上摆着一盆盛开的水仙花，那淡雅的花朵，翡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ěi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翠般的绿叶，使人一看就生喜爱之情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水仙花并不需要精心照料，只要一点点清水，就能够生长。从那葱头似的根部抽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chōu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出来的片片绿叶，翠色欲滴，直直地向上伸展。就在这片片绿叶中，盛开着朵朵水仙花。它们没有绚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xuàn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丽的色彩，然而这白色的花，却像雪一样圣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shènɡ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洁，像云一样端庄，像玉兰一样高雅。它那细嫩的花朵散发出淡淡的清香，沁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qìn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人肺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èi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腑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ǔ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2743200" y="457200"/>
            <a:ext cx="3352680" cy="1600200"/>
          </a:xfrm>
          <a:prstGeom prst="cloudCallout">
            <a:avLst>
              <a:gd name="adj1" fmla="val -74337"/>
              <a:gd name="adj2" fmla="val 66069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水仙花的确很美，它美在哪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762120" y="556272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3352680" y="556272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4648320" y="5181480"/>
            <a:ext cx="19047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2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480960" y="304812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水仙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1752480" y="1905120"/>
            <a:ext cx="152640" cy="2895480"/>
          </a:xfrm>
          <a:custGeom>
            <a:avLst/>
            <a:gdLst>
              <a:gd name="textAreaLeft" fmla="*/ 97560 w 152640"/>
              <a:gd name="textAreaRight" fmla="*/ 153000 w 1526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830320" y="1989000"/>
            <a:ext cx="208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根：葱头似的（形美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830320" y="3119400"/>
            <a:ext cx="208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叶：翠色欲滴（色美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084480" y="4278240"/>
            <a:ext cx="2847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花：像雪、像云、像玉（姿美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6959520" y="1981080"/>
            <a:ext cx="228600" cy="2743200"/>
          </a:xfrm>
          <a:custGeom>
            <a:avLst/>
            <a:gdLst>
              <a:gd name="textAreaLeft" fmla="*/ 0 w 228600"/>
              <a:gd name="textAreaRight" fmla="*/ 8244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7672320" y="237024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圣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7672320" y="311940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端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672320" y="389412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高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647640" y="2041560"/>
            <a:ext cx="784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水仙是迎春的花。立春过去了，人们冬服未脱，它却静静地开放，告诉我们，春姑娘已回到人间。待到春意盎然时，它却悄［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qiǎo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］然离去，只是默默地把春的消息报告给人们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2286000" y="251460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"/>
          <p:cNvSpPr/>
          <p:nvPr/>
        </p:nvSpPr>
        <p:spPr>
          <a:xfrm>
            <a:off x="2171880" y="4513320"/>
            <a:ext cx="68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480960" y="304812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水仙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1752480" y="1905120"/>
            <a:ext cx="152640" cy="2895480"/>
          </a:xfrm>
          <a:custGeom>
            <a:avLst/>
            <a:gdLst>
              <a:gd name="textAreaLeft" fmla="*/ 97560 w 152640"/>
              <a:gd name="textAreaRight" fmla="*/ 153000 w 1526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30320" y="1989000"/>
            <a:ext cx="208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根：葱头似的（形美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830320" y="3119400"/>
            <a:ext cx="208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叶：翠色欲滴（色美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055680" y="4278240"/>
            <a:ext cx="303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花：像雪、像云、像玉（姿美）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6959520" y="1981080"/>
            <a:ext cx="228600" cy="2743200"/>
          </a:xfrm>
          <a:custGeom>
            <a:avLst/>
            <a:gdLst>
              <a:gd name="textAreaLeft" fmla="*/ 0 w 228600"/>
              <a:gd name="textAreaRight" fmla="*/ 8244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7672320" y="237024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圣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7672320" y="311940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端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7672320" y="389412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高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407880" y="371808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迎春的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838080" y="0"/>
            <a:ext cx="4419720" cy="2057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水仙花那么圣洁，那么端庄，那么高雅，面对它，你最想说什么？做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99600" y="380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001_调整大小"/>
          <p:cNvPicPr/>
          <p:nvPr/>
        </p:nvPicPr>
        <p:blipFill>
          <a:blip r:embed="rId1"/>
          <a:stretch/>
        </p:blipFill>
        <p:spPr>
          <a:xfrm>
            <a:off x="1193760" y="1041480"/>
            <a:ext cx="6756480" cy="4775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4363920" y="6172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野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tianzigez"/>
          <p:cNvPicPr/>
          <p:nvPr/>
        </p:nvPicPr>
        <p:blipFill>
          <a:blip r:embed="rId2"/>
          <a:stretch/>
        </p:blipFill>
        <p:spPr>
          <a:xfrm>
            <a:off x="533520" y="1447920"/>
            <a:ext cx="1236600" cy="1236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755640" y="13716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Verdana"/>
              </a:rPr>
              <a:t>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838080" y="762120"/>
            <a:ext cx="68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j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tianzigez"/>
          <p:cNvPicPr/>
          <p:nvPr/>
        </p:nvPicPr>
        <p:blipFill>
          <a:blip r:embed="rId3"/>
          <a:stretch/>
        </p:blipFill>
        <p:spPr>
          <a:xfrm>
            <a:off x="2209680" y="1447920"/>
            <a:ext cx="1236960" cy="1236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2432160" y="13716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Verdana"/>
              </a:rPr>
              <a:t>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2209680" y="7621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í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n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tianzigez"/>
          <p:cNvPicPr/>
          <p:nvPr/>
        </p:nvPicPr>
        <p:blipFill>
          <a:blip r:embed="rId4"/>
          <a:stretch/>
        </p:blipFill>
        <p:spPr>
          <a:xfrm>
            <a:off x="3954600" y="1447920"/>
            <a:ext cx="1236600" cy="1236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1"/>
          <p:cNvSpPr/>
          <p:nvPr/>
        </p:nvSpPr>
        <p:spPr>
          <a:xfrm>
            <a:off x="4176720" y="13716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Verdana"/>
              </a:rPr>
              <a:t>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4114800" y="762120"/>
            <a:ext cx="1066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ān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3" descr="tianzigez"/>
          <p:cNvPicPr/>
          <p:nvPr/>
        </p:nvPicPr>
        <p:blipFill>
          <a:blip r:embed="rId5"/>
          <a:stretch/>
        </p:blipFill>
        <p:spPr>
          <a:xfrm>
            <a:off x="5715000" y="1447920"/>
            <a:ext cx="1236600" cy="1236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4"/>
          <p:cNvSpPr/>
          <p:nvPr/>
        </p:nvSpPr>
        <p:spPr>
          <a:xfrm>
            <a:off x="5937480" y="13716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Verdana"/>
              </a:rPr>
              <a:t>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715000" y="7621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ē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n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tianzigez"/>
          <p:cNvPicPr/>
          <p:nvPr/>
        </p:nvPicPr>
        <p:blipFill>
          <a:blip r:embed="rId6"/>
          <a:stretch/>
        </p:blipFill>
        <p:spPr>
          <a:xfrm>
            <a:off x="7373880" y="1447920"/>
            <a:ext cx="1236600" cy="1236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7"/>
          <p:cNvSpPr/>
          <p:nvPr/>
        </p:nvSpPr>
        <p:spPr>
          <a:xfrm>
            <a:off x="7596360" y="13716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Verdana"/>
              </a:rPr>
              <a:t>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7391520" y="762120"/>
            <a:ext cx="121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ti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ā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9" descr="tianzigez"/>
          <p:cNvPicPr/>
          <p:nvPr/>
        </p:nvPicPr>
        <p:blipFill>
          <a:blip r:embed="rId7"/>
          <a:stretch/>
        </p:blipFill>
        <p:spPr>
          <a:xfrm>
            <a:off x="533520" y="4419720"/>
            <a:ext cx="1236600" cy="12366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0"/>
          <p:cNvSpPr/>
          <p:nvPr/>
        </p:nvSpPr>
        <p:spPr>
          <a:xfrm>
            <a:off x="755640" y="43434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Verdana"/>
              </a:rPr>
              <a:t>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533520" y="3733920"/>
            <a:ext cx="121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ě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tianzigez"/>
          <p:cNvPicPr/>
          <p:nvPr/>
        </p:nvPicPr>
        <p:blipFill>
          <a:blip r:embed="rId8"/>
          <a:stretch/>
        </p:blipFill>
        <p:spPr>
          <a:xfrm>
            <a:off x="2209680" y="4419720"/>
            <a:ext cx="1236960" cy="1236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3"/>
          <p:cNvSpPr/>
          <p:nvPr/>
        </p:nvSpPr>
        <p:spPr>
          <a:xfrm>
            <a:off x="2432160" y="43434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Verdana"/>
              </a:rPr>
              <a:t>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4"/>
          <p:cNvSpPr/>
          <p:nvPr/>
        </p:nvSpPr>
        <p:spPr>
          <a:xfrm>
            <a:off x="2209680" y="37339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xuà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5" descr="tianzigez"/>
          <p:cNvPicPr/>
          <p:nvPr/>
        </p:nvPicPr>
        <p:blipFill>
          <a:blip r:embed="rId9"/>
          <a:stretch/>
        </p:blipFill>
        <p:spPr>
          <a:xfrm>
            <a:off x="3954600" y="4419720"/>
            <a:ext cx="1236600" cy="12366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6"/>
          <p:cNvSpPr/>
          <p:nvPr/>
        </p:nvSpPr>
        <p:spPr>
          <a:xfrm>
            <a:off x="4176720" y="43434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Verdana"/>
              </a:rPr>
              <a:t>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3962520" y="3733920"/>
            <a:ext cx="121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qì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8" descr="tianzigez"/>
          <p:cNvPicPr/>
          <p:nvPr/>
        </p:nvPicPr>
        <p:blipFill>
          <a:blip r:embed="rId10"/>
          <a:stretch/>
        </p:blipFill>
        <p:spPr>
          <a:xfrm>
            <a:off x="5715000" y="4419720"/>
            <a:ext cx="1236600" cy="1236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9"/>
          <p:cNvSpPr/>
          <p:nvPr/>
        </p:nvSpPr>
        <p:spPr>
          <a:xfrm>
            <a:off x="5937480" y="43434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Verdana"/>
              </a:rPr>
              <a:t>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0"/>
          <p:cNvSpPr/>
          <p:nvPr/>
        </p:nvSpPr>
        <p:spPr>
          <a:xfrm>
            <a:off x="5715000" y="37339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fè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1" descr="tianzigez"/>
          <p:cNvPicPr/>
          <p:nvPr/>
        </p:nvPicPr>
        <p:blipFill>
          <a:blip r:embed="rId11"/>
          <a:stretch/>
        </p:blipFill>
        <p:spPr>
          <a:xfrm>
            <a:off x="7373880" y="4419720"/>
            <a:ext cx="1236600" cy="12366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2"/>
          <p:cNvSpPr/>
          <p:nvPr/>
        </p:nvSpPr>
        <p:spPr>
          <a:xfrm>
            <a:off x="7596360" y="43434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Verdana"/>
              </a:rPr>
              <a:t>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3"/>
          <p:cNvSpPr/>
          <p:nvPr/>
        </p:nvSpPr>
        <p:spPr>
          <a:xfrm>
            <a:off x="7391520" y="3733920"/>
            <a:ext cx="121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ǔ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ShockwaveFlash1" descr=""/>
          <p:cNvPicPr/>
          <p:nvPr/>
        </p:nvPicPr>
        <p:blipFill>
          <a:blip r:embed="rId12"/>
          <a:stretch/>
        </p:blipFill>
        <p:spPr>
          <a:xfrm>
            <a:off x="914400" y="2819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71" name="ShockwaveFlash2" descr=""/>
          <p:cNvPicPr/>
          <p:nvPr/>
        </p:nvPicPr>
        <p:blipFill>
          <a:blip r:embed="rId13"/>
          <a:stretch/>
        </p:blipFill>
        <p:spPr>
          <a:xfrm>
            <a:off x="2514600" y="2819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72" name="ShockwaveFlash3" descr=""/>
          <p:cNvPicPr/>
          <p:nvPr/>
        </p:nvPicPr>
        <p:blipFill>
          <a:blip r:embed="rId14"/>
          <a:stretch/>
        </p:blipFill>
        <p:spPr>
          <a:xfrm>
            <a:off x="4267080" y="2819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73" name="ShockwaveFlash4" descr=""/>
          <p:cNvPicPr/>
          <p:nvPr/>
        </p:nvPicPr>
        <p:blipFill>
          <a:blip r:embed="rId15"/>
          <a:stretch/>
        </p:blipFill>
        <p:spPr>
          <a:xfrm>
            <a:off x="6095880" y="2819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74" name="ShockwaveFlash5" descr=""/>
          <p:cNvPicPr/>
          <p:nvPr/>
        </p:nvPicPr>
        <p:blipFill>
          <a:blip r:embed="rId16"/>
          <a:stretch/>
        </p:blipFill>
        <p:spPr>
          <a:xfrm>
            <a:off x="7772400" y="2819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75" name="ShockwaveFlash6" descr=""/>
          <p:cNvPicPr/>
          <p:nvPr/>
        </p:nvPicPr>
        <p:blipFill>
          <a:blip r:embed="rId17"/>
          <a:stretch/>
        </p:blipFill>
        <p:spPr>
          <a:xfrm>
            <a:off x="914400" y="57150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76" name="ShockwaveFlash7" descr=""/>
          <p:cNvPicPr/>
          <p:nvPr/>
        </p:nvPicPr>
        <p:blipFill>
          <a:blip r:embed="rId18"/>
          <a:stretch/>
        </p:blipFill>
        <p:spPr>
          <a:xfrm>
            <a:off x="2514600" y="57150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ShockwaveFlash8" descr=""/>
          <p:cNvPicPr/>
          <p:nvPr/>
        </p:nvPicPr>
        <p:blipFill>
          <a:blip r:embed="rId19"/>
          <a:stretch/>
        </p:blipFill>
        <p:spPr>
          <a:xfrm>
            <a:off x="4267080" y="57150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78" name="ShockwaveFlash9" descr=""/>
          <p:cNvPicPr/>
          <p:nvPr/>
        </p:nvPicPr>
        <p:blipFill>
          <a:blip r:embed="rId20"/>
          <a:stretch/>
        </p:blipFill>
        <p:spPr>
          <a:xfrm>
            <a:off x="6095880" y="57150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79" name="ShockwaveFlash10" descr=""/>
          <p:cNvPicPr/>
          <p:nvPr/>
        </p:nvPicPr>
        <p:blipFill>
          <a:blip r:embed="rId21"/>
          <a:stretch/>
        </p:blipFill>
        <p:spPr>
          <a:xfrm>
            <a:off x="7772400" y="571500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5EE9-B353-4FB9-B84B-EBB3DCFB504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922920" y="304920"/>
            <a:ext cx="12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野　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47640" y="1447920"/>
            <a:ext cx="784872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四月来了，接着五月也来了，这是繁花似锦的时节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这时节，溪岸旁、草地上、篱笆边、石缝［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ènɡ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］里，野</a:t>
            </a:r>
            <a:r>
              <a:rPr b="0" lang="zh-CN" sz="2500" spc="-1" strike="noStrike" u="sng">
                <a:solidFill>
                  <a:srgbClr val="009999"/>
                </a:solidFill>
                <a:uFillTx/>
                <a:latin typeface="楷体_GB2312"/>
                <a:hlinkClick r:id="rId1" action="ppaction://hlinksldjump"/>
              </a:rPr>
              <a:t>菊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jú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和许多不知名的小花，都灿烂地开放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它们开放黄色的花，白色的花；它们开放蓝色的花，紫色的花。它们的花，有的像小酒杯，有的像小</a:t>
            </a:r>
            <a:r>
              <a:rPr b="0" lang="zh-CN" sz="2500" spc="-1" strike="noStrike" u="sng">
                <a:solidFill>
                  <a:srgbClr val="009999"/>
                </a:solidFill>
                <a:uFillTx/>
                <a:latin typeface="楷体_GB2312"/>
                <a:hlinkClick r:id="rId2" action="ppaction://hlinksldjump"/>
              </a:rPr>
              <a:t>铃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línɡ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0" lang="zh-CN" sz="2500" spc="-1" strike="noStrike" u="sng">
                <a:solidFill>
                  <a:srgbClr val="009999"/>
                </a:solidFill>
                <a:uFillTx/>
                <a:latin typeface="楷体_GB2312"/>
                <a:hlinkClick r:id="rId3" action="ppaction://hlinksldjump"/>
              </a:rPr>
              <a:t>铛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dānɡ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；它们的花，在草丛里谈心；它们的花，在和蝴蝶游戏；它们的花，结［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jiē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］成种子，有的落在泥土中，有的在南风中飞扬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它们真心真意地开放花朵，在不很显眼的地方，给大自然</a:t>
            </a:r>
            <a:r>
              <a:rPr b="0" lang="zh-CN" sz="2500" spc="-1" strike="noStrike" u="sng">
                <a:solidFill>
                  <a:srgbClr val="009999"/>
                </a:solidFill>
                <a:uFillTx/>
                <a:latin typeface="楷体_GB2312"/>
                <a:hlinkClick r:id="rId4" action="ppaction://hlinksldjump"/>
              </a:rPr>
              <a:t>增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zēnɡ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0" lang="zh-CN" sz="2500" spc="-1" strike="noStrike" u="sng">
                <a:solidFill>
                  <a:srgbClr val="009999"/>
                </a:solidFill>
                <a:uFillTx/>
                <a:latin typeface="楷体_GB2312"/>
                <a:hlinkClick r:id="rId5" action="ppaction://hlinksldjump"/>
              </a:rPr>
              <a:t>添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tiān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了美丽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922920" y="304920"/>
            <a:ext cx="12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野　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647640" y="23464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　　四月来了，接着五月也来了，这是繁花似锦的时节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　　这时节，溪岸旁、草地上、篱笆边、石缝［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fènɡ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］里，野菊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jú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）和许多不知名的小花，都灿烂地开放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457200" y="304920"/>
            <a:ext cx="3809880" cy="1981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野花盛开在什么时间？野花开在什么地方？这些野花开得怎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7238880" y="289548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58640" y="3124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繁花似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1"/>
          <p:cNvSpPr/>
          <p:nvPr/>
        </p:nvSpPr>
        <p:spPr>
          <a:xfrm>
            <a:off x="1752480" y="3581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47640" y="1523880"/>
            <a:ext cx="7848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　　它们开放黄色的花，白色的花；它们开放蓝色的花，紫色的花。它们的花，有的像小酒杯，有的像小铃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línɡ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）铛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ānɡ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）；它们的花，在草丛里谈心；它们的花，在和蝴蝶游戏；它们的花，结［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jiē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］成种子，有的落在泥土中，有的在南风中飞扬。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3124080" y="20574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4952880" y="20574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762120" y="251460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7238880" y="2514600"/>
            <a:ext cx="10670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762120" y="2971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2286000" y="2971800"/>
            <a:ext cx="4419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58640" y="3124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繁花似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941560" y="2308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颜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941560" y="38322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形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106960" y="2308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五颜六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106960" y="3832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各种各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2057400" y="266688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781200" y="2193840"/>
            <a:ext cx="7581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　　它们真心真意地开放花朵，在不很显眼的地方，给大自然增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zēnɡ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）添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tiān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）了美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3962520" y="320040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838080" y="365760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58640" y="3124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繁花似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2941560" y="2308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颜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41560" y="38322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形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106960" y="2308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五颜六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106960" y="3832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各种各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589880" y="31845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增添美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2057400" y="266688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>
            <a:off x="6781680" y="2666880"/>
            <a:ext cx="152640" cy="152424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838080" y="380880"/>
            <a:ext cx="3886200" cy="1219320"/>
          </a:xfrm>
          <a:prstGeom prst="cloudCallout">
            <a:avLst>
              <a:gd name="adj1" fmla="val -40685"/>
              <a:gd name="adj2" fmla="val 133722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学了课文，你有什么感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14:02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5:44Z</dcterms:modified>
  <cp:revision>11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