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5E75-30CF-4A9F-8233-F44ED2163A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7094-2072-41D4-88DC-3A18CA9792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58C-B635-4D03-AC0C-6489AAE9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012-FF1B-49FA-8EA1-58BC9009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953-7A1F-496D-B1D4-29EC17CD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ACB-BF6B-4572-B676-BEB7C853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FB6-510C-4411-AA7F-B961CD22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A48-369A-4894-8B61-74DBBF93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5F9-FB93-4B38-88F5-90F9EEDB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720-6780-495C-9308-31EFD76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005-9A8C-4FCB-A5AC-97AE0409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18D-DA66-4C3B-BB25-E3982F9A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33A-B01A-48F3-AD6F-DF2EB0D2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AFF-F359-4B01-85B3-BE5C8B8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8187-D35E-4EF9-A1CB-8A130BAF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765520" y="244800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华文隶书"/>
                <a:ea typeface="华文隶书"/>
              </a:rPr>
              <a:t>水仙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Cj03941900000[1]"/>
          <p:cNvPicPr/>
          <p:nvPr/>
        </p:nvPicPr>
        <p:blipFill>
          <a:blip r:embed="rId2"/>
          <a:stretch/>
        </p:blipFill>
        <p:spPr>
          <a:xfrm>
            <a:off x="0" y="2448000"/>
            <a:ext cx="2597040" cy="34290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2442960" y="51544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晚   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                       </a:t>
            </a:r>
            <a:r>
              <a:rPr b="1" lang="zh-CN" sz="2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作者</a:t>
            </a:r>
            <a:r>
              <a:rPr b="1" lang="en-US" sz="2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 </a:t>
            </a:r>
            <a:r>
              <a:rPr b="1" lang="zh-CN" sz="2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韩愈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草木知春不久归，百般红紫斗芳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杨花榆荚无才思，惟解漫天作雪飞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360" y="980640"/>
            <a:ext cx="628488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6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春    晓 </a:t>
            </a:r>
            <a:br>
              <a:rPr sz="4000"/>
            </a:b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孟浩然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春眠不觉晓， 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处处闻啼鸟。 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夜来风雨声， </a:t>
            </a:r>
            <a:br>
              <a:rPr sz="4000"/>
            </a:b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花落知多少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6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咏    柳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贺知章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4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碧玉妆成一树高， </a:t>
            </a:r>
            <a:br>
              <a:rPr sz="4500"/>
            </a:br>
            <a:r>
              <a:rPr b="1" lang="zh-CN" sz="4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万条垂下绿丝绦。 </a:t>
            </a:r>
            <a:br>
              <a:rPr sz="4500"/>
            </a:br>
            <a:r>
              <a:rPr b="1" lang="zh-CN" sz="4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知细叶谁裁出？</a:t>
            </a:r>
            <a:br>
              <a:rPr sz="4500"/>
            </a:br>
            <a:r>
              <a:rPr b="1" lang="zh-CN" sz="45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二月春风似剪刀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04920" y="38098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水仙花，又名金银台、玉玲珑、雅蒜等，原产于我国浙江福建一带，现已遍及全国和世界各地。水仙花朵秀丽，叶片青翠，花香扑鼻，清秀典雅，是世界上著名的花卉之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水仙花1"/>
          <p:cNvPicPr/>
          <p:nvPr/>
        </p:nvPicPr>
        <p:blipFill>
          <a:blip r:embed="rId1"/>
          <a:stretch/>
        </p:blipFill>
        <p:spPr>
          <a:xfrm>
            <a:off x="1908000" y="549360"/>
            <a:ext cx="4911840" cy="318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水仙花2"/>
          <p:cNvPicPr/>
          <p:nvPr/>
        </p:nvPicPr>
        <p:blipFill>
          <a:blip r:embed="rId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692360" y="4292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作者是怎么样来描写水仙花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835280" y="3284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920" y="162864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为什么作者爱水仙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认真观看水仙花的图片，从直观上感受，认真体会作者的对水仙花的情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26920" y="4046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790c4bf6021fac39720eec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476360" y="155736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它们没有绚丽的色彩，然而这白色的花，却像雪一样圣洁，像云一样端庄，像玉兰一样高雅。它那细嫩的花朵散发出淡淡的清香，沁人肺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"/>
          <p:cNvSpPr/>
          <p:nvPr/>
        </p:nvSpPr>
        <p:spPr>
          <a:xfrm>
            <a:off x="1265400" y="4822920"/>
            <a:ext cx="62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7632720" cy="205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88ae883022f57730eac4af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68360" y="227664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cc33"/>
                </a:solidFill>
                <a:latin typeface="Arial"/>
                <a:ea typeface="楷体_GB2312"/>
              </a:rPr>
              <a:t>野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900000" y="2565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选择你最喜欢的花介绍给大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EC3F-CDF0-457B-9108-7514C6C71F1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403280" y="170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野花盛开的季节是在什么时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403280" y="2637000"/>
            <a:ext cx="7058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文中所写的野花出现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这些花开得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476360" y="4365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谁了解菊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258920" y="141300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它们开放黄色的花，白色的花；它们开放蓝色的花，紫色的花，它们的花，有的像小酒杯，有的像小铃铛；它们的花，在草丛里谈心；它们的花，在和蝴蝶游戏；它们的花，结成种子，有的落在泥土中，有的在南风中飞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124000" y="242100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它们真心真意地开放花朵，在不显眼的地方，给大自然增添了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aa251d4ff3daa12aafc3abec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193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815560" y="2251080"/>
            <a:ext cx="383832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cc00"/>
                </a:solidFill>
                <a:latin typeface="Arial"/>
                <a:ea typeface="黑体"/>
              </a:rPr>
              <a:t>春   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2556000" y="2193840"/>
            <a:ext cx="5616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梅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水仙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迎春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报春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瑞香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山茶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白玉兰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紫玉兰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琼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君子兰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海棠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牡丹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芍药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丁香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杜鹃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西洋杜鹃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樱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含笑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玫瑰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紫荆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棣棠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锦带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连翘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云南黄馨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金雀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仙客来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蝴蝶兰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石斛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风信子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郁金香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鸢尾花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马蹄莲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金盏菊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文殊兰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百枝莲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692360" y="1052640"/>
            <a:ext cx="2943000" cy="70344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楷体_GB2312"/>
              </a:rPr>
              <a:t>春天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楷体_GB2312"/>
              </a:rPr>
              <a:t>春天的农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332000" y="1341360"/>
          <a:ext cx="6840360" cy="47689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0960"/>
              </a:tblGrid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一年之计在于春，一日之计在于晨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南园桃李花落尽，春风寂寞摇空枝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天街小雨润如酥，草色遥看近却无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芳树无人花自落，春山一路鸟空啼 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二月风光浓似酒，小楼新湿青红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春雨贵如油 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春天孩儿面，一日三变脸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春无三日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立春打雷，十处猪栏九处空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立春赶春气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早春晚播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ff"/>
                          </a:solidFill>
                          <a:latin typeface="楷体_GB2312"/>
                          <a:ea typeface="楷体_GB2312"/>
                        </a:rPr>
                        <a:t>不知细叶谁裁出，二月春风似剪刀 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描写春天的成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6"/>
          <p:cNvSpPr/>
          <p:nvPr/>
        </p:nvSpPr>
        <p:spPr>
          <a:xfrm>
            <a:off x="2050200" y="1413000"/>
            <a:ext cx="55450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光明媚   春暖花开   春山如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光灿烂   春风和气   春晖寸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回大地   春色撩人   春色满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意盎然   春意阑珊   花红柳绿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鸟语花香   枯木逢春   柳暗花明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满园春色   雨后春笋   百花齐放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1:55:44Z</dcterms:created>
  <dc:creator>第一PPT模板网-WWW.1PPT.COM</dc:creator>
  <dc:description>第一PPT模板网-WWW.1PPT.COM
第一PPT模板网-WWW.1PPT.COM
</dc:description>
  <cp:keywords>第一PPT模板网-WWW.1PPT.COM</cp:keywords>
  <dc:language>en-US</dc:language>
  <cp:lastModifiedBy>xinxing</cp:lastModifiedBy>
  <dcterms:modified xsi:type="dcterms:W3CDTF">2017-04-17T00:45:3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