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3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32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129D-A9BC-4918-A502-77D8554F1DF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84BC-CB8B-4379-AFA2-881FACF2E2F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AF85-D8DB-4BE7-8C40-DCBA97BD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E5D-7C3C-477A-A096-C8EDD683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8020-BF0E-4FD8-A69D-DA5604C8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A614-1231-4769-96B6-B9CD30D7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AC8-E467-41CE-AB3F-64D7DFBB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33AA-9925-419A-AFAF-0CAE08CB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A0F1-F553-4F64-AC2A-8640346B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3487-5978-4C9F-B0E8-0D9A1A7F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7EA-7FB6-4064-809D-02322767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C82E-FC35-45E5-9929-0198DB4D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80C4-E02E-4A8E-ACCF-C1A99693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52A-9EB9-4DE1-9E53-4B09FD4F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814D-6590-435F-B6B7-155B5E993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椭圆 17"/>
          <p:cNvSpPr/>
          <p:nvPr/>
        </p:nvSpPr>
        <p:spPr>
          <a:xfrm>
            <a:off x="1314360" y="2217600"/>
            <a:ext cx="2178000" cy="2148120"/>
          </a:xfrm>
          <a:prstGeom prst="ellipse">
            <a:avLst/>
          </a:prstGeom>
          <a:solidFill>
            <a:srgbClr val="d9d9d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2"/>
          <p:cNvSpPr/>
          <p:nvPr/>
        </p:nvSpPr>
        <p:spPr>
          <a:xfrm>
            <a:off x="-384120" y="5516640"/>
            <a:ext cx="1427040" cy="1441440"/>
          </a:xfrm>
          <a:prstGeom prst="ellipse">
            <a:avLst/>
          </a:prstGeom>
          <a:solidFill>
            <a:srgbClr val="d9d9d9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067280" y="1484280"/>
            <a:ext cx="462276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行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5" descr="H:\Files\4cbb49c3e377d8365aa20a00\abstract-design-with-beautiful-flowers2.png"/>
          <p:cNvPicPr/>
          <p:nvPr/>
        </p:nvPicPr>
        <p:blipFill>
          <a:blip r:embed="rId1"/>
          <a:stretch/>
        </p:blipFill>
        <p:spPr>
          <a:xfrm>
            <a:off x="6378480" y="3627360"/>
            <a:ext cx="2721240" cy="3213000"/>
          </a:xfrm>
          <a:prstGeom prst="rect">
            <a:avLst/>
          </a:prstGeom>
          <a:ln w="0">
            <a:noFill/>
          </a:ln>
        </p:spPr>
      </p:pic>
      <p:sp>
        <p:nvSpPr>
          <p:cNvPr id="90" name="椭圆 16"/>
          <p:cNvSpPr/>
          <p:nvPr/>
        </p:nvSpPr>
        <p:spPr>
          <a:xfrm>
            <a:off x="4718160" y="3838680"/>
            <a:ext cx="1295280" cy="1319040"/>
          </a:xfrm>
          <a:prstGeom prst="ellipse">
            <a:avLst/>
          </a:prstGeom>
          <a:solidFill>
            <a:srgbClr val="d9d9d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7"/>
          <p:cNvSpPr/>
          <p:nvPr/>
        </p:nvSpPr>
        <p:spPr>
          <a:xfrm>
            <a:off x="1972800" y="57675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4" descr="枫林晚景"/>
          <p:cNvPicPr/>
          <p:nvPr/>
        </p:nvPicPr>
        <p:blipFill>
          <a:blip r:embed="rId2"/>
          <a:stretch/>
        </p:blipFill>
        <p:spPr>
          <a:xfrm>
            <a:off x="395280" y="322200"/>
            <a:ext cx="3567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3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3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1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A7E5-FA10-41D8-86E7-1AE8F6DCC1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3_101213104403_1"/>
          <p:cNvPicPr/>
          <p:nvPr/>
        </p:nvPicPr>
        <p:blipFill>
          <a:blip r:embed="rId1"/>
          <a:stretch/>
        </p:blipFill>
        <p:spPr>
          <a:xfrm>
            <a:off x="1476360" y="0"/>
            <a:ext cx="6215040" cy="681372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4"/>
          <p:cNvGrpSpPr/>
          <p:nvPr/>
        </p:nvGrpSpPr>
        <p:grpSpPr>
          <a:xfrm>
            <a:off x="-345960" y="-689760"/>
            <a:ext cx="1967400" cy="1869840"/>
            <a:chOff x="-345960" y="-689760"/>
            <a:chExt cx="1967400" cy="1869840"/>
          </a:xfrm>
        </p:grpSpPr>
        <p:sp>
          <p:nvSpPr>
            <p:cNvPr id="95" name="Rectangle 4"/>
            <p:cNvSpPr/>
            <p:nvPr/>
          </p:nvSpPr>
          <p:spPr>
            <a:xfrm>
              <a:off x="-3960" y="9000"/>
              <a:ext cx="963720" cy="824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5"/>
            <p:cNvSpPr/>
            <p:nvPr/>
          </p:nvSpPr>
          <p:spPr>
            <a:xfrm rot="19526400">
              <a:off x="-146880" y="-349200"/>
              <a:ext cx="15699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</a:t>
              </a:r>
              <a:r>
                <a:rPr b="0" lang="zh-CN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YF\Desktop\教学视导\图片1.jpg图片1"/>
          <p:cNvPicPr/>
          <p:nvPr/>
        </p:nvPicPr>
        <p:blipFill>
          <a:blip r:embed="rId1"/>
          <a:stretch/>
        </p:blipFill>
        <p:spPr>
          <a:xfrm>
            <a:off x="0" y="1074600"/>
            <a:ext cx="3635280" cy="5307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85840" y="274320"/>
            <a:ext cx="52578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 行</a:t>
            </a:r>
            <a:br>
              <a:rPr sz="4800"/>
            </a:br>
            <a:r>
              <a:rPr b="0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杜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560" y="190476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yuǎ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shà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hán s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n s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jì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xi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远 上 寒 山 石 径 斜</a:t>
            </a: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bái yún s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chù 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ǒ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u rén j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白 云 生 处 有 人 家</a:t>
            </a: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tínɡ c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zuò ài f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nɡ lín w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停 车 坐 爱 枫 林 晚</a:t>
            </a: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sh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nɡ yè hónɡ yú èr  yuè h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霜 叶 红 于 二 月 花</a:t>
            </a: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 flipH="1">
            <a:off x="0" y="274680"/>
            <a:ext cx="4248000" cy="2232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d4d3c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楷体"/>
              </a:rPr>
              <a:t>边看图边读诗句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楷体"/>
              </a:rPr>
              <a:t>诗中提到了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楷体"/>
              </a:rPr>
              <a:t>哪些景物？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6"/>
          <p:cNvGrpSpPr/>
          <p:nvPr/>
        </p:nvGrpSpPr>
        <p:grpSpPr>
          <a:xfrm>
            <a:off x="-345960" y="-689760"/>
            <a:ext cx="1967400" cy="1869840"/>
            <a:chOff x="-345960" y="-689760"/>
            <a:chExt cx="1967400" cy="1869840"/>
          </a:xfrm>
        </p:grpSpPr>
        <p:sp>
          <p:nvSpPr>
            <p:cNvPr id="102" name="Rectangle 2"/>
            <p:cNvSpPr/>
            <p:nvPr/>
          </p:nvSpPr>
          <p:spPr>
            <a:xfrm>
              <a:off x="-3960" y="9000"/>
              <a:ext cx="963720" cy="82440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4"/>
            <p:cNvSpPr/>
            <p:nvPr/>
          </p:nvSpPr>
          <p:spPr>
            <a:xfrm rot="19526400">
              <a:off x="-146880" y="-349200"/>
              <a:ext cx="15699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</a:t>
              </a:r>
              <a:r>
                <a:rPr b="0" lang="zh-CN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C:\Users\YF\Desktop\教学视导\图片1.jpg图片1"/>
          <p:cNvPicPr/>
          <p:nvPr/>
        </p:nvPicPr>
        <p:blipFill>
          <a:blip r:embed="rId1"/>
          <a:stretch/>
        </p:blipFill>
        <p:spPr>
          <a:xfrm>
            <a:off x="1763640" y="0"/>
            <a:ext cx="5380200" cy="674208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4"/>
          <p:cNvGrpSpPr/>
          <p:nvPr/>
        </p:nvGrpSpPr>
        <p:grpSpPr>
          <a:xfrm>
            <a:off x="-345960" y="-689760"/>
            <a:ext cx="1967400" cy="1869840"/>
            <a:chOff x="-345960" y="-689760"/>
            <a:chExt cx="1967400" cy="1869840"/>
          </a:xfrm>
        </p:grpSpPr>
        <p:sp>
          <p:nvSpPr>
            <p:cNvPr id="106" name="Rectangle 4"/>
            <p:cNvSpPr/>
            <p:nvPr/>
          </p:nvSpPr>
          <p:spPr>
            <a:xfrm>
              <a:off x="-3960" y="9000"/>
              <a:ext cx="963720" cy="824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5"/>
            <p:cNvSpPr/>
            <p:nvPr/>
          </p:nvSpPr>
          <p:spPr>
            <a:xfrm rot="19526400">
              <a:off x="-146880" y="-349200"/>
              <a:ext cx="15699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</a:t>
              </a:r>
              <a:r>
                <a:rPr b="0" lang="zh-CN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23"/>
          <p:cNvSpPr/>
          <p:nvPr/>
        </p:nvSpPr>
        <p:spPr>
          <a:xfrm>
            <a:off x="1620720" y="22604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abstract-design-with-beautiful-flowers1"/>
          <p:cNvPicPr/>
          <p:nvPr/>
        </p:nvPicPr>
        <p:blipFill>
          <a:blip r:embed="rId1"/>
          <a:stretch/>
        </p:blipFill>
        <p:spPr>
          <a:xfrm>
            <a:off x="2597040" y="5573880"/>
            <a:ext cx="246240" cy="519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abstract-design-with-beautiful-flowers1"/>
          <p:cNvPicPr/>
          <p:nvPr/>
        </p:nvPicPr>
        <p:blipFill>
          <a:blip r:embed="rId2"/>
          <a:stretch/>
        </p:blipFill>
        <p:spPr>
          <a:xfrm>
            <a:off x="250920" y="4896000"/>
            <a:ext cx="406440" cy="404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abstract-design-with-beautiful-flowers1"/>
          <p:cNvPicPr/>
          <p:nvPr/>
        </p:nvPicPr>
        <p:blipFill>
          <a:blip r:embed="rId3"/>
          <a:stretch/>
        </p:blipFill>
        <p:spPr>
          <a:xfrm>
            <a:off x="1285920" y="5048280"/>
            <a:ext cx="406440" cy="404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abstract-design-with-beautiful-flowers1"/>
          <p:cNvPicPr/>
          <p:nvPr/>
        </p:nvPicPr>
        <p:blipFill>
          <a:blip r:embed="rId4"/>
          <a:stretch/>
        </p:blipFill>
        <p:spPr>
          <a:xfrm>
            <a:off x="2124000" y="5543640"/>
            <a:ext cx="405000" cy="4064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-345960" y="-689760"/>
            <a:ext cx="1967400" cy="1869840"/>
            <a:chOff x="-345960" y="-689760"/>
            <a:chExt cx="1967400" cy="1869840"/>
          </a:xfrm>
        </p:grpSpPr>
        <p:sp>
          <p:nvSpPr>
            <p:cNvPr id="115" name="Rectangle 2"/>
            <p:cNvSpPr/>
            <p:nvPr/>
          </p:nvSpPr>
          <p:spPr>
            <a:xfrm>
              <a:off x="-3960" y="9000"/>
              <a:ext cx="963720" cy="82440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4"/>
            <p:cNvSpPr/>
            <p:nvPr/>
          </p:nvSpPr>
          <p:spPr>
            <a:xfrm rot="19526400">
              <a:off x="-146880" y="-349200"/>
              <a:ext cx="15699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</a:t>
              </a:r>
              <a:r>
                <a:rPr b="0" lang="zh-CN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15"/>
          <p:cNvSpPr/>
          <p:nvPr/>
        </p:nvSpPr>
        <p:spPr>
          <a:xfrm>
            <a:off x="358920" y="4221000"/>
            <a:ext cx="684000" cy="71928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4"/>
          <p:cNvSpPr/>
          <p:nvPr/>
        </p:nvSpPr>
        <p:spPr>
          <a:xfrm>
            <a:off x="2700360" y="3789360"/>
            <a:ext cx="1942920" cy="230184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2"/>
          <p:cNvSpPr/>
          <p:nvPr/>
        </p:nvSpPr>
        <p:spPr>
          <a:xfrm>
            <a:off x="3949560" y="990720"/>
            <a:ext cx="1297080" cy="1584360"/>
          </a:xfrm>
          <a:prstGeom prst="ellipse">
            <a:avLst/>
          </a:prstGeom>
          <a:solidFill>
            <a:srgbClr val="cc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2"/>
          <p:cNvSpPr/>
          <p:nvPr/>
        </p:nvSpPr>
        <p:spPr>
          <a:xfrm>
            <a:off x="6881760" y="4222800"/>
            <a:ext cx="611280" cy="71892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abstract-design-with-beautiful-flowers1"/>
          <p:cNvPicPr/>
          <p:nvPr/>
        </p:nvPicPr>
        <p:blipFill>
          <a:blip r:embed="rId5"/>
          <a:stretch/>
        </p:blipFill>
        <p:spPr>
          <a:xfrm>
            <a:off x="108000" y="4076640"/>
            <a:ext cx="2089080" cy="2814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abstract-design-with-beautiful-flowers1"/>
          <p:cNvPicPr/>
          <p:nvPr/>
        </p:nvPicPr>
        <p:blipFill>
          <a:blip r:embed="rId6"/>
          <a:stretch/>
        </p:blipFill>
        <p:spPr>
          <a:xfrm>
            <a:off x="2124000" y="5157720"/>
            <a:ext cx="1293840" cy="1741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abstract-design-with-beautiful-flowers1"/>
          <p:cNvPicPr/>
          <p:nvPr/>
        </p:nvPicPr>
        <p:blipFill>
          <a:blip r:embed="rId7"/>
          <a:stretch/>
        </p:blipFill>
        <p:spPr>
          <a:xfrm>
            <a:off x="403200" y="5048280"/>
            <a:ext cx="406440" cy="404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abstract-design-with-beautiful-flowers1"/>
          <p:cNvPicPr/>
          <p:nvPr/>
        </p:nvPicPr>
        <p:blipFill>
          <a:blip r:embed="rId8"/>
          <a:stretch/>
        </p:blipFill>
        <p:spPr>
          <a:xfrm>
            <a:off x="3203640" y="5913360"/>
            <a:ext cx="247680" cy="179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38b31a9f3e4f4094a06d98c69c5be478"/>
          <p:cNvPicPr/>
          <p:nvPr/>
        </p:nvPicPr>
        <p:blipFill>
          <a:blip r:embed="rId9"/>
          <a:stretch/>
        </p:blipFill>
        <p:spPr>
          <a:xfrm>
            <a:off x="457200" y="3502080"/>
            <a:ext cx="4038480" cy="2765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54287_1300511189aTA9"/>
          <p:cNvPicPr/>
          <p:nvPr/>
        </p:nvPicPr>
        <p:blipFill>
          <a:blip r:embed="rId10"/>
          <a:stretch/>
        </p:blipFill>
        <p:spPr>
          <a:xfrm>
            <a:off x="457200" y="476280"/>
            <a:ext cx="4040280" cy="2682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1"/>
          <p:cNvSpPr/>
          <p:nvPr/>
        </p:nvSpPr>
        <p:spPr>
          <a:xfrm>
            <a:off x="4199040" y="1486080"/>
            <a:ext cx="53672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远 上 寒 山 石 径 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4199040" y="4222800"/>
            <a:ext cx="50688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 云 生 处 有 人 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0.03994 0.0669 C 0.04896 0.08102 0.054 0.10208 0.054 0.12407 C 0.054 0.14907 0.04896 0.16898 0.03994 0.1831 C 0.02709 0.19861 -0.0092 0.19607 -0.02274 0.21667 C -0.03628 0.23727 -0.03732 0.28773 -0.04114 0.30625 E">
                                      <p:cBhvr>
                                        <p:cTn id="4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path" presetID="59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1528 -0.01829 C 0.00816 -0.03403 0.03854 -0.01319 0.05382 0.02732 C 0.06944 0.06875 0.06406 0.11412 0.04062 0.13033 C 0.01701 0.1456 0.0118 0.19097 0.02726 0.23171 C 0.04288 0.27338 0.07326 0.29491 0.0967 0.27917 E">
                                      <p:cBhvr>
                                        <p:cTn id="4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0.03994 0.0669 C 0.04896 0.08102 0.054 0.10208 0.054 0.12407 C 0.054 0.14907 0.04896 0.16898 0.03994 0.1831 C 0.02709 0.19861 -0.0092 0.19607 -0.02274 0.21667 C -0.03628 0.23727 -0.03732 0.28773 -0.04114 0.30625 E">
                                      <p:cBhvr>
                                        <p:cTn id="4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path" presetID="59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4.16667E-006 2.31214E-007 C 0.02482 -0.0104 0.05277 0.01688 0.06284 0.06012 C 0.07361 0.07214 0.04618 0.07399 0.04062 0.08277 C 0.03507 0.09156 0.0335 0.08879 0.02951 0.11237 C 0.00434 0.12301 0.0059 0.18081 0.01649 0.22497 C 0.02673 0.26798 0.05069 0.32786 0.07552 0.31746 E">
                                      <p:cBhvr>
                                        <p:cTn id="46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21965E-006 L 0.02344 0.05087 C 0.02969 0.07561 0.01389 0.08879 0.00434 0.10151 C 0.00139 0.11191 -0.01337 0.12463 -0.01788 0.14382 C -0.0191 0.16324 0.00035 0.19076 -0.00347 0.21781 C -0.01701 0.23839 -0.03733 0.28763 -0.04115 0.30636 E">
                                      <p:cBhvr>
                                        <p:cTn id="4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path" presetID="58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.55556E-007 -4.27746E-006 L -0.01059 0.06683 C -0.01302 0.08093 -0.00434 0.09688 -0.00434 0.11908 C -0.00434 0.14405 -0.01302 0.16902 -0.01059 0.18313 C -0.00712 0.19862 0.00243 0.19607 0.0059 0.21665 C 0.00955 0.23723 0.0099 0.28763 0.01094 0.30636 E">
                                      <p:cBhvr>
                                        <p:cTn id="50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椭圆 19"/>
          <p:cNvSpPr/>
          <p:nvPr/>
        </p:nvSpPr>
        <p:spPr>
          <a:xfrm>
            <a:off x="7064280" y="833400"/>
            <a:ext cx="676440" cy="660600"/>
          </a:xfrm>
          <a:prstGeom prst="ellipse">
            <a:avLst/>
          </a:prstGeom>
          <a:solidFill>
            <a:srgbClr val="d9d9d9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2"/>
          <p:cNvSpPr/>
          <p:nvPr/>
        </p:nvSpPr>
        <p:spPr>
          <a:xfrm>
            <a:off x="-384120" y="5516640"/>
            <a:ext cx="1427040" cy="1441440"/>
          </a:xfrm>
          <a:prstGeom prst="ellipse">
            <a:avLst/>
          </a:prstGeom>
          <a:solidFill>
            <a:srgbClr val="d9d9d9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-345960" y="-689760"/>
            <a:ext cx="1967400" cy="1869840"/>
            <a:chOff x="-345960" y="-689760"/>
            <a:chExt cx="1967400" cy="1869840"/>
          </a:xfrm>
        </p:grpSpPr>
        <p:sp>
          <p:nvSpPr>
            <p:cNvPr id="133" name="Rectangle 4"/>
            <p:cNvSpPr/>
            <p:nvPr/>
          </p:nvSpPr>
          <p:spPr>
            <a:xfrm>
              <a:off x="-3960" y="9000"/>
              <a:ext cx="963720" cy="824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5"/>
            <p:cNvSpPr/>
            <p:nvPr/>
          </p:nvSpPr>
          <p:spPr>
            <a:xfrm rot="19526400">
              <a:off x="-146880" y="-349200"/>
              <a:ext cx="15699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</a:t>
              </a:r>
              <a:r>
                <a:rPr b="0" lang="zh-CN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5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6130800" y="5492880"/>
            <a:ext cx="601920" cy="561960"/>
          </a:xfrm>
          <a:prstGeom prst="rect">
            <a:avLst/>
          </a:prstGeom>
          <a:ln w="0">
            <a:noFill/>
          </a:ln>
        </p:spPr>
      </p:pic>
      <p:sp>
        <p:nvSpPr>
          <p:cNvPr id="137" name="椭圆 16"/>
          <p:cNvSpPr/>
          <p:nvPr/>
        </p:nvSpPr>
        <p:spPr>
          <a:xfrm>
            <a:off x="4718160" y="3838680"/>
            <a:ext cx="1295280" cy="1319040"/>
          </a:xfrm>
          <a:prstGeom prst="ellipse">
            <a:avLst/>
          </a:prstGeom>
          <a:solidFill>
            <a:srgbClr val="d9d9d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17"/>
          <p:cNvSpPr/>
          <p:nvPr/>
        </p:nvSpPr>
        <p:spPr>
          <a:xfrm>
            <a:off x="1314360" y="2217600"/>
            <a:ext cx="2178000" cy="2148120"/>
          </a:xfrm>
          <a:prstGeom prst="ellipse">
            <a:avLst/>
          </a:prstGeom>
          <a:solidFill>
            <a:srgbClr val="d9d9d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18"/>
          <p:cNvSpPr/>
          <p:nvPr/>
        </p:nvSpPr>
        <p:spPr>
          <a:xfrm>
            <a:off x="4743360" y="2297160"/>
            <a:ext cx="906480" cy="922320"/>
          </a:xfrm>
          <a:prstGeom prst="ellipse">
            <a:avLst/>
          </a:prstGeom>
          <a:solidFill>
            <a:srgbClr val="d9d9d9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5" descr="H:\Files\4cbb49c3e377d8365aa20a00\abstract-design-with-beautiful-flowers2.png"/>
          <p:cNvPicPr/>
          <p:nvPr/>
        </p:nvPicPr>
        <p:blipFill>
          <a:blip r:embed="rId2"/>
          <a:stretch/>
        </p:blipFill>
        <p:spPr>
          <a:xfrm>
            <a:off x="6378480" y="3627360"/>
            <a:ext cx="2721240" cy="3213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C:\Documents and Settings\Administrator\桌面\abstract-design-with-beautiful-flowers2.png"/>
          <p:cNvPicPr/>
          <p:nvPr/>
        </p:nvPicPr>
        <p:blipFill>
          <a:blip r:embed="rId3"/>
          <a:stretch/>
        </p:blipFill>
        <p:spPr>
          <a:xfrm>
            <a:off x="6659640" y="4365720"/>
            <a:ext cx="973080" cy="880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枫林晚景"/>
          <p:cNvPicPr/>
          <p:nvPr/>
        </p:nvPicPr>
        <p:blipFill>
          <a:blip r:embed="rId4"/>
          <a:stretch/>
        </p:blipFill>
        <p:spPr>
          <a:xfrm>
            <a:off x="5281560" y="552600"/>
            <a:ext cx="3567240" cy="533376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5"/>
          <p:cNvSpPr/>
          <p:nvPr/>
        </p:nvSpPr>
        <p:spPr>
          <a:xfrm>
            <a:off x="390600" y="1308240"/>
            <a:ext cx="4890960" cy="197784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停 车 坐 爱 枫 林 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霜 叶 红 于 二 月 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6"/>
          <p:cNvSpPr/>
          <p:nvPr/>
        </p:nvSpPr>
        <p:spPr>
          <a:xfrm>
            <a:off x="1619280" y="1308240"/>
            <a:ext cx="577800" cy="60948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7"/>
          <p:cNvSpPr/>
          <p:nvPr/>
        </p:nvSpPr>
        <p:spPr>
          <a:xfrm>
            <a:off x="2197080" y="1917720"/>
            <a:ext cx="576360" cy="60804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2179800" y="3686040"/>
            <a:ext cx="612000" cy="642600"/>
          </a:xfrm>
          <a:prstGeom prst="rect">
            <a:avLst/>
          </a:prstGeom>
          <a:noFill/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坐：因为、由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1312200" y="4910040"/>
            <a:ext cx="2323440" cy="642600"/>
          </a:xfrm>
          <a:prstGeom prst="rect">
            <a:avLst/>
          </a:pr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于：和……相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9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20">
                                      <p:cBhvr>
                                        <p:cTn id="90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1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20">
                                      <p:cBhvr>
                                        <p:cTn id="92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3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5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20">
                                      <p:cBhvr>
                                        <p:cTn id="96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20">
                                      <p:cBhvr>
                                        <p:cTn id="98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9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5148360" y="260280"/>
            <a:ext cx="367164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山 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【唐】杜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远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寒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石径斜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白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生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有人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停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坐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枫林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霜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红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二月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人教版小学二年级上册语文第4课《古诗两首山行》MP3朗读免费下载.mp3" descr="人教版小学二年级上册语文第4课《古诗两首山行》MP3朗读免费下载"/>
          <p:cNvPicPr/>
          <p:nvPr/>
        </p:nvPicPr>
        <p:blipFill>
          <a:blip r:embed="rId2"/>
          <a:stretch/>
        </p:blipFill>
        <p:spPr>
          <a:xfrm>
            <a:off x="8101080" y="260280"/>
            <a:ext cx="718920" cy="72072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5"/>
          <p:cNvGrpSpPr/>
          <p:nvPr/>
        </p:nvGrpSpPr>
        <p:grpSpPr>
          <a:xfrm>
            <a:off x="-345960" y="-689760"/>
            <a:ext cx="1967400" cy="1869840"/>
            <a:chOff x="-345960" y="-689760"/>
            <a:chExt cx="1967400" cy="1869840"/>
          </a:xfrm>
        </p:grpSpPr>
        <p:sp>
          <p:nvSpPr>
            <p:cNvPr id="152" name="Rectangle 2"/>
            <p:cNvSpPr/>
            <p:nvPr/>
          </p:nvSpPr>
          <p:spPr>
            <a:xfrm>
              <a:off x="-3960" y="9000"/>
              <a:ext cx="963720" cy="82440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"/>
            <p:cNvSpPr/>
            <p:nvPr/>
          </p:nvSpPr>
          <p:spPr>
            <a:xfrm rot="19526400">
              <a:off x="-146880" y="-349200"/>
              <a:ext cx="15699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</a:t>
              </a:r>
              <a:r>
                <a:rPr b="0" lang="zh-CN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6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3002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0" y="2141640"/>
            <a:ext cx="9142560" cy="3448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9" descr="C:\Documents and Settings\Administrator\桌面\6655 (1) [转换].png"/>
          <p:cNvPicPr/>
          <p:nvPr/>
        </p:nvPicPr>
        <p:blipFill>
          <a:blip r:embed="rId2"/>
          <a:stretch/>
        </p:blipFill>
        <p:spPr>
          <a:xfrm>
            <a:off x="324000" y="2924280"/>
            <a:ext cx="8297640" cy="3270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6" descr=""/>
          <p:cNvPicPr/>
          <p:nvPr/>
        </p:nvPicPr>
        <p:blipFill>
          <a:blip r:embed="rId3"/>
          <a:stretch/>
        </p:blipFill>
        <p:spPr>
          <a:xfrm>
            <a:off x="-6480" y="4916520"/>
            <a:ext cx="9149040" cy="17683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-345960" y="-689760"/>
            <a:ext cx="1967400" cy="1869840"/>
            <a:chOff x="-345960" y="-689760"/>
            <a:chExt cx="1967400" cy="1869840"/>
          </a:xfrm>
        </p:grpSpPr>
        <p:sp>
          <p:nvSpPr>
            <p:cNvPr id="159" name="Rectangle 2"/>
            <p:cNvSpPr/>
            <p:nvPr/>
          </p:nvSpPr>
          <p:spPr>
            <a:xfrm>
              <a:off x="-3960" y="8640"/>
              <a:ext cx="963720" cy="824400"/>
            </a:xfrm>
            <a:prstGeom prst="rect">
              <a:avLst/>
            </a:prstGeom>
            <a:solidFill>
              <a:srgbClr val="8a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"/>
            <p:cNvSpPr/>
            <p:nvPr/>
          </p:nvSpPr>
          <p:spPr>
            <a:xfrm rot="19526400">
              <a:off x="-146880" y="-349200"/>
              <a:ext cx="15699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</a:t>
              </a:r>
              <a:r>
                <a:rPr b="0" lang="zh-CN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7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29" descr="C:\Documents and Settings\Administrator\桌面\6655 (1) [转换].png"/>
          <p:cNvPicPr/>
          <p:nvPr/>
        </p:nvPicPr>
        <p:blipFill>
          <a:blip r:embed="rId4"/>
          <a:stretch/>
        </p:blipFill>
        <p:spPr>
          <a:xfrm>
            <a:off x="3367080" y="4390920"/>
            <a:ext cx="1657440" cy="181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9" descr="C:\Documents and Settings\Administrator\桌面\6655 (1) [转换].png"/>
          <p:cNvPicPr/>
          <p:nvPr/>
        </p:nvPicPr>
        <p:blipFill>
          <a:blip r:embed="rId5"/>
          <a:stretch/>
        </p:blipFill>
        <p:spPr>
          <a:xfrm>
            <a:off x="4897440" y="4573440"/>
            <a:ext cx="1619280" cy="1635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9" descr="C:\Documents and Settings\Administrator\桌面\6655 (1) [转换].png"/>
          <p:cNvPicPr/>
          <p:nvPr/>
        </p:nvPicPr>
        <p:blipFill>
          <a:blip r:embed="rId6"/>
          <a:stretch/>
        </p:blipFill>
        <p:spPr>
          <a:xfrm>
            <a:off x="6415200" y="4573440"/>
            <a:ext cx="1181160" cy="1635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9" descr="C:\Documents and Settings\Administrator\桌面\6655 (1) [转换].png"/>
          <p:cNvPicPr/>
          <p:nvPr/>
        </p:nvPicPr>
        <p:blipFill>
          <a:blip r:embed="rId7"/>
          <a:stretch/>
        </p:blipFill>
        <p:spPr>
          <a:xfrm>
            <a:off x="2071800" y="4194000"/>
            <a:ext cx="1365120" cy="2014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9" descr="C:\Documents and Settings\Administrator\桌面\6655 (1) [转换].png"/>
          <p:cNvPicPr/>
          <p:nvPr/>
        </p:nvPicPr>
        <p:blipFill>
          <a:blip r:embed="rId8"/>
          <a:stretch/>
        </p:blipFill>
        <p:spPr>
          <a:xfrm>
            <a:off x="7505640" y="4938840"/>
            <a:ext cx="1116000" cy="1269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9" descr="C:\Documents and Settings\Administrator\桌面\6655 (1) [转换].png"/>
          <p:cNvPicPr/>
          <p:nvPr/>
        </p:nvPicPr>
        <p:blipFill>
          <a:blip r:embed="rId9"/>
          <a:stretch/>
        </p:blipFill>
        <p:spPr>
          <a:xfrm>
            <a:off x="469800" y="4059360"/>
            <a:ext cx="1551240" cy="2149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"/>
          <p:cNvPicPr/>
          <p:nvPr/>
        </p:nvPicPr>
        <p:blipFill>
          <a:blip r:embed="rId10"/>
          <a:stretch/>
        </p:blipFill>
        <p:spPr>
          <a:xfrm>
            <a:off x="5022720" y="476280"/>
            <a:ext cx="2159280" cy="2162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6" descr=""/>
          <p:cNvPicPr/>
          <p:nvPr/>
        </p:nvPicPr>
        <p:blipFill>
          <a:blip r:embed="rId11"/>
          <a:stretch/>
        </p:blipFill>
        <p:spPr>
          <a:xfrm>
            <a:off x="1422360" y="549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1"/>
          <p:cNvSpPr/>
          <p:nvPr/>
        </p:nvSpPr>
        <p:spPr>
          <a:xfrm>
            <a:off x="1274760" y="246240"/>
            <a:ext cx="5842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zh-CN" sz="17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8" dur="1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1"/>
                            </p:stCondLst>
                            <p:childTnLst>
                              <p:par>
                                <p:cTn id="177" dur="indefinite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252"/>
                            </p:stCondLst>
                            <p:childTnLst>
                              <p:par>
                                <p:cTn id="180" dur="indefinite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3"/>
                            </p:stCondLst>
                            <p:childTnLst>
                              <p:par>
                                <p:cTn id="183" dur="indefinite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754"/>
                            </p:stCondLst>
                            <p:childTnLst>
                              <p:par>
                                <p:cTn id="186" dur="indefinite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5"/>
                            </p:stCondLst>
                            <p:childTnLst>
                              <p:par>
                                <p:cTn id="189" dur="indefinite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256"/>
                            </p:stCondLst>
                            <p:childTnLst>
                              <p:par>
                                <p:cTn id="1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8360" y="981000"/>
            <a:ext cx="8513640" cy="228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"/>
          <p:cNvPicPr/>
          <p:nvPr/>
        </p:nvPicPr>
        <p:blipFill>
          <a:blip r:embed="rId2"/>
          <a:stretch/>
        </p:blipFill>
        <p:spPr>
          <a:xfrm>
            <a:off x="73080" y="2419200"/>
            <a:ext cx="9180360" cy="1798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"/>
          <p:cNvPicPr/>
          <p:nvPr/>
        </p:nvPicPr>
        <p:blipFill>
          <a:blip r:embed="rId3"/>
          <a:stretch/>
        </p:blipFill>
        <p:spPr>
          <a:xfrm>
            <a:off x="0" y="3213000"/>
            <a:ext cx="9253440" cy="2017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4"/>
          <a:stretch/>
        </p:blipFill>
        <p:spPr>
          <a:xfrm>
            <a:off x="-201600" y="3860640"/>
            <a:ext cx="9632880" cy="237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C:\Documents and Settings\Administrator\桌面\6655 (3) [转换].png"/>
          <p:cNvPicPr/>
          <p:nvPr/>
        </p:nvPicPr>
        <p:blipFill>
          <a:blip r:embed="rId5"/>
          <a:stretch/>
        </p:blipFill>
        <p:spPr>
          <a:xfrm>
            <a:off x="0" y="5300640"/>
            <a:ext cx="9142560" cy="13762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1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-23760" y="0"/>
            <a:ext cx="958680" cy="833400"/>
          </a:xfrm>
          <a:prstGeom prst="rect">
            <a:avLst/>
          </a:prstGeom>
          <a:solidFill>
            <a:srgbClr val="f1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 rot="19526400">
            <a:off x="-166680" y="-347760"/>
            <a:ext cx="156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Impact"/>
                <a:ea typeface="Cube"/>
              </a:rPr>
              <a:t>0</a:t>
            </a:r>
            <a:r>
              <a:rPr b="0" lang="zh-CN" sz="7200" spc="-1" strike="noStrike">
                <a:solidFill>
                  <a:srgbClr val="ffffff"/>
                </a:solidFill>
                <a:latin typeface="Impact"/>
                <a:ea typeface="Cube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1263600" y="334800"/>
            <a:ext cx="7053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4100" spc="-1" strike="noStrike">
                <a:solidFill>
                  <a:srgbClr val="000000"/>
                </a:solidFill>
                <a:latin typeface="楷体"/>
                <a:ea typeface="楷体"/>
              </a:rPr>
              <a:t>、查找几首描写秋天的古诗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4100" spc="-1" strike="noStrike">
                <a:solidFill>
                  <a:srgbClr val="000000"/>
                </a:solidFill>
                <a:latin typeface="楷体"/>
                <a:ea typeface="楷体"/>
              </a:rPr>
              <a:t>、会背会默写古诗《山行》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08:43:3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8:42Z</dcterms:modified>
  <cp:revision>4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