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716F-A106-42DF-9A5C-E7D625CBB68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48A86-BEE6-4A54-941B-75E737012E0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7E0-3C48-4E32-9D7D-9EF3FD5B4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CF6-28FB-45B6-B268-F9BA54C3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AB1B7-9DC5-4A94-A49B-9F7F4FA8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EE4F-86C2-466A-B9AE-0D2AC5F77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C1EA-4DF3-4917-AABF-1F5205AF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CD9-1ED0-4D52-B497-910C1DD0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913-62A9-47C1-BDF3-B21453C0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BACC-DD86-4B35-8AD0-BB0995B24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C34-B504-408A-96BF-C288B8D5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5402-C856-472E-8DB5-5FF745DD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83B-D83A-4CA9-8704-803731D9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AA20-EA9F-4B48-BF55-CBC5B6DB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BBBC-EF53-4A8B-963E-3E16C886A1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7.jpeg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rcRect l="0" t="0" r="0" b="37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Text Box 5" descr=""/>
          <p:cNvPicPr/>
          <p:nvPr/>
        </p:nvPicPr>
        <p:blipFill>
          <a:blip r:embed="rId2"/>
          <a:stretch/>
        </p:blipFill>
        <p:spPr>
          <a:xfrm>
            <a:off x="1738440" y="692280"/>
            <a:ext cx="5400720" cy="1861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2914560" y="2971800"/>
            <a:ext cx="33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沙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8" descr=""/>
          <p:cNvPicPr/>
          <p:nvPr/>
        </p:nvPicPr>
        <p:blipFill>
          <a:blip r:embed="rId3"/>
          <a:stretch/>
        </p:blipFill>
        <p:spPr>
          <a:xfrm>
            <a:off x="1596960" y="5661000"/>
            <a:ext cx="6050160" cy="5270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52360" y="476280"/>
            <a:ext cx="849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启发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多美好的水乡啊，其实水乡的每个地方都是一幅美丽的画面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，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它们连起来，就是一长幅水乡风光的画卷，让我们再次走进这幅画卷，到水乡仔细看看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ff0000"/>
                </a:solidFill>
                <a:latin typeface="宋体"/>
              </a:rPr>
              <a:t>请大家浏览全诗 说说你喜欢这里的什么地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u=2280579594,2570204582&amp;fm=23&amp;gp=0"/>
          <p:cNvPicPr/>
          <p:nvPr/>
        </p:nvPicPr>
        <p:blipFill>
          <a:blip r:embed="rId1"/>
          <a:stretch/>
        </p:blipFill>
        <p:spPr>
          <a:xfrm>
            <a:off x="109440" y="119160"/>
            <a:ext cx="9001080" cy="66945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340000" y="5403960"/>
            <a:ext cx="51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00"/>
                </a:solidFill>
                <a:latin typeface="Arial"/>
              </a:rPr>
              <a:t>水路风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你平时见到的路是什么铺成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、水乡的路是什么铺成的呢？给你一种什么感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7446bee622905102b838207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"/>
          <p:cNvSpPr/>
          <p:nvPr/>
        </p:nvSpPr>
        <p:spPr>
          <a:xfrm>
            <a:off x="3203640" y="765000"/>
            <a:ext cx="4968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水乡的路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水云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进庄出庄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隶书"/>
                <a:ea typeface="隶书"/>
              </a:rPr>
              <a:t>一把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图片1"/>
          <p:cNvPicPr/>
          <p:nvPr/>
        </p:nvPicPr>
        <p:blipFill>
          <a:blip r:embed="rId1"/>
          <a:stretch/>
        </p:blipFill>
        <p:spPr>
          <a:xfrm>
            <a:off x="-31680" y="0"/>
            <a:ext cx="917568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395280" y="177336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还喜欢水乡的哪个地方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SC20090309171656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042920" y="2781360"/>
            <a:ext cx="47372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渔网作门帘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挂满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7446bee622905102b838207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2627280" y="981000"/>
            <a:ext cx="5472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渔网作门帘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99"/>
                </a:solidFill>
                <a:latin typeface="Arial"/>
                <a:ea typeface="隶书"/>
              </a:rPr>
              <a:t>挂满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树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走近才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几户人家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图片1"/>
          <p:cNvPicPr/>
          <p:nvPr/>
        </p:nvPicPr>
        <p:blipFill>
          <a:blip r:embed="rId1"/>
          <a:stretch/>
        </p:blipFill>
        <p:spPr>
          <a:xfrm>
            <a:off x="0" y="-2232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79280" y="1052640"/>
            <a:ext cx="878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"/>
              </a:rPr>
              <a:t>这样的景象你以前见到过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"/>
              </a:rPr>
              <a:t>当你第一次见到时感觉怎么样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"/>
              </a:rPr>
              <a:t>试着读出你的感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7446bee622905102b838207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2627280" y="981000"/>
            <a:ext cx="5472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渔网作门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挂满树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走近才见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几户人家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94b71f3846dee833b9998fa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1934640" y="522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榴火自红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633445426754843750"/>
          <p:cNvPicPr/>
          <p:nvPr/>
        </p:nvPicPr>
        <p:blipFill>
          <a:blip r:embed="rId1"/>
          <a:stretch/>
        </p:blipFill>
        <p:spPr>
          <a:xfrm>
            <a:off x="0" y="0"/>
            <a:ext cx="91789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412920" y="357120"/>
            <a:ext cx="83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听读：</a:t>
            </a:r>
            <a:r>
              <a:rPr b="1" lang="zh-CN" sz="6600" spc="-1" strike="noStrike">
                <a:solidFill>
                  <a:srgbClr val="ff0000"/>
                </a:solidFill>
                <a:latin typeface="隶书"/>
                <a:ea typeface="隶书"/>
              </a:rPr>
              <a:t>作者先后到过水乡的哪些地方？标出作者的游览路线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SC200903091716543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4687200" y="324648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柳线舞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7446bee622905102b838207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2700360" y="836640"/>
            <a:ext cx="5400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榴火自红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柳线舞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家家门前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锁一副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755640" y="191772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图片1"/>
          <p:cNvPicPr/>
          <p:nvPr/>
        </p:nvPicPr>
        <p:blipFill>
          <a:blip r:embed="rId1"/>
          <a:stretch/>
        </p:blipFill>
        <p:spPr>
          <a:xfrm>
            <a:off x="0" y="-2376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684360" y="141300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"/>
              </a:rPr>
              <a:t>多么宁静而又美丽的画面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"/>
              </a:rPr>
              <a:t>请大家都来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"/>
              </a:rPr>
              <a:t>读出喜爱之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7446bee622905102b838207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2700360" y="836640"/>
            <a:ext cx="54007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榴火自红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柳线舞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家家门前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锁一副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7446bee622905102b838207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2556000" y="765000"/>
            <a:ext cx="69847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要找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稻海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深处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一步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踏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蛙鼓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．．．．．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e59a683845aa7f3997ddd8d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684360" y="1052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夕阳西下，水面上升起薄雾，像一层纱笼罩在小水村，很静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很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朦胧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蝉不叫了，太阳也落山了，该返回了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7446bee622905102b838207d"/>
          <p:cNvPicPr/>
          <p:nvPr/>
        </p:nvPicPr>
        <p:blipFill>
          <a:blip r:embed="rId1"/>
          <a:stretch/>
        </p:blipFill>
        <p:spPr>
          <a:xfrm>
            <a:off x="34920" y="-1908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2340000" y="1197000"/>
            <a:ext cx="525636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蝉声住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水上起暮雾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隶书"/>
              </a:rPr>
              <a:t>儿童解缆送客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隶书"/>
              </a:rPr>
              <a:t>一把好橹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说一说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、当你要离开美丽水乡的时候，你会是一种什么心情？你会怎么想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、怎样才能让美景永远留在你心里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23640" y="1422000"/>
            <a:ext cx="856908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水乡的路，（      ）。进庄出庄，（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     ），挂满树；走近才见，（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（      ），（      ）；家家门前（     ）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要找人，（        ）；一步步，（     ）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.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蝉声住，（        ）；（       ），一手好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1403280" y="836640"/>
            <a:ext cx="7991640" cy="36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周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神州第一水乡（江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苏州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西塘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梦里的水乡古镇（浙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嘉兴）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同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东方威尼斯（江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苏州） 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乌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最具文化气息的水乡古镇（浙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嘉兴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甪直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难记的名字，难忘的古镇（江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苏州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南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明清时代就是一个典型的江南水乡名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38240" y="189000"/>
            <a:ext cx="1277640" cy="54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南六大水乡古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图片1"/>
          <p:cNvPicPr/>
          <p:nvPr/>
        </p:nvPicPr>
        <p:blipFill>
          <a:blip r:embed="rId1"/>
          <a:stretch/>
        </p:blipFill>
        <p:spPr>
          <a:xfrm>
            <a:off x="-31680" y="-22320"/>
            <a:ext cx="9175680" cy="705168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3"/>
          <p:cNvSpPr/>
          <p:nvPr/>
        </p:nvSpPr>
        <p:spPr>
          <a:xfrm>
            <a:off x="468360" y="765000"/>
            <a:ext cx="8496360" cy="3844440"/>
          </a:xfrm>
          <a:prstGeom prst="rightArrow">
            <a:avLst>
              <a:gd name="adj1" fmla="val 50000"/>
              <a:gd name="adj2" fmla="val 5522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路线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水路上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水上村庄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稻田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→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离庄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7446bee622905102b838207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3480" y="-23760"/>
            <a:ext cx="9141120" cy="68547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2771640" y="622440"/>
            <a:ext cx="4105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忆江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【唐】白居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江南好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风景旧曾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日出江花红胜火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春来江水绿如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能不忆江南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>
            <a:hlinkClick r:id="rId3" action="ppaction://hlinksldjump"/>
          </p:cNvPr>
          <p:cNvSpPr/>
          <p:nvPr/>
        </p:nvSpPr>
        <p:spPr>
          <a:xfrm>
            <a:off x="684360" y="6237360"/>
            <a:ext cx="28728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1"/>
          <p:cNvSpPr/>
          <p:nvPr/>
        </p:nvSpPr>
        <p:spPr>
          <a:xfrm>
            <a:off x="2452680" y="6087960"/>
            <a:ext cx="52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3177720" y="981000"/>
            <a:ext cx="29419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"/>
              </a:rPr>
              <a:t>作业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《水乡行》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"/>
              </a:rPr>
              <a:t>其实是一幅优美的画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"/>
              </a:rPr>
              <a:t>课下把它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"/>
              </a:rPr>
              <a:t>改写成一篇小游记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楷体"/>
              </a:rPr>
              <a:t>好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EBD9-A4BC-4F97-8EA8-BAE761D593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图片1"/>
          <p:cNvPicPr/>
          <p:nvPr/>
        </p:nvPicPr>
        <p:blipFill>
          <a:blip r:embed="rId1"/>
          <a:stretch/>
        </p:blipFill>
        <p:spPr>
          <a:xfrm>
            <a:off x="1440" y="-20520"/>
            <a:ext cx="9180720" cy="69069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2700360" y="2565360"/>
            <a:ext cx="290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324000" y="2276640"/>
            <a:ext cx="835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注意把字音读准确，把语句读流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思考：水乡给你留下了怎样的印象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247400" y="10368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自由读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6"/>
          <p:cNvSpPr/>
          <p:nvPr/>
        </p:nvSpPr>
        <p:spPr>
          <a:xfrm>
            <a:off x="2556000" y="33084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2270160" y="177336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水乡给你留下了怎样的印象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图片1"/>
          <p:cNvPicPr/>
          <p:nvPr/>
        </p:nvPicPr>
        <p:blipFill>
          <a:blip r:embed="rId1"/>
          <a:stretch/>
        </p:blipFill>
        <p:spPr>
          <a:xfrm>
            <a:off x="0" y="-22320"/>
            <a:ext cx="9217080" cy="6853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1908000" y="1413000"/>
            <a:ext cx="540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水面广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人们坐船出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景色美、宁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里的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们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淳朴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勤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862200" y="33336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初步印象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图片1"/>
          <p:cNvPicPr/>
          <p:nvPr/>
        </p:nvPicPr>
        <p:blipFill>
          <a:blip r:embed="rId1"/>
          <a:stretch/>
        </p:blipFill>
        <p:spPr>
          <a:xfrm>
            <a:off x="-31680" y="1440"/>
            <a:ext cx="9175680" cy="6885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2458080" y="2276640"/>
            <a:ext cx="420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你喜欢水乡的什么地方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8091911431543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900000" y="105264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水乡的景色好美呀！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让我们通过朗读来体会水乡的独特风光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7446bee622905102b838207d"/>
          <p:cNvPicPr/>
          <p:nvPr/>
        </p:nvPicPr>
        <p:blipFill>
          <a:blip r:embed="rId1"/>
          <a:stretch/>
        </p:blipFill>
        <p:spPr>
          <a:xfrm>
            <a:off x="1080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260360" y="531720"/>
            <a:ext cx="78487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水乡的路，    榴火自红，   蝉声住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水云铺。      柳线舞；     水上起暮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进庄出庄，    家家门前，   儿童解缆送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一把橹。      锁一副！     一手好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渔网作门帘，  要找人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挂满树；      稻海深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走近才见，    一步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几户人家住。  踏停蛙鼓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07800" y="44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乡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6T05:26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5:19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