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wind.wav" ContentType="audio/x-wav"/>
  <Override PartName="/ppt/media/chimes.wav" ContentType="audio/x-wav"/>
  <Override PartName="/ppt/media/image16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0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26.png" ContentType="image/png"/>
  <Override PartName="/ppt/media/image17.jpeg" ContentType="image/jpeg"/>
  <Override PartName="/ppt/media/image14.jpeg" ContentType="image/jpeg"/>
  <Override PartName="/ppt/media/image12.jpeg" ContentType="image/jpeg"/>
  <Override PartName="/ppt/media/image3.wmf" ContentType="image/x-wmf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25B0-3FC2-4CE4-BD91-EF3E44E3741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CA61-7475-4C57-A0B5-63D3EBFED46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63C1-E45B-4EEE-BAF9-88A7E4D15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63AE-5784-42AC-B287-EAD3F6B5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5C14-A5F1-45C2-91B0-E2815E59A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D76D-BE16-4DBB-9DC2-B78805F92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7E97-16B9-4AF0-A283-8540E9B4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4C5E-A07C-450A-8BEA-01D92461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C7E3-CDDD-4BA3-8055-85137756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F22C-3980-488D-B871-6716FA46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E865-6EB4-4489-AD8D-184BAE74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B291-9C18-475F-93F6-7FEF54A8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D6FC-FCA7-4074-99A4-60340352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7FA1-45E9-476A-8730-F37D8C2F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2CE2-4791-407C-8C07-7A6F757F7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ind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mage.baidu.com/i?ct=503316480&amp;z=0&amp;tn=baiduimagedetail&amp;word=%CA%F7&#1206;%D0%CE&#1524;&amp;in=23996&amp;cl=2&amp;cm=1&amp;sc=0&amp;lm=-1&amp;pn=4&amp;rn=1&amp;di=137440760&amp;ln=134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image.baidu.com/i?ct=503316480&amp;z=0&amp;tn=baiduimagedetail&amp;word=%CA%F7&#1206;%CB&#1586;%C4&amp;in=7205&amp;cl=2&amp;cm=1&amp;sc=0&amp;lm=-1&amp;pn=2&amp;rn=1&amp;di=2095800616&amp;ln=2000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image.baidu.com/i?ct=503316480&amp;z=0&amp;tn=baiduimagedetail&amp;word=%CA%F7&#1206;&amp;in=5398&amp;cl=2&amp;lm=-1&amp;pn=10&amp;rn=1&amp;di=42272752773&amp;ln=2000&amp;fr=&amp;fmq=&amp;ic=&amp;s=0&amp;se=&amp;sme=0&amp;tab=&amp;width=&amp;height=&amp;face=&amp;is=&amp;istype=2" TargetMode="External"/><Relationship Id="rId7" Type="http://schemas.openxmlformats.org/officeDocument/2006/relationships/image" Target="../media/image11.jpeg"/><Relationship Id="rId8" Type="http://schemas.openxmlformats.org/officeDocument/2006/relationships/hyperlink" Target="http://image.baidu.com/i?ct=503316480&amp;z=0&amp;tn=baiduimagedetail&amp;word=%CA%F7&#1206;&amp;in=29280&amp;cl=2&amp;lm=-1&amp;pn=216&amp;rn=1&amp;di=18084109290&amp;ln=2000&amp;fr=&amp;fmq=&amp;ic=0&amp;s=0&amp;se=&amp;sme=0&amp;tab=&amp;width=&amp;height=&amp;face=&amp;is=&amp;istype=2" TargetMode="External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7.jpeg"/><Relationship Id="rId15" Type="http://schemas.openxmlformats.org/officeDocument/2006/relationships/image" Target="../media/image18.jpeg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TR0100690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050840" y="1044720"/>
            <a:ext cx="54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湘教版一年级语文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6"/>
          <p:cNvSpPr txBox="1"/>
          <p:nvPr/>
        </p:nvSpPr>
        <p:spPr>
          <a:xfrm rot="519600">
            <a:off x="1255680" y="1940040"/>
            <a:ext cx="6789600" cy="281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7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33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树叶都是绿色的吗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33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1" name="Picture 7" descr="MCj04287950000[1]"/>
          <p:cNvPicPr/>
          <p:nvPr/>
        </p:nvPicPr>
        <p:blipFill>
          <a:blip r:embed="rId2"/>
          <a:stretch/>
        </p:blipFill>
        <p:spPr>
          <a:xfrm>
            <a:off x="7462800" y="5013360"/>
            <a:ext cx="1681200" cy="1844640"/>
          </a:xfrm>
          <a:prstGeom prst="rect">
            <a:avLst/>
          </a:prstGeom>
          <a:ln w="0">
            <a:noFill/>
          </a:ln>
        </p:spPr>
      </p:pic>
      <p:sp>
        <p:nvSpPr>
          <p:cNvPr id="52" name="矩形 5"/>
          <p:cNvSpPr/>
          <p:nvPr/>
        </p:nvSpPr>
        <p:spPr>
          <a:xfrm>
            <a:off x="1906200" y="55897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413720" y="208080"/>
            <a:ext cx="127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有的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355200" y="214200"/>
            <a:ext cx="127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有的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201111050258275190124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5518800" y="208080"/>
            <a:ext cx="127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有的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20094230430643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1979640" y="836640"/>
            <a:ext cx="43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小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68360" y="2276640"/>
            <a:ext cx="84963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今天的学习，我们知道了树叶并不都是绿色的，树叶的颜色是五颜六色的，树叶的形状是千奇百怪的。让我们来欣赏一段视频，感受一下美丽的大自然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"/>
          <p:cNvSpPr/>
          <p:nvPr/>
        </p:nvSpPr>
        <p:spPr>
          <a:xfrm>
            <a:off x="0" y="5718240"/>
            <a:ext cx="58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a7575474b9277221b151b92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拓展学习"/>
          <p:cNvPicPr/>
          <p:nvPr/>
        </p:nvPicPr>
        <p:blipFill>
          <a:blip r:embed="rId2"/>
          <a:stretch/>
        </p:blipFill>
        <p:spPr>
          <a:xfrm>
            <a:off x="179280" y="692280"/>
            <a:ext cx="2232000" cy="8395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826920" y="2592000"/>
            <a:ext cx="714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自然是神奇无比的，同学们可以在课外查找资料，了解更多关于大自然的知识，去寻找问题的答案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CB7B-DB36-4ABB-85C5-54E0E8151F9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8800b53018e5738a5edf0ea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未命名"/>
          <p:cNvPicPr/>
          <p:nvPr/>
        </p:nvPicPr>
        <p:blipFill>
          <a:blip r:embed="rId2"/>
          <a:stretch/>
        </p:blipFill>
        <p:spPr>
          <a:xfrm>
            <a:off x="6372360" y="4581360"/>
            <a:ext cx="2303280" cy="227664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7"/>
          <p:cNvSpPr/>
          <p:nvPr/>
        </p:nvSpPr>
        <p:spPr>
          <a:xfrm>
            <a:off x="324000" y="836640"/>
            <a:ext cx="7704000" cy="3382920"/>
          </a:xfrm>
          <a:prstGeom prst="wedgeEllipseCallout">
            <a:avLst>
              <a:gd name="adj1" fmla="val 29004"/>
              <a:gd name="adj2" fmla="val 568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同学们，你们认为树叶都是绿色的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u=2421292274,2382894068&amp;fm=3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1871640" y="0"/>
            <a:ext cx="7272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上课时，老师问：“树叶是什么颜色呢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绿色。”同学们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异口同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地回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老师又问：“树叶是什么形状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不少同学回答：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椭圆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课后，老师把同学们带上山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采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各种树叶标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回到教室，大家把树叶摆在课桌上，老师让同学们再回答那两个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同学们一看，眼睛瞪得大大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原来，树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不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有绿色的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还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红色的、黄色的、紫色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·····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树叶的形状更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千奇百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有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像针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有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像扇子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有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边缘像锯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·····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6"/>
          <p:cNvSpPr txBox="1"/>
          <p:nvPr/>
        </p:nvSpPr>
        <p:spPr>
          <a:xfrm rot="5400000">
            <a:off x="-467280" y="2348280"/>
            <a:ext cx="2592360" cy="1152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ln w="0">
                  <a:noFill/>
                </a:ln>
                <a:solidFill>
                  <a:srgbClr val="cc0000"/>
                </a:solidFill>
                <a:latin typeface="黑体"/>
              </a:rPr>
              <a:t>课文学习</a:t>
            </a:r>
            <a:endParaRPr b="1" i="1" lang="en-US" sz="4000" spc="-1" strike="noStrike">
              <a:ln w="0">
                <a:noFill/>
              </a:ln>
              <a:solidFill>
                <a:srgbClr val="cc00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TR010362651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395280" y="5493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初步感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116000" y="177336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阅读课文，想想课文讲了一些什么事情？说明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950760" y="3357720"/>
            <a:ext cx="819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课文讲了树叶的颜色是五颜六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的，树叶的 形状是千奇百怪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900000" y="4869000"/>
            <a:ext cx="82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说明了大自然神奇无比，我们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生活多姿多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c41cbf013bc371a3e950cd1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395280" y="76500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认真观察下面的图片思考：树叶的颜色和形状是怎样的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u=2400800388,1849070621&amp;fm=0&amp;gp=1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59280" y="1413000"/>
            <a:ext cx="1066680" cy="1323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u=462253902,2510783350&amp;fm=0&amp;gp=1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4149720"/>
            <a:ext cx="1584360" cy="1158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u=2278834078,1033195091&amp;fm=3&amp;gp=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559640" y="3213000"/>
            <a:ext cx="1584360" cy="1463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u=2081430525,2429354784&amp;fm=0&amp;gp=0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24000" y="5524560"/>
            <a:ext cx="1503360" cy="133344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23"/>
          <p:cNvSpPr/>
          <p:nvPr/>
        </p:nvSpPr>
        <p:spPr>
          <a:xfrm>
            <a:off x="8172360" y="2421000"/>
            <a:ext cx="144720" cy="760320"/>
          </a:xfrm>
          <a:prstGeom prst="upArrow">
            <a:avLst>
              <a:gd name="adj1" fmla="val 50000"/>
              <a:gd name="adj2" fmla="val 13131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4"/>
          <p:cNvSpPr/>
          <p:nvPr/>
        </p:nvSpPr>
        <p:spPr>
          <a:xfrm>
            <a:off x="7575480" y="1844640"/>
            <a:ext cx="15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椭圆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5" descr="12L92D95K5F-1K00"/>
          <p:cNvPicPr/>
          <p:nvPr/>
        </p:nvPicPr>
        <p:blipFill>
          <a:blip r:embed="rId10"/>
          <a:stretch/>
        </p:blipFill>
        <p:spPr>
          <a:xfrm>
            <a:off x="0" y="1989000"/>
            <a:ext cx="2232000" cy="1943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6" descr="2007829102914317_2"/>
          <p:cNvPicPr/>
          <p:nvPr/>
        </p:nvPicPr>
        <p:blipFill>
          <a:blip r:embed="rId11"/>
          <a:stretch/>
        </p:blipFill>
        <p:spPr>
          <a:xfrm>
            <a:off x="2195640" y="2060640"/>
            <a:ext cx="2590560" cy="1952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7" descr="119eb404da45467694ca6b49"/>
          <p:cNvPicPr/>
          <p:nvPr/>
        </p:nvPicPr>
        <p:blipFill>
          <a:blip r:embed="rId12"/>
          <a:stretch/>
        </p:blipFill>
        <p:spPr>
          <a:xfrm>
            <a:off x="4643280" y="4811760"/>
            <a:ext cx="2664000" cy="2046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8" descr="200812125858202"/>
          <p:cNvPicPr/>
          <p:nvPr/>
        </p:nvPicPr>
        <p:blipFill>
          <a:blip r:embed="rId13"/>
          <a:stretch/>
        </p:blipFill>
        <p:spPr>
          <a:xfrm>
            <a:off x="1619280" y="4149720"/>
            <a:ext cx="2879640" cy="2708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9" descr="294739_200023025683_2"/>
          <p:cNvPicPr/>
          <p:nvPr/>
        </p:nvPicPr>
        <p:blipFill>
          <a:blip r:embed="rId14"/>
          <a:stretch/>
        </p:blipFill>
        <p:spPr>
          <a:xfrm>
            <a:off x="4859280" y="2852640"/>
            <a:ext cx="2519280" cy="1889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0" descr="400184"/>
          <p:cNvPicPr/>
          <p:nvPr/>
        </p:nvPicPr>
        <p:blipFill>
          <a:blip r:embed="rId15"/>
          <a:stretch/>
        </p:blipFill>
        <p:spPr>
          <a:xfrm>
            <a:off x="7451640" y="4797360"/>
            <a:ext cx="169236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TR010362653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395280" y="836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理解词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1403280" y="1033560"/>
            <a:ext cx="7056360" cy="58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颜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 五颜六色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形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   千奇百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异口同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1619280" y="2637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花园里的花朵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五颜六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1619280" y="465300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上的云的形状真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千奇百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1547640" y="5445000"/>
            <a:ext cx="743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学们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异口同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回答老师的提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4"/>
          <p:cNvSpPr/>
          <p:nvPr/>
        </p:nvSpPr>
        <p:spPr>
          <a:xfrm>
            <a:off x="2627280" y="2205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5"/>
          <p:cNvSpPr/>
          <p:nvPr/>
        </p:nvSpPr>
        <p:spPr>
          <a:xfrm>
            <a:off x="2556000" y="3645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250" autoRev="1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250" autoRev="1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250" autoRev="1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250" autoRev="1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250" autoRev="1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250" autoRev="1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底版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细读感悟"/>
          <p:cNvPicPr/>
          <p:nvPr/>
        </p:nvPicPr>
        <p:blipFill>
          <a:blip r:embed="rId2"/>
          <a:stretch/>
        </p:blipFill>
        <p:spPr>
          <a:xfrm>
            <a:off x="0" y="476280"/>
            <a:ext cx="2627280" cy="923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611280" y="170028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同学们找一找课文中描述树叶颜色和形状的句子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324000" y="3284640"/>
            <a:ext cx="88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原来，树叶不仅有绿色的，还有红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的、黄色的、紫色的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·····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树叶的形状更是千奇百怪，有的像针，有的像扇子，有的边缘像锯齿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·····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4a90c0eb14af71f1d539c9c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细读感悟"/>
          <p:cNvPicPr/>
          <p:nvPr/>
        </p:nvPicPr>
        <p:blipFill>
          <a:blip r:embed="rId2"/>
          <a:stretch/>
        </p:blipFill>
        <p:spPr>
          <a:xfrm>
            <a:off x="324000" y="189000"/>
            <a:ext cx="2555640" cy="9237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755640" y="1844640"/>
            <a:ext cx="83883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原来，树叶不仅有绿色的，还有红色的、黄色的、紫色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…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39640" y="335772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除了课文中描写的颜色，你还有新的发现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省略号省略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4a90c0eb14af71f1d539c9c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细读感悟"/>
          <p:cNvPicPr/>
          <p:nvPr/>
        </p:nvPicPr>
        <p:blipFill>
          <a:blip r:embed="rId2"/>
          <a:stretch/>
        </p:blipFill>
        <p:spPr>
          <a:xfrm>
            <a:off x="250920" y="549360"/>
            <a:ext cx="2050920" cy="8636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611280" y="1773360"/>
            <a:ext cx="712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树叶的形状更是千奇百怪，有的像针，有的像扇子，有的边缘像锯齿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…”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684360" y="3130200"/>
            <a:ext cx="727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除了课本上出现的形状，你还能发现更有意思的树叶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同学们传看我们一起采集的树叶，有没有更有趣的形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03:31:02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7T00:40:26Z</dcterms:modified>
  <cp:revision>15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