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4E5A-E94F-4E66-BA2F-796A2EAEF66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8F5F-0DE9-4744-81A7-8499F26211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957-8897-48EE-8F11-417F86A1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6AD7-BE57-486D-8839-FC087D9C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6F6-5FB8-46DA-8A94-43DB92B6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6C98-6E38-45A6-8AEC-D9323EF1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6F60-6FD5-4D03-B05D-CBE64DECA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55C-259F-4628-A6E5-4D832C63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273-AD33-436F-A9D2-9BA5F354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6B2-C3BE-43C9-8D3F-23E7F601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A670-5674-4B3E-9024-ED9F3CC2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9F0-1CE7-4474-BD91-9CE7D2C3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431C-A225-4FAF-BD7A-C282BB50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C323-3E29-4B7E-9BB4-DD024BCC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4234-17DB-4576-9520-9A2E14DDF0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888000" y="762120"/>
            <a:ext cx="101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一个马掌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652400" y="6172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2280" y="431640"/>
            <a:ext cx="8763120" cy="35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查理环顾四周，在空中挥舞着宝剑，绝望地喊道：“马！我的马，难道国家倾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覆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f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就因为这一匹马！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亨利的士兵俘获了查理，战斗结束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从那时起，人们就说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少了一个铁钉，丢了一只马掌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丢了一只马掌，跑了一匹战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跑了一匹战马，败了一场战役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败了一场战役，失了一个国家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所有的损失都是源于少了一个马掌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159920" y="26668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伯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962520" y="2590920"/>
            <a:ext cx="167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厮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781680" y="2590920"/>
            <a:ext cx="14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马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3600" y="48769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缰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62520" y="4800600"/>
            <a:ext cx="14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倾</a:t>
            </a: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楷体_GB2312"/>
              </a:rPr>
              <a:t>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1524960" y="220968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ju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038840" y="22096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s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7239960" y="2133720"/>
            <a:ext cx="94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biā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649040" y="434340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f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763920" y="4419720"/>
            <a:ext cx="103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jiā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028520" y="961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"/>
          <p:cNvSpPr/>
          <p:nvPr/>
        </p:nvSpPr>
        <p:spPr>
          <a:xfrm>
            <a:off x="2438280" y="533520"/>
            <a:ext cx="5486400" cy="31240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瞧，我是这样探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的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152280" y="173592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4)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查理环顾四周，在空中挥舞着宝剑，绝望地喊道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！我的马，难道国家倾覆就因为这一匹马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143000" y="2514600"/>
            <a:ext cx="73152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240680" y="366408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毁国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6629040" y="388620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76320" y="990720"/>
            <a:ext cx="899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3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军交锋。查理国王带头冲锋陷阵，领着士兵杀向敌人。远远地，他看见战场另一头自己的几个士兵在退却，便扬鞭策马冲向那个缺口。可是，他还没走到一半，一只马掌掉了，战马跌翻在地，查理也被掀在地上。他还没来得及抓住缰绳，惊恐的战马就跳起来逃走了。士兵以为国王中箭身亡，纷纷掉头撤退。这时，亨利的军队趁势围了上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3"/>
          <p:cNvSpPr/>
          <p:nvPr/>
        </p:nvSpPr>
        <p:spPr>
          <a:xfrm>
            <a:off x="914400" y="2743200"/>
            <a:ext cx="2211480" cy="144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7391520" y="472428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毁国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"/>
          <p:cNvSpPr/>
          <p:nvPr/>
        </p:nvSpPr>
        <p:spPr>
          <a:xfrm flipH="1">
            <a:off x="6857640" y="4952880"/>
            <a:ext cx="609480" cy="180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2173320" y="472428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掉马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7"/>
          <p:cNvSpPr/>
          <p:nvPr/>
        </p:nvSpPr>
        <p:spPr>
          <a:xfrm flipH="1">
            <a:off x="3124080" y="4952880"/>
            <a:ext cx="609840" cy="180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"/>
          <p:cNvSpPr/>
          <p:nvPr/>
        </p:nvSpPr>
        <p:spPr>
          <a:xfrm>
            <a:off x="4038480" y="3200400"/>
            <a:ext cx="4419720" cy="144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3809880" y="47242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跑战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 flipH="1">
            <a:off x="4952880" y="4952880"/>
            <a:ext cx="609840" cy="180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5638680" y="4724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败战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76320" y="4114800"/>
            <a:ext cx="3047760" cy="144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304920" y="3581280"/>
            <a:ext cx="8381880" cy="76320"/>
          </a:xfrm>
          <a:prstGeom prst="line">
            <a:avLst/>
          </a:prstGeom>
          <a:ln w="1908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4"/>
          <p:cNvSpPr/>
          <p:nvPr/>
        </p:nvSpPr>
        <p:spPr>
          <a:xfrm flipH="1">
            <a:off x="1371600" y="4952880"/>
            <a:ext cx="5335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228600" y="310824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0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不能挂住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夫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该能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匠回答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我没把握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，就这样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夫叫道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点，要不然国王会怪罪到咱俩头上的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133720" y="3352680"/>
            <a:ext cx="37335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2133720" y="4267080"/>
            <a:ext cx="25905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391520" y="510552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毁国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54200" y="51055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掉马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H="1">
            <a:off x="6857640" y="533412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H="1">
            <a:off x="5181480" y="5334120"/>
            <a:ext cx="60984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01720" y="51055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挂马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H="1">
            <a:off x="3581280" y="5334120"/>
            <a:ext cx="60984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04920" y="1219320"/>
            <a:ext cx="906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“我告诉过你，等不及了，”马夫急切地说，“我听见军号声了，你能不能凑合凑合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 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“我能把马掌钉上，但是不能像其他几个那么牢实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1143000" y="1676520"/>
            <a:ext cx="77724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76320" y="2133720"/>
            <a:ext cx="60195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038480" y="510552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跑战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 flipH="1">
            <a:off x="1828800" y="53341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7913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败战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17"/>
          <p:cNvCxnSpPr>
            <a:stCxn id="105" idx="1"/>
          </p:cNvCxnSpPr>
          <p:nvPr/>
        </p:nvCxnSpPr>
        <p:spPr>
          <a:xfrm>
            <a:off x="609480" y="5342040"/>
            <a:ext cx="7668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Line 18"/>
          <p:cNvSpPr/>
          <p:nvPr/>
        </p:nvSpPr>
        <p:spPr>
          <a:xfrm>
            <a:off x="2057400" y="3809880"/>
            <a:ext cx="5867280" cy="180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04920" y="1857960"/>
            <a:ext cx="8762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铁匠埋头干活，弄来四个旧马掌，把它们砸平、整形，固定在马蹄上，然后开始钉钉子。钉第四个掌时，他发现少了一颗钉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还要一颗钉子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说，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得需要点儿时间砸出来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"/>
          <p:cNvSpPr/>
          <p:nvPr/>
        </p:nvSpPr>
        <p:spPr>
          <a:xfrm>
            <a:off x="2286000" y="3429000"/>
            <a:ext cx="29718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391520" y="510552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毁国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554200" y="51055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掉马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801720" y="51055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挂马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7"/>
          <p:cNvSpPr/>
          <p:nvPr/>
        </p:nvSpPr>
        <p:spPr>
          <a:xfrm flipH="1">
            <a:off x="6781680" y="5334120"/>
            <a:ext cx="60984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 flipH="1">
            <a:off x="5105160" y="533412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9"/>
          <p:cNvSpPr/>
          <p:nvPr/>
        </p:nvSpPr>
        <p:spPr>
          <a:xfrm flipH="1">
            <a:off x="3428640" y="533412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801720" y="609588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少钉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H="1">
            <a:off x="1752480" y="5334120"/>
            <a:ext cx="60984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1295280" y="2971800"/>
            <a:ext cx="3429000" cy="144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3962520" y="510552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跑战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57150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败战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15"/>
          <p:cNvCxnSpPr>
            <a:stCxn id="119" idx="1"/>
            <a:endCxn id="123" idx="1"/>
          </p:cNvCxnSpPr>
          <p:nvPr/>
        </p:nvCxnSpPr>
        <p:spPr>
          <a:xfrm flipH="1">
            <a:off x="608760" y="5340960"/>
            <a:ext cx="3960" cy="99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Line 16"/>
          <p:cNvSpPr/>
          <p:nvPr/>
        </p:nvSpPr>
        <p:spPr>
          <a:xfrm>
            <a:off x="1676520" y="640080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152280" y="232344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（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为争夺英王国的权杖，国王查理三世与亨利伯爵厮杀了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85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的冬季，在波斯沃斯城郊的荒原上，最后的决战即将打响，这场战斗将决定谁统治英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87480" y="533520"/>
            <a:ext cx="30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838080" y="3276720"/>
            <a:ext cx="815364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620120" y="4419720"/>
            <a:ext cx="1447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毁国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011400" y="44197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掉马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411200" y="4419720"/>
            <a:ext cx="7524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挂马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143000" y="5334120"/>
            <a:ext cx="113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少钉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7010280" y="4648320"/>
            <a:ext cx="60984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5410080" y="4648320"/>
            <a:ext cx="60984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3809880" y="4648320"/>
            <a:ext cx="60984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2"/>
          <p:cNvSpPr/>
          <p:nvPr/>
        </p:nvSpPr>
        <p:spPr>
          <a:xfrm flipH="1">
            <a:off x="2285640" y="4648320"/>
            <a:ext cx="609480" cy="14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3048120" y="5334120"/>
            <a:ext cx="2089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决战即将开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4495680" y="441972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跑战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362320" y="5562720"/>
            <a:ext cx="6094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AutoShape 16"/>
          <p:cNvCxnSpPr>
            <a:stCxn id="135" idx="1"/>
            <a:endCxn id="136" idx="1"/>
          </p:cNvCxnSpPr>
          <p:nvPr/>
        </p:nvCxnSpPr>
        <p:spPr>
          <a:xfrm flipH="1">
            <a:off x="1143000" y="4656240"/>
            <a:ext cx="76680" cy="915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5" name="Text Box 17"/>
          <p:cNvSpPr/>
          <p:nvPr/>
        </p:nvSpPr>
        <p:spPr>
          <a:xfrm>
            <a:off x="6019920" y="4419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败战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015080" y="1268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少一个马掌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67560" y="2971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决战即将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85156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少钉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45176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挂马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5867280" y="297180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掉马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391520" y="37339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败战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7467480" y="297180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跑战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AutoShape 9"/>
          <p:cNvCxnSpPr>
            <a:stCxn id="152" idx="3"/>
            <a:endCxn id="151" idx="3"/>
          </p:cNvCxnSpPr>
          <p:nvPr/>
        </p:nvCxnSpPr>
        <p:spPr>
          <a:xfrm>
            <a:off x="8610120" y="3207960"/>
            <a:ext cx="1080" cy="75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4" name="Line 10"/>
          <p:cNvSpPr/>
          <p:nvPr/>
        </p:nvSpPr>
        <p:spPr>
          <a:xfrm>
            <a:off x="1981080" y="32004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>
            <a:off x="3657600" y="32004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2"/>
          <p:cNvSpPr/>
          <p:nvPr/>
        </p:nvSpPr>
        <p:spPr>
          <a:xfrm>
            <a:off x="5257800" y="32004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3"/>
          <p:cNvSpPr/>
          <p:nvPr/>
        </p:nvSpPr>
        <p:spPr>
          <a:xfrm>
            <a:off x="6858000" y="3200400"/>
            <a:ext cx="6858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 flipH="1">
            <a:off x="6781680" y="39625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5"/>
          <p:cNvSpPr/>
          <p:nvPr/>
        </p:nvSpPr>
        <p:spPr>
          <a:xfrm>
            <a:off x="5562720" y="3733920"/>
            <a:ext cx="121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毁国家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263240" y="91296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3"/>
          <p:cNvSpPr/>
          <p:nvPr/>
        </p:nvSpPr>
        <p:spPr>
          <a:xfrm>
            <a:off x="7010280" y="20574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80880" y="4038480"/>
            <a:ext cx="86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急于完成任务，做事马虎，敷衍了事，责任心不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5"/>
          <p:cNvSpPr/>
          <p:nvPr/>
        </p:nvSpPr>
        <p:spPr>
          <a:xfrm>
            <a:off x="2546280" y="139680"/>
            <a:ext cx="6324840" cy="3200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我认为马夫和铁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是（             ）的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"/>
          <p:cNvSpPr/>
          <p:nvPr/>
        </p:nvSpPr>
        <p:spPr>
          <a:xfrm>
            <a:off x="1752480" y="1447920"/>
            <a:ext cx="6553440" cy="3047760"/>
          </a:xfrm>
          <a:prstGeom prst="cloudCallout">
            <a:avLst>
              <a:gd name="adj1" fmla="val -50726"/>
              <a:gd name="adj2" fmla="val 72500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国著名剧作家莎士比亚有一句名言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，马，一马失社稷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匹马怎么可能会让一个国家倾覆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495360" y="816120"/>
            <a:ext cx="133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小结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304920" y="204804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本文讲述了在查理三世与亨利伯爵的权杖决战中，由于马夫和铁匠的疏忽，作战少了一个马掌钉，导致查理王国失败的故事，告诫人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2594880" y="35053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成功取决于细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2"/>
          <p:cNvSpPr txBox="1"/>
          <p:nvPr/>
        </p:nvSpPr>
        <p:spPr>
          <a:xfrm>
            <a:off x="1450800" y="1298520"/>
            <a:ext cx="6399360" cy="274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练一练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2592360" y="6141960"/>
            <a:ext cx="50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793960" y="156852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少了一个（     ），丢了一只（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793960" y="265104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丢了一只（     ），跑了一匹（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793960" y="370188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跑了一匹（     ），败了一场（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2793960" y="4784760"/>
            <a:ext cx="360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败了一场（     ），失了一个（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838080" y="66996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联系课文内容填一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28600" y="1209240"/>
            <a:ext cx="8763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里之行，始于足下。                    老子《道德经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天下难事，必做于易；天下大事，必做于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子《道德经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里之堤，溃于蚁穴。                    韩非子《韩非子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海不择细流，故能成其大；山不推细壤，方能知其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李斯《谏逐客书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差之毫厘，谬以千里。                   《礼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经解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大礼不辞小让，细节决定成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汪中求《细节决定成败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304920" y="152280"/>
            <a:ext cx="221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读一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5029200" y="12193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>
            <a:off x="5105520" y="21337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"/>
          <p:cNvSpPr/>
          <p:nvPr/>
        </p:nvSpPr>
        <p:spPr>
          <a:xfrm>
            <a:off x="5105520" y="27432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5105520" y="3809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5181480" y="43434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9"/>
          <p:cNvSpPr/>
          <p:nvPr/>
        </p:nvSpPr>
        <p:spPr>
          <a:xfrm>
            <a:off x="4267080" y="53341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6BEB-71DB-4B4E-8E9F-3E766EA0F6B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20091013213218"/>
          <p:cNvPicPr/>
          <p:nvPr/>
        </p:nvPicPr>
        <p:blipFill>
          <a:blip r:embed="rId1"/>
          <a:stretch/>
        </p:blipFill>
        <p:spPr>
          <a:xfrm>
            <a:off x="1440" y="1450800"/>
            <a:ext cx="4341960" cy="408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20090225114248351"/>
          <p:cNvPicPr/>
          <p:nvPr/>
        </p:nvPicPr>
        <p:blipFill>
          <a:blip r:embed="rId2"/>
          <a:stretch/>
        </p:blipFill>
        <p:spPr>
          <a:xfrm>
            <a:off x="4343400" y="1447920"/>
            <a:ext cx="4800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20081206115440069090"/>
          <p:cNvPicPr/>
          <p:nvPr/>
        </p:nvPicPr>
        <p:blipFill>
          <a:blip r:embed="rId1"/>
          <a:stretch/>
        </p:blipFill>
        <p:spPr>
          <a:xfrm>
            <a:off x="76320" y="914400"/>
            <a:ext cx="4572000" cy="4952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m_7-575-34407575"/>
          <p:cNvPicPr/>
          <p:nvPr/>
        </p:nvPicPr>
        <p:blipFill>
          <a:blip r:embed="rId2"/>
          <a:stretch/>
        </p:blipFill>
        <p:spPr>
          <a:xfrm>
            <a:off x="4724280" y="9144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147389"/>
          <p:cNvPicPr/>
          <p:nvPr/>
        </p:nvPicPr>
        <p:blipFill>
          <a:blip r:embed="rId1"/>
          <a:stretch/>
        </p:blipFill>
        <p:spPr>
          <a:xfrm>
            <a:off x="1440" y="0"/>
            <a:ext cx="91458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1066680" y="838080"/>
            <a:ext cx="733680" cy="121464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3175"/>
                <a:lnTo>
                  <a:pt x="14402" y="21168"/>
                </a:lnTo>
                <a:lnTo>
                  <a:pt x="21600" y="17280"/>
                </a:lnTo>
                <a:lnTo>
                  <a:pt x="14402" y="12528"/>
                </a:lnTo>
                <a:lnTo>
                  <a:pt x="14402" y="14688"/>
                </a:lnTo>
                <a:arcTo wR="21600" hR="7560" stAng="8116825" swAng="2325740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141000" y="9144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mienne"/>
                <a:ea typeface="新宋体"/>
              </a:rPr>
              <a:t>走进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865880" y="23623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由朗读课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86120" y="32004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、读准字音，认清字形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073400" y="5029200"/>
            <a:ext cx="1000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、把握故事的前因后果及其发展的过程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535200" y="4114800"/>
            <a:ext cx="1289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、做到准确、流利、有感情地朗读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2209680" y="5715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90440" y="3631680"/>
            <a:ext cx="8763120" cy="16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为争夺英王国的权杖，国王查理三世与亨利伯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爵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jué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厮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sī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杀了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485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的冬季，在波斯沃斯城郊的荒原上，最后的决战即将打响，这场战斗将决定谁统治英国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战斗进行的当天早上，查理派马夫备好自己最喜欢的战马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赶快给它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[dìnɡ]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掌，”马夫对铁匠说，“国王要骑着它打头阵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你得等等，”铁匠回答，“我前几天给全军的马都钉了掌，现在我得找点儿铁片来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729760" y="609480"/>
            <a:ext cx="7642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  <a:ea typeface="楷体_GB2312"/>
              </a:rPr>
              <a:t>少一个马掌钉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190440" y="1104120"/>
            <a:ext cx="8763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我等不及了，”马夫不耐烦地叫道，“敌人正在推进，我们必须尽快地迎击敌兵，有什么你就用什么吧！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铁匠埋头干活，弄来四个旧马掌，把它们砸平、整形，固定在马蹄上，然后开始钉钉子。钉第四个掌时，他发现少了一颗钉子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我还要一颗钉子，”他说，“得需要点儿时间砸出来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我告诉过你，等不及了，”马夫急切地说，“我听见军号声了，你能不能凑合凑合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我能把马掌钉上，但是不能像其他几个那么牢实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90440" y="3729960"/>
            <a:ext cx="8763120" cy="16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能不能挂住？”马夫问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应该能，”铁匠回答，“但我没把握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好吧，就这样，”马夫叫道，“快点，要不然国王会怪罪到咱俩头上的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两军交锋。查理国王带头冲锋陷阵，领着士兵杀向敌人。远远地，他看见战场另一头自己的几个士兵在退却，便扬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 action="ppaction://hlinksldjump"/>
              </a:rPr>
              <a:t>鞭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iān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策马冲向那个缺口。可是，他还没走到一半，一只马掌掉了，战马跌翻在地，查理也被掀在地上。他还没来得及抓住</a:t>
            </a:r>
            <a:r>
              <a:rPr b="0" lang="zh-CN" sz="25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3" action="ppaction://hlinksldjump"/>
              </a:rPr>
              <a:t>缰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jiānɡ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绳，惊恐的战马就跳起来逃走了。士兵以为国王中箭身亡，纷纷掉头撤退。这时，亨利的军队趁势围了上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26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07:24Z</dcterms:modified>
  <cp:revision>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