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explode.wav" ContentType="audio/x-wav"/>
  <Override PartName="/ppt/media/image7.jpeg" ContentType="image/jpeg"/>
  <Override PartName="/ppt/media/image4.jpeg" ContentType="image/jpeg"/>
  <Override PartName="/ppt/media/hammer.wav" ContentType="audio/x-wav"/>
  <Override PartName="/ppt/media/image5.jpeg" ContentType="image/jpeg"/>
  <Override PartName="/ppt/media/image6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9-05T17:36:17.040000000" idx="1">
    <p:pos x="5688" y="3163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7F6D-B011-4E34-ABE8-F7E30F1E5E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15E1-C782-48BA-A625-390122A209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A9A-F75D-41FE-AE4D-A7012764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B68-6F24-4C76-9BC4-022DED08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878-6155-4DBD-A169-6DA0BEE4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0F9-4AFB-4BDB-A83D-95924D52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1AB-6EE9-4EA8-95BC-B9B8FC91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FAF-2747-445A-AD9F-62E1B116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6158-37D3-4869-9809-2B4796DB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C6B-83B0-47D9-BECE-2B16CA07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88E-741A-4D2A-8B20-5A7FE121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C14-CA42-4683-8BF6-AC01A8F0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96A-E645-40AA-AB9D-3E0006A5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003-B8D8-4C59-8C4E-541A5150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2CFD-2A8D-4C12-A898-5DD2C6D569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课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1" descr=""/>
          <p:cNvPicPr/>
          <p:nvPr/>
        </p:nvPicPr>
        <p:blipFill>
          <a:blip r:embed="rId2"/>
          <a:stretch/>
        </p:blipFill>
        <p:spPr>
          <a:xfrm>
            <a:off x="1819440" y="639720"/>
            <a:ext cx="6454440" cy="3154320"/>
          </a:xfrm>
          <a:prstGeom prst="rect">
            <a:avLst/>
          </a:prstGeom>
          <a:ln w="0">
            <a:noFill/>
          </a:ln>
        </p:spPr>
      </p:pic>
      <p:pic>
        <p:nvPicPr>
          <p:cNvPr id="50" name="矩形 10" descr=""/>
          <p:cNvPicPr/>
          <p:nvPr/>
        </p:nvPicPr>
        <p:blipFill>
          <a:blip r:embed="rId3"/>
          <a:stretch/>
        </p:blipFill>
        <p:spPr>
          <a:xfrm>
            <a:off x="1874880" y="5578560"/>
            <a:ext cx="5500800" cy="493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4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课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5998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为什么说天窗是神奇的呢？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活泼会想的孩子们会知道怎样通过天窗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中看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，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中看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，比任凭他看到的更真切，更阔达，更复杂，更确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0" y="228600"/>
            <a:ext cx="411480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整体感知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strips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课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33520" y="456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透过这扇天窗，文中的孩子看到了什么？又想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（要通过合理的想象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课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挥想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24000" y="112536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会从那小玻璃上面的一颗星，想象到无数闪闪烁烁可爱的星，它们（                        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会从那小玻璃上面的一朵云，想象到无数奇幻的云彩，有的像（           ）的山，有的像（       ）的马，有的像（             ）的巨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课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行楷"/>
              </a:rPr>
              <a:t>板书设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孩子们唯一的慰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 窗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看见           雨脚 闪电 星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想象            无穷无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905120" y="1828800"/>
            <a:ext cx="685800" cy="2590920"/>
          </a:xfrm>
          <a:custGeom>
            <a:avLst/>
            <a:gdLst>
              <a:gd name="textAreaLeft" fmla="*/ 438120 w 685800"/>
              <a:gd name="textAreaRight" fmla="*/ 686160 w 6858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课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0" y="260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作业和练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      </a:t>
            </a:r>
            <a:r>
              <a:rPr b="0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1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、选择自己喜欢的段落有感情地多读一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、在你无奈的时候，什么又是你的慰藉呢？</a:t>
            </a:r>
            <a:r>
              <a:rPr b="0" lang="zh-CN" sz="4800" spc="-1" strike="noStrike">
                <a:solidFill>
                  <a:srgbClr val="ff0066"/>
                </a:solidFill>
                <a:latin typeface="隶书"/>
                <a:ea typeface="隶书"/>
              </a:rPr>
              <a:t>是读书？看电视？还是摆弄什么小玩具？</a:t>
            </a:r>
            <a:r>
              <a:rPr b="0" lang="zh-CN" sz="1800" spc="-1" strike="noStrike">
                <a:solidFill>
                  <a:srgbClr val="ff0066"/>
                </a:solidFill>
                <a:latin typeface="隶书"/>
                <a:ea typeface="隶书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24DF-D0EE-4BB5-AD75-DEC3D364E2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课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29000" y="28080"/>
            <a:ext cx="55627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茅盾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89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981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，本名沈德鸿，字雁冰，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89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生于浙江桐乡县乌镇。中国二十世纪文学史上著名小说家、文学批评家。一生创作了大量的文学作品，具有很高的艺术成就。主要作品有：长篇小说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蚀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虹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子夜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一阶段的故事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中篇小说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路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三人行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短篇小说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春蚕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秋收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林家铺子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等。其代表作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子夜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是中国现代现实主义文学发展的里程碑，显示了现代文学在长篇小说创作方面的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a6aed01bb7dab2e1ae51334c"/>
          <p:cNvPicPr/>
          <p:nvPr/>
        </p:nvPicPr>
        <p:blipFill>
          <a:blip r:embed="rId2"/>
          <a:stretch/>
        </p:blipFill>
        <p:spPr>
          <a:xfrm>
            <a:off x="609480" y="1066680"/>
            <a:ext cx="2629080" cy="3645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14400" y="4952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3" name="hamm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课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天窗"/>
          <p:cNvPicPr/>
          <p:nvPr/>
        </p:nvPicPr>
        <p:blipFill>
          <a:blip r:embed="rId2"/>
          <a:stretch/>
        </p:blipFill>
        <p:spPr>
          <a:xfrm>
            <a:off x="2819520" y="0"/>
            <a:ext cx="6324480" cy="4724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6172200" y="47242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楷体_GBK"/>
              </a:rPr>
              <a:t>乡下的房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课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木板窗"/>
          <p:cNvPicPr/>
          <p:nvPr/>
        </p:nvPicPr>
        <p:blipFill>
          <a:blip r:embed="rId2"/>
          <a:stretch/>
        </p:blipFill>
        <p:spPr>
          <a:xfrm>
            <a:off x="2971800" y="0"/>
            <a:ext cx="6172200" cy="51055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1447920"/>
            <a:ext cx="2895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木板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课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词义：慰藉、神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读句子，体会比喻句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例：屋子里就黑得像地洞里似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。用“也许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‥‥‥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也许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‥‥‥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也许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‥‥‥”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造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课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2356560" y="26028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2663a"/>
                </a:solidFill>
                <a:latin typeface="Arial"/>
                <a:ea typeface="黑体"/>
              </a:rPr>
              <a:t>人们为什么要在屋面上开天窗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26920" y="1268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fe2e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9fe2e"/>
                </a:solidFill>
                <a:latin typeface="黑体"/>
                <a:ea typeface="黑体"/>
              </a:rPr>
              <a:t>乡下的房子，只有前面一排木板窗。暖和的晴天，木板窗扇扇打开，光线和空气都有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3520" y="33526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fe2e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f9fe2e"/>
                </a:solidFill>
                <a:latin typeface="Arial"/>
                <a:ea typeface="黑体"/>
              </a:rPr>
              <a:t>　　碰着大风大雨，或者北风呼呼的冬天，木板窗只好关起来，屋子里就像黑洞似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85800" y="510552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2663a"/>
                </a:solidFill>
                <a:latin typeface="Arial"/>
                <a:ea typeface="黑体"/>
              </a:rPr>
              <a:t>　　于是乡下人在屋面开一个小方洞，装一块玻璃，叫做天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Line 3"/>
          <p:cNvSpPr/>
          <p:nvPr/>
        </p:nvSpPr>
        <p:spPr>
          <a:xfrm flipV="1">
            <a:off x="2133720" y="3200400"/>
            <a:ext cx="4647960" cy="2209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380880" y="5181480"/>
            <a:ext cx="18288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看上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2592360" y="6035760"/>
            <a:ext cx="49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课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228600" y="380880"/>
            <a:ext cx="89154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小的天窗是孩子们唯一的慰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呢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孩子们跟着木板窗的关闭也就被关在地洞似的屋里的时候，天窗给漆黑的屋子带来的仅有的光明，通过天窗看见了雨点、闪电、星星、云彩。这些都是孩子们唯一的慰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课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1714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看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zh-CN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想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7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20"/>
          <p:cNvSpPr/>
          <p:nvPr/>
        </p:nvSpPr>
        <p:spPr>
          <a:xfrm>
            <a:off x="0" y="1989000"/>
            <a:ext cx="43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雨脚在那里卜落卜落跳，带子似的一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4681440" y="1693800"/>
            <a:ext cx="44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Arial"/>
              </a:rPr>
              <a:t>这雨，这风，这雷，这电怎样猛厉地扫荡了这世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Arial"/>
              </a:rPr>
              <a:t>它们的威力比你在露天真实感到的要大十倍百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24000" y="3860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一颗星，一朵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643280" y="357336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Arial"/>
              </a:rPr>
              <a:t>无数闪闪烁烁可爱的星；无数像山似的，马似的，巨人似的，奇幻的云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324000" y="5516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掠过的一条黑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4608360" y="519444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Arial"/>
              </a:rPr>
              <a:t>这也许是灰色的蝙蝠，也许是会唱歌的夜莺，也许是恶霸似的猫头鹰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  <p:sndAc>
      <p:stSnd>
        <p:snd r:embed="rId2" name="applause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15:47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9:35Z</dcterms:modified>
  <cp:revision>5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