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DB45-E997-4DAB-9E20-4D728F6B81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1255-42DC-4544-A108-BBFF2FD822C5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CE8-F5B5-4666-AA41-9928E0C6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3FE-A172-41B9-BC7E-D56AAD33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A36-A49F-408F-9F29-854EBC51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FCC-91C6-4416-A23D-B7248446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E716-7DCB-462E-8096-D15A9BEA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6528-2487-4D7E-B2D6-3225948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DF3-6036-4C8C-B6DE-F6E6F89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8FB6-F1AB-454E-876A-1418B20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4C6-98E1-4528-A766-0BB48ECF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2DD-113F-4C5E-8C01-5BD32100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B909-3872-4122-8CB5-7DEB42E6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930-6A11-412A-8E60-6AFD41E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121-7860-4D5B-B7FD-E67AC3F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7677-A173-40A3-B17B-CA23CAB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6413-963D-43B1-8250-B6555B7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954-0D24-4CBE-8272-9FEEED5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5EED-8820-4969-A4D5-976A1BED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A27-FF4B-42B9-9D9E-9DE6DB57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3D8-E919-4727-B58A-86649AF2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B2E-09C1-41B8-98B1-56A6171B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52E-C073-45E8-8381-A68DEB0E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368-9A1A-4EB3-9B22-22967B8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D5A-A6CF-4AC0-B339-71F16057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F3A-4671-445C-8232-8624090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CEB-99EA-4414-9820-E54F65ED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85D5-6A49-45A6-9D89-2A78BDC1567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" descr="p30唐僧取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唐僧取经</a:t>
            </a:r>
            <a:endParaRPr b="0" lang="en-US" sz="8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82700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7唐僧取经2a"/>
          <p:cNvPicPr/>
          <p:nvPr/>
        </p:nvPicPr>
        <p:blipFill>
          <a:blip r:embed="rId1"/>
          <a:stretch/>
        </p:blipFill>
        <p:spPr>
          <a:xfrm>
            <a:off x="4680" y="51444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971640" y="316404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畏艰难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锲而不舍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11280" y="549360"/>
            <a:ext cx="82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整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年，玄奘终于到达了印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几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学习，他成了最有学问的高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1125360"/>
            <a:ext cx="7956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说一说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你喜欢课文中的唐僧，还是喜欢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西游记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中的唐僧？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2036880" y="5654520"/>
            <a:ext cx="56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60D-C087-41C7-AC51-143CE91C08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8121710560906_2"/>
          <p:cNvPicPr/>
          <p:nvPr/>
        </p:nvPicPr>
        <p:blipFill>
          <a:blip r:embed="rId1"/>
          <a:stretch/>
        </p:blipFill>
        <p:spPr>
          <a:xfrm>
            <a:off x="539640" y="836640"/>
            <a:ext cx="4824360" cy="3093840"/>
          </a:xfrm>
          <a:prstGeom prst="rect">
            <a:avLst/>
          </a:prstGeom>
          <a:ln w="0">
            <a:noFill/>
          </a:ln>
        </p:spPr>
      </p:pic>
      <p:pic>
        <p:nvPicPr>
          <p:cNvPr id="93" name="敢问路在何方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6012000" y="1557360"/>
            <a:ext cx="23778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微软雅黑"/>
              </a:rPr>
              <a:t>西游记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微软雅黑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6516720" y="4869000"/>
            <a:ext cx="1440000" cy="792000"/>
            <a:chOff x="6516720" y="4869000"/>
            <a:chExt cx="1440000" cy="792000"/>
          </a:xfrm>
        </p:grpSpPr>
        <p:sp>
          <p:nvSpPr>
            <p:cNvPr id="96" name="AutoShape 6"/>
            <p:cNvSpPr/>
            <p:nvPr/>
          </p:nvSpPr>
          <p:spPr>
            <a:xfrm>
              <a:off x="6516720" y="4869000"/>
              <a:ext cx="1440000" cy="792000"/>
            </a:xfrm>
            <a:prstGeom prst="wedgeRoundRectCallout">
              <a:avLst>
                <a:gd name="adj1" fmla="val -189472"/>
                <a:gd name="adj2" fmla="val -417935"/>
                <a:gd name="adj3" fmla="val 16667"/>
              </a:avLst>
            </a:prstGeom>
            <a:solidFill>
              <a:srgbClr val="dc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6659640" y="5013360"/>
              <a:ext cx="1081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d31"/>
                  </a:solidFill>
                  <a:latin typeface="Arial"/>
                  <a:ea typeface="微软雅黑"/>
                </a:rPr>
                <a:t>沙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3276720" y="5445000"/>
            <a:ext cx="1582560" cy="792360"/>
            <a:chOff x="3276720" y="5445000"/>
            <a:chExt cx="1582560" cy="792360"/>
          </a:xfrm>
        </p:grpSpPr>
        <p:sp>
          <p:nvSpPr>
            <p:cNvPr id="99" name="AutoShape 9"/>
            <p:cNvSpPr/>
            <p:nvPr/>
          </p:nvSpPr>
          <p:spPr>
            <a:xfrm>
              <a:off x="3348000" y="5445000"/>
              <a:ext cx="1511280" cy="792360"/>
            </a:xfrm>
            <a:prstGeom prst="wedgeRoundRectCallout">
              <a:avLst>
                <a:gd name="adj1" fmla="val -29097"/>
                <a:gd name="adj2" fmla="val -344791"/>
                <a:gd name="adj3" fmla="val 16667"/>
              </a:avLst>
            </a:prstGeom>
            <a:solidFill>
              <a:srgbClr val="dc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3276720" y="5589720"/>
              <a:ext cx="151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d31"/>
                  </a:solidFill>
                  <a:latin typeface="Arial"/>
                  <a:ea typeface="微软雅黑"/>
                </a:rPr>
                <a:t>猪八戒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34920" y="5084640"/>
            <a:ext cx="1584360" cy="792360"/>
            <a:chOff x="34920" y="5084640"/>
            <a:chExt cx="1584360" cy="792360"/>
          </a:xfrm>
        </p:grpSpPr>
        <p:sp>
          <p:nvSpPr>
            <p:cNvPr id="102" name="AutoShape 12"/>
            <p:cNvSpPr/>
            <p:nvPr/>
          </p:nvSpPr>
          <p:spPr>
            <a:xfrm>
              <a:off x="179280" y="5084640"/>
              <a:ext cx="1440000" cy="792360"/>
            </a:xfrm>
            <a:prstGeom prst="wedgeRoundRectCallout">
              <a:avLst>
                <a:gd name="adj1" fmla="val 11962"/>
                <a:gd name="adj2" fmla="val -344791"/>
                <a:gd name="adj3" fmla="val 16667"/>
              </a:avLst>
            </a:prstGeom>
            <a:solidFill>
              <a:srgbClr val="dc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4920" y="5229360"/>
              <a:ext cx="151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d31"/>
                  </a:solidFill>
                  <a:latin typeface="Arial"/>
                  <a:ea typeface="微软雅黑"/>
                </a:rPr>
                <a:t>孙悟空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19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8121710560906_2"/>
          <p:cNvPicPr/>
          <p:nvPr/>
        </p:nvPicPr>
        <p:blipFill>
          <a:blip r:embed="rId1"/>
          <a:stretch/>
        </p:blipFill>
        <p:spPr>
          <a:xfrm>
            <a:off x="539640" y="836640"/>
            <a:ext cx="4824360" cy="3093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132000" y="836640"/>
            <a:ext cx="2232000" cy="3097080"/>
          </a:xfrm>
          <a:prstGeom prst="rect">
            <a:avLst/>
          </a:pr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836640"/>
            <a:ext cx="1150920" cy="3097080"/>
          </a:xfrm>
          <a:prstGeom prst="rect">
            <a:avLst/>
          </a:pr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39640" y="4797360"/>
            <a:ext cx="77043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4b00"/>
                </a:solidFill>
                <a:latin typeface="Arial"/>
                <a:ea typeface="微软雅黑"/>
              </a:rPr>
              <a:t>       </a:t>
            </a:r>
            <a:r>
              <a:rPr b="1" lang="zh-CN" sz="4800" spc="-1" strike="noStrike">
                <a:solidFill>
                  <a:srgbClr val="e24b00"/>
                </a:solidFill>
                <a:latin typeface="Arial"/>
                <a:ea typeface="微软雅黑"/>
              </a:rPr>
              <a:t>唐僧         原型：玄奘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763640" y="3933720"/>
            <a:ext cx="1440000" cy="1295640"/>
          </a:xfrm>
          <a:prstGeom prst="upArrow">
            <a:avLst>
              <a:gd name="adj1" fmla="val 55898"/>
              <a:gd name="adj2" fmla="val 48958"/>
            </a:avLst>
          </a:prstGeom>
          <a:solidFill>
            <a:srgbClr val="e2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 rot="5400000">
            <a:off x="3447720" y="4998960"/>
            <a:ext cx="863640" cy="1295640"/>
          </a:xfrm>
          <a:prstGeom prst="upArrow">
            <a:avLst>
              <a:gd name="adj1" fmla="val 55898"/>
              <a:gd name="adj2" fmla="val 73447"/>
            </a:avLst>
          </a:prstGeom>
          <a:solidFill>
            <a:srgbClr val="e2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580000" y="4762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唐代高僧，旅行家，本姓陈，名祎，俗称唐僧，唐三藏，他早年在全国各地学佛讲经，有感于佛经的翻译版本中错误很多，各派对经的解释、理解也不一致。于是，他决定前往佛教的发源地天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zhú)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古印度学习，求法取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20091029173321746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3132000" y="404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258920" y="1844640"/>
            <a:ext cx="7129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取经   和尚     研究    发源    瓜州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劝告   拿着     甘甜    解渴    忍受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扎    狂奔    一汪清泉        绿洲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坚持    整个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0"/>
          <p:cNvSpPr/>
          <p:nvPr/>
        </p:nvSpPr>
        <p:spPr>
          <a:xfrm>
            <a:off x="147636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Picture 2" descr="20091029173321746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132000" y="404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03280" y="2852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挣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2411280" y="263700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0364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ēng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挣扎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32000" y="378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èng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挣钱、挣断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2700360" y="2366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唐玄奘取经途中遇到怎样的困难？他是怎样做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3419640" y="333360"/>
            <a:ext cx="352728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边读边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3" name="Picture 8" descr="Noname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2916360" y="3860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书中勾画出有关语句，读一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468360" y="333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立志去西天取经，就是死在路上也心甘情愿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5364000" y="18104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沙漠里真热呀！玄奘解开皮水袋想喝口水，一不小心，水袋落到了地上，水全洒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6" descr="1217999529"/>
          <p:cNvPicPr/>
          <p:nvPr/>
        </p:nvPicPr>
        <p:blipFill>
          <a:blip r:embed="rId1"/>
          <a:stretch/>
        </p:blipFill>
        <p:spPr>
          <a:xfrm>
            <a:off x="0" y="0"/>
            <a:ext cx="51721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5364000" y="357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玄奘忍着干渴，继续前进。他一直坚持了四五天，最后渴得昏倒在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30唐僧取经"/>
          <p:cNvPicPr/>
          <p:nvPr/>
        </p:nvPicPr>
        <p:blipFill>
          <a:blip r:embed="rId1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什么力量使玄奘能在这样艰难的条件下继续前行的呢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550280" y="2132640"/>
            <a:ext cx="129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执著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6:16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9:25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