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76AE-45B5-40FD-8C72-8B25A45A29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2C37-DC02-41CE-B5C3-6E3EAB65B8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0D5-413A-4B97-BDA9-0A35EADF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480-E0F2-42AB-B1A1-5567D7C3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64A-195B-4A83-8648-172DA581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2C3-1F99-4377-B264-4B420967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FB1-8491-438A-8D8B-C2592DDF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969-1D9E-4EC6-9F43-9962829B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333-94B6-498E-BC91-B4F26888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597-E93E-4B60-821A-3E207D5D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E0D-25B6-4E2A-92BC-E4509B11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9DA-1D62-4630-8A92-B4DD86A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015-EAF2-4D99-AF68-8EF67E2D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998-4C9B-41AE-8FDE-26F30F3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FCF5-DE3B-4297-B804-9ABBA924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47H58PICp6K_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天涯情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423756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林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1874520" y="5557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牛津包：牛津布做的包，以英国牛津大学命名，早期为该校学生校服面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0111018091259451"/>
          <p:cNvPicPr/>
          <p:nvPr/>
        </p:nvPicPr>
        <p:blipFill>
          <a:blip r:embed="rId1"/>
          <a:stretch/>
        </p:blipFill>
        <p:spPr>
          <a:xfrm>
            <a:off x="3733920" y="1905120"/>
            <a:ext cx="3638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澳大利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707401_230548836000_2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20100826033101125B"/>
          <p:cNvPicPr/>
          <p:nvPr/>
        </p:nvPicPr>
        <p:blipFill>
          <a:blip r:embed="rId1"/>
          <a:stretch/>
        </p:blipFill>
        <p:spPr>
          <a:xfrm>
            <a:off x="343080" y="457200"/>
            <a:ext cx="8305560" cy="567216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"/>
          <p:cNvSpPr/>
          <p:nvPr/>
        </p:nvSpPr>
        <p:spPr>
          <a:xfrm>
            <a:off x="1339920" y="6238800"/>
            <a:ext cx="50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120040001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D747-BF70-444B-B297-C1D0AF03A2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ppt18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714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弥漫   不禁一怔    肤色   牛津包   镶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撩起      嗅到     茉莉      踌躇      伫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知所措     噙满了泪水   天涯     同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倏地    温馨     哽咽    阿姨    澳大利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橘红色     键钮    一瞬间    瞥见    嗫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838080" y="609480"/>
            <a:ext cx="533520" cy="5335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8de97632hba2f73e03373&amp;690"/>
          <p:cNvPicPr/>
          <p:nvPr/>
        </p:nvPicPr>
        <p:blipFill>
          <a:blip r:embed="rId1"/>
          <a:stretch/>
        </p:blipFill>
        <p:spPr>
          <a:xfrm>
            <a:off x="190440" y="146160"/>
            <a:ext cx="8763120" cy="6565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4304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行     尽     便     发     露      难     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8" descr="8de97632hba2f7365ac9c&amp;690"/>
          <p:cNvPicPr/>
          <p:nvPr/>
        </p:nvPicPr>
        <p:blipFill>
          <a:blip r:embed="rId1"/>
          <a:stretch/>
        </p:blipFill>
        <p:spPr>
          <a:xfrm>
            <a:off x="190440" y="146160"/>
            <a:ext cx="8763120" cy="6565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形近字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838080" y="198108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143000" y="18288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键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键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066680" y="2819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健（健康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4724280" y="190512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029200" y="18288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镶（镶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5029200" y="2286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壤（土壤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029200" y="2819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嚷（嚷叫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838080" y="3809880"/>
            <a:ext cx="76320" cy="1524240"/>
          </a:xfrm>
          <a:custGeom>
            <a:avLst/>
            <a:gdLst>
              <a:gd name="textAreaLeft" fmla="*/ 48960 w 76320"/>
              <a:gd name="textAreaRight" fmla="*/ 76320 w 763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143000" y="3733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漫（弥漫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1143000" y="46483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慢（快慢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/>
          <p:cNvSpPr/>
          <p:nvPr/>
        </p:nvSpPr>
        <p:spPr>
          <a:xfrm>
            <a:off x="4800600" y="373392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4952880" y="3581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掩（掩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952880" y="45720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淹（淹没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ppt18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近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畅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舒畅             悠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闲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忧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忧虑             忧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忧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弥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充满             强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剧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缘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原因             焦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着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关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关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pt18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反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寂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喧闹               悠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忙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热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冷淡               焦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沉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知所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从容自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47H58PICp6K_1024"/>
          <p:cNvPicPr/>
          <p:nvPr/>
        </p:nvPicPr>
        <p:blipFill>
          <a:blip r:embed="rId1"/>
          <a:stretch/>
        </p:blipFill>
        <p:spPr>
          <a:xfrm>
            <a:off x="162000" y="128520"/>
            <a:ext cx="8820000" cy="6600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寂静：没有声音，很静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晰：清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瞥见：无意中看见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询问：打听情况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流泻：迅速地流出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畅快：舒畅快乐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几乎：表示十分接近，差不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迈：年纪大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惊疑：惊讶疑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47H58PICp6K_1024"/>
          <p:cNvPicPr/>
          <p:nvPr/>
        </p:nvPicPr>
        <p:blipFill>
          <a:blip r:embed="rId1"/>
          <a:stretch/>
        </p:blipFill>
        <p:spPr>
          <a:xfrm>
            <a:off x="162000" y="128520"/>
            <a:ext cx="8820000" cy="6600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3080" y="2437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忧愁：因遭遇困难或不如意的事而苦闷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伫立：长时间地站立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愣：形容失神的样子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知所措：不知道怎么办才好，形容为难或着急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震撼：震动；摇撼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同胞：本课指同一个国家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47H58PICp6K_1024"/>
          <p:cNvPicPr/>
          <p:nvPr/>
        </p:nvPicPr>
        <p:blipFill>
          <a:blip r:embed="rId1"/>
          <a:stretch/>
        </p:blipFill>
        <p:spPr>
          <a:xfrm>
            <a:off x="162000" y="128520"/>
            <a:ext cx="8820000" cy="6600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温馨：温和芳香；温暖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哽咽：哭的时候不能痛快地发出声音疏落：稀疏零落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嗫嚅：形容想说话而又吞吞吐吐不敢说出来的样子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禁一怔：形容惊讶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踌躇：本课是停留的意思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倏地：极快地；迅速地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13:24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9:15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