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5.gif" ContentType="image/gif"/>
  <Override PartName="/ppt/media/image8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explode.wav" ContentType="audio/x-wav"/>
  <Override PartName="/ppt/media/wind.wav" ContentType="audio/x-wav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00D8-CFAC-49E3-B761-36D2EBFF88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5EF5-BA6A-4FC5-98E5-A63FEA5E60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D18-9292-49D6-9F02-EA8225E9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706-25E8-4EE2-A62E-32210A31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3C2-1FAB-46E3-A0D8-7458F854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279-D6E6-4341-AE9F-C1102F6A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458-4E91-4EAE-8316-85723041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C6D-7315-49F5-873C-970877F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569-4EC7-428C-A06A-FCC42B7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F08-BA9A-4A68-8A5C-DF7FBF8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EA0-A44A-4AF9-9087-086C006C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49D-1346-4869-9060-1ECF423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378-F607-47A7-AF58-03DB18E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D7C-697B-4A44-8DB8-B9EC5489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C03-F389-4E1C-934D-D05510A99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3"/>
          <p:cNvPicPr/>
          <p:nvPr/>
        </p:nvPicPr>
        <p:blipFill>
          <a:blip r:embed="rId1"/>
          <a:stretch/>
        </p:blipFill>
        <p:spPr>
          <a:xfrm>
            <a:off x="1581120" y="2276640"/>
            <a:ext cx="6085080" cy="372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524680" y="1052640"/>
            <a:ext cx="419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7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我不是最弱小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7920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55640" y="836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68360" y="836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萨沙掀起雨衣，轻轻地遮在蔷薇花上，问道：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，现在我还是最弱小的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836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8360" y="836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萨沙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掀起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雨衣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轻轻地遮在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蔷薇花上，问道：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，现在我还是最弱小的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"/>
          <p:cNvPicPr/>
          <p:nvPr/>
        </p:nvPicPr>
        <p:blipFill>
          <a:blip r:embed="rId1"/>
          <a:stretch/>
        </p:blipFill>
        <p:spPr>
          <a:xfrm>
            <a:off x="0" y="-601560"/>
            <a:ext cx="9144000" cy="4751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4005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被铃兰花簇拥着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开出了第一朵粉红色的花。带着露珠的花朵随风舞动，芬芳扑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0" y="-601560"/>
            <a:ext cx="9144000" cy="4751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0920" y="4005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被铃兰花簇拥着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开出了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一朵粉红色的花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带着露珠的花朵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随风舞动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芬芳扑鼻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4221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大雨已经打掉了两片蔷薇花瓣，花儿无力地垂着头，显得更加娇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蔷薇1"/>
          <p:cNvPicPr/>
          <p:nvPr/>
        </p:nvPicPr>
        <p:blipFill>
          <a:blip r:embed="rId1"/>
          <a:stretch/>
        </p:blipFill>
        <p:spPr>
          <a:xfrm>
            <a:off x="0" y="0"/>
            <a:ext cx="896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4221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大雨已经打掉了两片蔷薇花瓣，花儿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无力地垂着头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显得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更加娇嫩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蔷薇1"/>
          <p:cNvPicPr/>
          <p:nvPr/>
        </p:nvPicPr>
        <p:blipFill>
          <a:blip r:embed="rId1"/>
          <a:stretch/>
        </p:blipFill>
        <p:spPr>
          <a:xfrm>
            <a:off x="0" y="0"/>
            <a:ext cx="896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24000" y="15732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萨沙不解地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您和托利亚都需要雨衣呀，为什么要给我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24000" y="2349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萨沙又问：“这就是说，我是最弱小的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4000" y="306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是你谁也保护不了，那你就是最弱小的。”妈妈说着摸了摸萨沙的脑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95280" y="1268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回答说：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我们应该保护比自己弱小的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95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9337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萨沙掀起雨衣，轻轻地遮在蔷薇花上，问道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现在我还是最弱小的吗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妈妈笑着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，不，你能保护更弱小的，你是勇敢的孩子啦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95280" y="162864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一个周末，五岁的（      ）和哥哥（         ），跟（       ）一起到森林中去玩。在他们赏花聊天的时候，突然下起了（             ）。妈妈把雨衣递给（           ），（          ）又把雨衣递给了（      ）。最后，（      ）掀起雨衣，遮住了（           ）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6948360" y="4581360"/>
            <a:ext cx="7164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7308720" y="3213000"/>
            <a:ext cx="7164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6012000" y="4797360"/>
            <a:ext cx="71280" cy="142920"/>
          </a:xfrm>
          <a:prstGeom prst="ellipse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659640" y="1628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90920" y="22096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477120" y="2209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家人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48320" y="3276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倾盆大雨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219320" y="441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809880" y="38098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托利亚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181480" y="495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66680" y="495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萨沙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581280" y="5562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ahoma"/>
              </a:rPr>
              <a:t>蔷薇花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PM_001"/>
          <p:cNvPicPr/>
          <p:nvPr/>
        </p:nvPicPr>
        <p:blipFill>
          <a:blip r:embed="rId1"/>
          <a:stretch/>
        </p:blipFill>
        <p:spPr>
          <a:xfrm>
            <a:off x="0" y="-298440"/>
            <a:ext cx="9539280" cy="72342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/>
          <p:cNvSpPr/>
          <p:nvPr/>
        </p:nvSpPr>
        <p:spPr>
          <a:xfrm>
            <a:off x="755640" y="692280"/>
            <a:ext cx="7056360" cy="4392360"/>
          </a:xfrm>
          <a:prstGeom prst="cloudCallout">
            <a:avLst>
              <a:gd name="adj1" fmla="val 24939"/>
              <a:gd name="adj2" fmla="val 7981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042920" y="54936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分组讨论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16000" y="1484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自由朗读一、二自然段。想一想森林美吗？从哪些语句可以看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16000" y="3357720"/>
            <a:ext cx="633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还在森林中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那你想对野蔷薇说点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333360"/>
            <a:ext cx="81360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ò         mò   xiān    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弱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周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起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利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à        cù      l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沙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拥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兰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ì        jiāo    qī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嫩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盆大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ēn fāng        liáo      s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芬    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天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舞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0"/>
            <a:ext cx="4643280" cy="486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_2_01"/>
          <p:cNvPicPr/>
          <p:nvPr/>
        </p:nvPicPr>
        <p:blipFill>
          <a:blip r:embed="rId2"/>
          <a:stretch/>
        </p:blipFill>
        <p:spPr>
          <a:xfrm>
            <a:off x="0" y="0"/>
            <a:ext cx="4392720" cy="4869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50920" y="494028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夏天的一个周末，五岁的萨沙和哥哥托利亚，跟父母在一起到森林中去玩。森林里的景色是那么美好，空气是那么清新。他们来到林中的一片空地。那里盛开着美丽的铃兰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237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senlin"/>
          <p:cNvPicPr/>
          <p:nvPr/>
        </p:nvPicPr>
        <p:blipFill>
          <a:blip r:embed="rId1"/>
          <a:srcRect l="35412" t="0" r="12509" b="0"/>
          <a:stretch/>
        </p:blipFill>
        <p:spPr>
          <a:xfrm>
            <a:off x="4500720" y="0"/>
            <a:ext cx="4643280" cy="486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_2_01"/>
          <p:cNvPicPr/>
          <p:nvPr/>
        </p:nvPicPr>
        <p:blipFill>
          <a:blip r:embed="rId2"/>
          <a:stretch/>
        </p:blipFill>
        <p:spPr>
          <a:xfrm>
            <a:off x="0" y="0"/>
            <a:ext cx="4392720" cy="486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50920" y="4940280"/>
            <a:ext cx="88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夏天的一个周末，五岁的萨沙和哥哥托利亚，跟父母在一起到森林中去玩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森林里的景色是那么美好，空气是那么清新。他们来到林中的一片空地。那里盛开着美丽的铃兰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一个美丽的故事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4237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铃兰花"/>
          <p:cNvPicPr/>
          <p:nvPr/>
        </p:nvPicPr>
        <p:blipFill>
          <a:blip r:embed="rId1"/>
          <a:stretch/>
        </p:blipFill>
        <p:spPr>
          <a:xfrm>
            <a:off x="684360" y="0"/>
            <a:ext cx="7326000" cy="5062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973080" y="54450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0" y="5467320"/>
            <a:ext cx="60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真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"/>
          <p:cNvPicPr/>
          <p:nvPr/>
        </p:nvPicPr>
        <p:blipFill>
          <a:blip r:embed="rId1"/>
          <a:stretch/>
        </p:blipFill>
        <p:spPr>
          <a:xfrm>
            <a:off x="0" y="-601560"/>
            <a:ext cx="9144000" cy="4751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铃兰花簇拥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出了第一朵粉红色的花。带着露珠的花朵随风舞动，芬芳扑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watch12.mpg" descr=""/>
          <p:cNvPicPr/>
          <p:nvPr/>
        </p:nvPicPr>
        <p:blipFill>
          <a:blip r:embed="rId2"/>
          <a:stretch/>
        </p:blipFill>
        <p:spPr>
          <a:xfrm>
            <a:off x="8532720" y="4724280"/>
            <a:ext cx="30816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3059280" y="5084640"/>
            <a:ext cx="324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蔷薇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33" name="Picture 3" descr="野蔷薇一"/>
          <p:cNvPicPr/>
          <p:nvPr/>
        </p:nvPicPr>
        <p:blipFill>
          <a:blip r:embed="rId1"/>
          <a:stretch/>
        </p:blipFill>
        <p:spPr>
          <a:xfrm>
            <a:off x="1619280" y="-25560"/>
            <a:ext cx="655308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"/>
          <p:cNvPicPr/>
          <p:nvPr/>
        </p:nvPicPr>
        <p:blipFill>
          <a:blip r:embed="rId1"/>
          <a:stretch/>
        </p:blipFill>
        <p:spPr>
          <a:xfrm>
            <a:off x="0" y="-601560"/>
            <a:ext cx="9144000" cy="4751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5589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4581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原来有一丛野蔷薇</a:t>
            </a:r>
            <a:r>
              <a:rPr b="1" lang="en-US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被铃兰花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簇拥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着</a:t>
            </a:r>
            <a:r>
              <a:rPr b="1" lang="en-US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开出了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第一朵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粉红色的花。带着露珠的花朵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随风舞动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芬芳扑鼻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395280" y="4291920"/>
            <a:ext cx="97203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妈妈赶紧把雨衣递给身边的托利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托利亚把雨衣给了萨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24000" y="15732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萨沙不解地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，您和托利亚都需要雨衣呀，为什么要给我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2349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萨沙又问：“这就是说，我是最弱小的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24000" y="306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是你谁也保护不了，那你就是最弱小的。”妈妈说着摸了摸萨沙的脑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95280" y="1268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回答说：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我们应该保护比自己弱小的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95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9337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萨沙掀起雨衣，轻轻地遮在蔷薇花上，问道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现在我还是最弱小的吗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妈妈笑着说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，不，你能保护更弱小的，你是勇敢的孩子啦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0920" y="472428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大雨已经打掉了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两片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蔷薇花瓣，花儿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无力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地垂着头，显得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更加娇嫩</a:t>
            </a: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蔷薇1"/>
          <p:cNvPicPr/>
          <p:nvPr/>
        </p:nvPicPr>
        <p:blipFill>
          <a:blip r:embed="rId1"/>
          <a:stretch/>
        </p:blipFill>
        <p:spPr>
          <a:xfrm>
            <a:off x="0" y="0"/>
            <a:ext cx="896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68360" y="333360"/>
            <a:ext cx="81360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ò       mò      xiān      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弱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末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à         cù       líng      d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铃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iāo       qīng    fēn      li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娇          倾       芬        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āng      su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724040" y="618984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托"/>
          <p:cNvPicPr/>
          <p:nvPr/>
        </p:nvPicPr>
        <p:blipFill>
          <a:blip r:embed="rId1"/>
          <a:stretch/>
        </p:blipFill>
        <p:spPr>
          <a:xfrm>
            <a:off x="971640" y="3352680"/>
            <a:ext cx="2952720" cy="277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扑"/>
          <p:cNvPicPr/>
          <p:nvPr/>
        </p:nvPicPr>
        <p:blipFill>
          <a:blip r:embed="rId2"/>
          <a:stretch/>
        </p:blipFill>
        <p:spPr>
          <a:xfrm>
            <a:off x="3132000" y="260280"/>
            <a:ext cx="2952720" cy="290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摸"/>
          <p:cNvPicPr/>
          <p:nvPr/>
        </p:nvPicPr>
        <p:blipFill>
          <a:blip r:embed="rId3"/>
          <a:stretch/>
        </p:blipFill>
        <p:spPr>
          <a:xfrm>
            <a:off x="5364000" y="3332160"/>
            <a:ext cx="2953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E97B-6223-4C6E-80A2-9860AE43C0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68360" y="333360"/>
            <a:ext cx="81360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弱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周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末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起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利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沙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拥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兰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递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嫩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盆大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芬    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天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舞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916360" y="4869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"/>
          <p:cNvSpPr txBox="1"/>
          <p:nvPr/>
        </p:nvSpPr>
        <p:spPr>
          <a:xfrm>
            <a:off x="2340000" y="260280"/>
            <a:ext cx="324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蔷薇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7" name="Picture 3" descr="野蔷薇一"/>
          <p:cNvPicPr/>
          <p:nvPr/>
        </p:nvPicPr>
        <p:blipFill>
          <a:blip r:embed="rId1"/>
          <a:stretch/>
        </p:blipFill>
        <p:spPr>
          <a:xfrm>
            <a:off x="1403280" y="19432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2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715000" y="1295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雷声大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715000" y="1295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雷声大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7433099586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791320" y="304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大雨如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796000" y="3333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大雨如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50920" y="242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雷声大作，天上飘下几滴雨点，紧接着，下起了倾盆大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 flipH="1">
            <a:off x="2627280" y="3716280"/>
            <a:ext cx="201600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95280" y="404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雷声大作，天上飘下几滴雨点，紧接着，下起了倾盆大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321300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狂风暴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58920" y="4365720"/>
            <a:ext cx="31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瓢泼大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332000" y="544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疾风骤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2276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滂沱大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84360" y="1916280"/>
            <a:ext cx="151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76360" y="1989000"/>
            <a:ext cx="180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ó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2771280" y="1557360"/>
            <a:ext cx="201636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2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50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