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CD12-31CC-4AE2-AE55-672CC79A3AF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3BB4-89AB-42F8-95D3-27C422B5438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7D20-80D8-4532-B17B-B920E3775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AE0D-25F8-456A-AAAF-0647B500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9414-8C3D-4F48-B3D5-843C0DC4A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B445-9149-4BD1-BEC4-697E1C38D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0866-E295-4A07-B7AC-88BE0230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D39B-D7FF-4431-A268-62B5F1B4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7D1B-BB44-40C0-8B32-9403A6A0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6C25-892B-4B2F-BD25-32482839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539F-A24E-4A84-83DC-F5586A4B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6DFC-B43E-49FD-9357-CF326094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8827-6F06-4B98-BA8B-544B48DF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5B42-0418-441C-8941-75573A84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D619-FDE5-49E7-9C29-2413E0DCD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2.xml"/><Relationship Id="rId5" Type="http://schemas.openxmlformats.org/officeDocument/2006/relationships/slide" Target="slide14.xml"/><Relationship Id="rId6" Type="http://schemas.openxmlformats.org/officeDocument/2006/relationships/slide" Target="slide13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4" descr="五彩池2"/>
          <p:cNvPicPr/>
          <p:nvPr/>
        </p:nvPicPr>
        <p:blipFill>
          <a:blip r:embed="rId1"/>
          <a:stretch/>
        </p:blipFill>
        <p:spPr>
          <a:xfrm>
            <a:off x="34920" y="87624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4">
            <a:hlinkClick r:id="rId2" action="ppaction://hlinksldjump"/>
          </p:cNvPr>
          <p:cNvSpPr/>
          <p:nvPr/>
        </p:nvSpPr>
        <p:spPr>
          <a:xfrm>
            <a:off x="179280" y="6326280"/>
            <a:ext cx="1511280" cy="404640"/>
          </a:xfrm>
          <a:custGeom>
            <a:avLst/>
            <a:gdLst>
              <a:gd name="textAreaLeft" fmla="*/ 25920 w 1511280"/>
              <a:gd name="textAreaRight" fmla="*/ 1485360 w 1511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80621" h="21600">
                <a:moveTo>
                  <a:pt x="0" y="0"/>
                </a:moveTo>
                <a:lnTo>
                  <a:pt x="80621" y="0"/>
                </a:lnTo>
                <a:lnTo>
                  <a:pt x="80621" y="21600"/>
                </a:lnTo>
                <a:lnTo>
                  <a:pt x="0" y="21600"/>
                </a:lnTo>
                <a:close/>
              </a:path>
              <a:path fill="lightenLess" w="80621" h="21600">
                <a:moveTo>
                  <a:pt x="0" y="0"/>
                </a:moveTo>
                <a:lnTo>
                  <a:pt x="80621" y="0"/>
                </a:lnTo>
                <a:lnTo>
                  <a:pt x="79221" y="1400"/>
                </a:lnTo>
                <a:lnTo>
                  <a:pt x="1400" y="1400"/>
                </a:lnTo>
                <a:close/>
              </a:path>
              <a:path fill="darken" w="80621" h="21600">
                <a:moveTo>
                  <a:pt x="80621" y="0"/>
                </a:moveTo>
                <a:lnTo>
                  <a:pt x="80621" y="21600"/>
                </a:lnTo>
                <a:lnTo>
                  <a:pt x="79221" y="20200"/>
                </a:lnTo>
                <a:lnTo>
                  <a:pt x="79221" y="1400"/>
                </a:lnTo>
                <a:close/>
              </a:path>
              <a:path fill="darkenLess" w="80621" h="21600">
                <a:moveTo>
                  <a:pt x="806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221" y="20200"/>
                </a:lnTo>
                <a:close/>
              </a:path>
              <a:path fill="lighten" w="806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>
            <a:hlinkClick r:id="rId3" action="ppaction://hlinksldjump"/>
          </p:cNvPr>
          <p:cNvSpPr/>
          <p:nvPr/>
        </p:nvSpPr>
        <p:spPr>
          <a:xfrm>
            <a:off x="1979640" y="6308640"/>
            <a:ext cx="1511280" cy="405000"/>
          </a:xfrm>
          <a:custGeom>
            <a:avLst/>
            <a:gdLst>
              <a:gd name="textAreaLeft" fmla="*/ 25920 w 1511280"/>
              <a:gd name="textAreaRight" fmla="*/ 1485360 w 1511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80549" h="21600">
                <a:moveTo>
                  <a:pt x="0" y="0"/>
                </a:moveTo>
                <a:lnTo>
                  <a:pt x="80549" y="0"/>
                </a:lnTo>
                <a:lnTo>
                  <a:pt x="80549" y="21600"/>
                </a:lnTo>
                <a:lnTo>
                  <a:pt x="0" y="21600"/>
                </a:lnTo>
                <a:close/>
              </a:path>
              <a:path fill="lightenLess" w="80549" h="21600">
                <a:moveTo>
                  <a:pt x="0" y="0"/>
                </a:moveTo>
                <a:lnTo>
                  <a:pt x="80549" y="0"/>
                </a:lnTo>
                <a:lnTo>
                  <a:pt x="79149" y="1400"/>
                </a:lnTo>
                <a:lnTo>
                  <a:pt x="1400" y="1400"/>
                </a:lnTo>
                <a:close/>
              </a:path>
              <a:path fill="darken" w="80549" h="21600">
                <a:moveTo>
                  <a:pt x="80549" y="0"/>
                </a:moveTo>
                <a:lnTo>
                  <a:pt x="80549" y="21600"/>
                </a:lnTo>
                <a:lnTo>
                  <a:pt x="79149" y="20200"/>
                </a:lnTo>
                <a:lnTo>
                  <a:pt x="79149" y="1400"/>
                </a:lnTo>
                <a:close/>
              </a:path>
              <a:path fill="darkenLess" w="80549" h="21600">
                <a:moveTo>
                  <a:pt x="80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149" y="20200"/>
                </a:lnTo>
                <a:close/>
              </a:path>
              <a:path fill="lighten" w="80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品悟课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>
            <a:hlinkClick r:id="rId4" action="ppaction://hlinksldjump"/>
          </p:cNvPr>
          <p:cNvSpPr/>
          <p:nvPr/>
        </p:nvSpPr>
        <p:spPr>
          <a:xfrm>
            <a:off x="3851280" y="6308640"/>
            <a:ext cx="1511280" cy="405000"/>
          </a:xfrm>
          <a:custGeom>
            <a:avLst/>
            <a:gdLst>
              <a:gd name="textAreaLeft" fmla="*/ 25920 w 1511280"/>
              <a:gd name="textAreaRight" fmla="*/ 1485360 w 1511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80549" h="21600">
                <a:moveTo>
                  <a:pt x="0" y="0"/>
                </a:moveTo>
                <a:lnTo>
                  <a:pt x="80549" y="0"/>
                </a:lnTo>
                <a:lnTo>
                  <a:pt x="80549" y="21600"/>
                </a:lnTo>
                <a:lnTo>
                  <a:pt x="0" y="21600"/>
                </a:lnTo>
                <a:close/>
              </a:path>
              <a:path fill="lightenLess" w="80549" h="21600">
                <a:moveTo>
                  <a:pt x="0" y="0"/>
                </a:moveTo>
                <a:lnTo>
                  <a:pt x="80549" y="0"/>
                </a:lnTo>
                <a:lnTo>
                  <a:pt x="79149" y="1400"/>
                </a:lnTo>
                <a:lnTo>
                  <a:pt x="1400" y="1400"/>
                </a:lnTo>
                <a:close/>
              </a:path>
              <a:path fill="darken" w="80549" h="21600">
                <a:moveTo>
                  <a:pt x="80549" y="0"/>
                </a:moveTo>
                <a:lnTo>
                  <a:pt x="80549" y="21600"/>
                </a:lnTo>
                <a:lnTo>
                  <a:pt x="79149" y="20200"/>
                </a:lnTo>
                <a:lnTo>
                  <a:pt x="79149" y="1400"/>
                </a:lnTo>
                <a:close/>
              </a:path>
              <a:path fill="darkenLess" w="80549" h="21600">
                <a:moveTo>
                  <a:pt x="80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149" y="20200"/>
                </a:lnTo>
                <a:close/>
              </a:path>
              <a:path fill="lighten" w="80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五彩池风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7">
            <a:hlinkClick r:id="rId5" action="ppaction://hlinksldjump"/>
          </p:cNvPr>
          <p:cNvSpPr/>
          <p:nvPr/>
        </p:nvSpPr>
        <p:spPr>
          <a:xfrm>
            <a:off x="7451640" y="6308640"/>
            <a:ext cx="1511280" cy="405000"/>
          </a:xfrm>
          <a:custGeom>
            <a:avLst/>
            <a:gdLst>
              <a:gd name="textAreaLeft" fmla="*/ 25920 w 1511280"/>
              <a:gd name="textAreaRight" fmla="*/ 1485360 w 1511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80549" h="21600">
                <a:moveTo>
                  <a:pt x="0" y="0"/>
                </a:moveTo>
                <a:lnTo>
                  <a:pt x="80549" y="0"/>
                </a:lnTo>
                <a:lnTo>
                  <a:pt x="80549" y="21600"/>
                </a:lnTo>
                <a:lnTo>
                  <a:pt x="0" y="21600"/>
                </a:lnTo>
                <a:close/>
              </a:path>
              <a:path fill="lightenLess" w="80549" h="21600">
                <a:moveTo>
                  <a:pt x="0" y="0"/>
                </a:moveTo>
                <a:lnTo>
                  <a:pt x="80549" y="0"/>
                </a:lnTo>
                <a:lnTo>
                  <a:pt x="79149" y="1400"/>
                </a:lnTo>
                <a:lnTo>
                  <a:pt x="1400" y="1400"/>
                </a:lnTo>
                <a:close/>
              </a:path>
              <a:path fill="darken" w="80549" h="21600">
                <a:moveTo>
                  <a:pt x="80549" y="0"/>
                </a:moveTo>
                <a:lnTo>
                  <a:pt x="80549" y="21600"/>
                </a:lnTo>
                <a:lnTo>
                  <a:pt x="79149" y="20200"/>
                </a:lnTo>
                <a:lnTo>
                  <a:pt x="79149" y="1400"/>
                </a:lnTo>
                <a:close/>
              </a:path>
              <a:path fill="darkenLess" w="80549" h="21600">
                <a:moveTo>
                  <a:pt x="80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149" y="20200"/>
                </a:lnTo>
                <a:close/>
              </a:path>
              <a:path fill="lighten" w="80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课外拓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8">
            <a:hlinkClick r:id="rId6" action="ppaction://hlinksldjump"/>
          </p:cNvPr>
          <p:cNvSpPr/>
          <p:nvPr/>
        </p:nvSpPr>
        <p:spPr>
          <a:xfrm>
            <a:off x="5651640" y="6308640"/>
            <a:ext cx="1511280" cy="405000"/>
          </a:xfrm>
          <a:custGeom>
            <a:avLst/>
            <a:gdLst>
              <a:gd name="textAreaLeft" fmla="*/ 25920 w 1511280"/>
              <a:gd name="textAreaRight" fmla="*/ 1485360 w 1511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80549" h="21600">
                <a:moveTo>
                  <a:pt x="0" y="0"/>
                </a:moveTo>
                <a:lnTo>
                  <a:pt x="80549" y="0"/>
                </a:lnTo>
                <a:lnTo>
                  <a:pt x="80549" y="21600"/>
                </a:lnTo>
                <a:lnTo>
                  <a:pt x="0" y="21600"/>
                </a:lnTo>
                <a:close/>
              </a:path>
              <a:path fill="lightenLess" w="80549" h="21600">
                <a:moveTo>
                  <a:pt x="0" y="0"/>
                </a:moveTo>
                <a:lnTo>
                  <a:pt x="80549" y="0"/>
                </a:lnTo>
                <a:lnTo>
                  <a:pt x="79149" y="1400"/>
                </a:lnTo>
                <a:lnTo>
                  <a:pt x="1400" y="1400"/>
                </a:lnTo>
                <a:close/>
              </a:path>
              <a:path fill="darken" w="80549" h="21600">
                <a:moveTo>
                  <a:pt x="80549" y="0"/>
                </a:moveTo>
                <a:lnTo>
                  <a:pt x="80549" y="21600"/>
                </a:lnTo>
                <a:lnTo>
                  <a:pt x="79149" y="20200"/>
                </a:lnTo>
                <a:lnTo>
                  <a:pt x="79149" y="1400"/>
                </a:lnTo>
                <a:close/>
              </a:path>
              <a:path fill="darkenLess" w="80549" h="21600">
                <a:moveTo>
                  <a:pt x="80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149" y="20200"/>
                </a:lnTo>
                <a:close/>
              </a:path>
              <a:path fill="lighten" w="80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形成原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>
            <a:hlinkClick r:id="rId7" action="ppaction://hlinksldjump"/>
          </p:cNvPr>
          <p:cNvSpPr/>
          <p:nvPr/>
        </p:nvSpPr>
        <p:spPr>
          <a:xfrm>
            <a:off x="632160" y="6315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初学课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Text Box 11" descr=""/>
          <p:cNvPicPr/>
          <p:nvPr/>
        </p:nvPicPr>
        <p:blipFill>
          <a:blip r:embed="rId8"/>
          <a:stretch/>
        </p:blipFill>
        <p:spPr>
          <a:xfrm>
            <a:off x="1515960" y="2131920"/>
            <a:ext cx="5867640" cy="1862280"/>
          </a:xfrm>
          <a:prstGeom prst="rect">
            <a:avLst/>
          </a:prstGeom>
          <a:ln w="0">
            <a:noFill/>
          </a:ln>
        </p:spPr>
      </p:pic>
      <p:sp>
        <p:nvSpPr>
          <p:cNvPr id="56" name="矩形 14"/>
          <p:cNvSpPr/>
          <p:nvPr/>
        </p:nvSpPr>
        <p:spPr>
          <a:xfrm>
            <a:off x="1827000" y="55897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"/>
          <p:cNvSpPr/>
          <p:nvPr/>
        </p:nvSpPr>
        <p:spPr>
          <a:xfrm>
            <a:off x="2324160" y="1409760"/>
            <a:ext cx="4844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说明了五彩池色彩艳丽、绚丽夺目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让我们感受到了五彩池的神奇、美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尤其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如果把各池的水都舀起来看，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又跟普通清水一样，什么颜色也没有。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更是将五彩池的神奇推向了极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5"/>
          <p:cNvSpPr/>
          <p:nvPr/>
        </p:nvSpPr>
        <p:spPr>
          <a:xfrm>
            <a:off x="466560" y="907920"/>
            <a:ext cx="856944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说话练习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课文中有三组（第三段写的是五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池的玲珑多姿，第四段写的是池水颜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的艳丽多彩，第五段写的是池中石笋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不同形状。）语句，都含有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有的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有的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有的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……”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这样的词语，仿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这样的形式说一段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6">
            <a:hlinkClick r:id="rId1" action="ppaction://hlinksldjump"/>
          </p:cNvPr>
          <p:cNvSpPr/>
          <p:nvPr/>
        </p:nvSpPr>
        <p:spPr>
          <a:xfrm>
            <a:off x="7812000" y="5877000"/>
            <a:ext cx="792360" cy="431640"/>
          </a:xfrm>
          <a:custGeom>
            <a:avLst/>
            <a:gdLst>
              <a:gd name="textAreaLeft" fmla="*/ 27720 w 792360"/>
              <a:gd name="textAreaRight" fmla="*/ 764640 w 792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36" h="21600">
                <a:moveTo>
                  <a:pt x="0" y="0"/>
                </a:moveTo>
                <a:lnTo>
                  <a:pt x="39636" y="0"/>
                </a:lnTo>
                <a:lnTo>
                  <a:pt x="39636" y="21600"/>
                </a:lnTo>
                <a:lnTo>
                  <a:pt x="0" y="21600"/>
                </a:lnTo>
                <a:close/>
              </a:path>
              <a:path fill="lightenLess" w="39636" h="21600">
                <a:moveTo>
                  <a:pt x="0" y="0"/>
                </a:moveTo>
                <a:lnTo>
                  <a:pt x="39636" y="0"/>
                </a:lnTo>
                <a:lnTo>
                  <a:pt x="38236" y="1400"/>
                </a:lnTo>
                <a:lnTo>
                  <a:pt x="1400" y="1400"/>
                </a:lnTo>
                <a:close/>
              </a:path>
              <a:path fill="darken" w="39636" h="21600">
                <a:moveTo>
                  <a:pt x="39636" y="0"/>
                </a:moveTo>
                <a:lnTo>
                  <a:pt x="39636" y="21600"/>
                </a:lnTo>
                <a:lnTo>
                  <a:pt x="38236" y="20200"/>
                </a:lnTo>
                <a:lnTo>
                  <a:pt x="38236" y="1400"/>
                </a:lnTo>
                <a:close/>
              </a:path>
              <a:path fill="darkenLess" w="39636" h="21600">
                <a:moveTo>
                  <a:pt x="39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36" y="20200"/>
                </a:lnTo>
                <a:close/>
              </a:path>
              <a:path fill="lighten" w="39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36" h="21600">
                <a:moveTo>
                  <a:pt x="12812" y="10800"/>
                </a:moveTo>
                <a:lnTo>
                  <a:pt x="26824" y="3794"/>
                </a:lnTo>
                <a:lnTo>
                  <a:pt x="2682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pic12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990720" y="380880"/>
            <a:ext cx="68580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99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形成五彩池美丽神奇的原因是什么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971640" y="1268280"/>
            <a:ext cx="75438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池底长着许多石笋，形状不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．石笋上面有石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．阳光的照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．池边树木花草的倒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6">
            <a:hlinkClick r:id="rId1" action="ppaction://hlinksldjump"/>
          </p:cNvPr>
          <p:cNvSpPr/>
          <p:nvPr/>
        </p:nvSpPr>
        <p:spPr>
          <a:xfrm>
            <a:off x="7596360" y="5950080"/>
            <a:ext cx="792000" cy="43164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18" h="21600">
                <a:moveTo>
                  <a:pt x="0" y="0"/>
                </a:moveTo>
                <a:lnTo>
                  <a:pt x="39618" y="0"/>
                </a:lnTo>
                <a:lnTo>
                  <a:pt x="39618" y="21600"/>
                </a:lnTo>
                <a:lnTo>
                  <a:pt x="0" y="21600"/>
                </a:lnTo>
                <a:close/>
              </a:path>
              <a:path fill="lightenLess" w="39618" h="21600">
                <a:moveTo>
                  <a:pt x="0" y="0"/>
                </a:moveTo>
                <a:lnTo>
                  <a:pt x="39618" y="0"/>
                </a:lnTo>
                <a:lnTo>
                  <a:pt x="38218" y="1400"/>
                </a:lnTo>
                <a:lnTo>
                  <a:pt x="1400" y="1400"/>
                </a:lnTo>
                <a:close/>
              </a:path>
              <a:path fill="darken" w="39618" h="21600">
                <a:moveTo>
                  <a:pt x="39618" y="0"/>
                </a:moveTo>
                <a:lnTo>
                  <a:pt x="39618" y="21600"/>
                </a:lnTo>
                <a:lnTo>
                  <a:pt x="38218" y="20200"/>
                </a:lnTo>
                <a:lnTo>
                  <a:pt x="38218" y="1400"/>
                </a:lnTo>
                <a:close/>
              </a:path>
              <a:path fill="darkenLess" w="39618" h="21600">
                <a:moveTo>
                  <a:pt x="39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8" y="20200"/>
                </a:lnTo>
                <a:close/>
              </a:path>
              <a:path fill="lighten" w="39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8" h="21600">
                <a:moveTo>
                  <a:pt x="12803" y="10800"/>
                </a:moveTo>
                <a:lnTo>
                  <a:pt x="26815" y="3794"/>
                </a:lnTo>
                <a:lnTo>
                  <a:pt x="2681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1"/>
          <p:cNvSpPr/>
          <p:nvPr/>
        </p:nvSpPr>
        <p:spPr>
          <a:xfrm>
            <a:off x="1631880" y="5307120"/>
            <a:ext cx="64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五彩池"/>
          <p:cNvPicPr/>
          <p:nvPr/>
        </p:nvPicPr>
        <p:blipFill>
          <a:blip r:embed="rId1"/>
          <a:stretch/>
        </p:blipFill>
        <p:spPr>
          <a:xfrm>
            <a:off x="404640" y="2716200"/>
            <a:ext cx="8352000" cy="41497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684360" y="765000"/>
            <a:ext cx="813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课外拓展：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课后查阅有关五彩池更详细的资料和图片，用一句话或广告语来介绍五彩池，为五彩池作广告。或以小导游的身份用一段话来介绍五彩池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">
            <a:hlinkClick r:id="rId2" action="ppaction://hlinksldjump"/>
          </p:cNvPr>
          <p:cNvSpPr/>
          <p:nvPr/>
        </p:nvSpPr>
        <p:spPr>
          <a:xfrm>
            <a:off x="8028000" y="6021360"/>
            <a:ext cx="792000" cy="43200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85" h="21600">
                <a:moveTo>
                  <a:pt x="0" y="0"/>
                </a:moveTo>
                <a:lnTo>
                  <a:pt x="39585" y="0"/>
                </a:lnTo>
                <a:lnTo>
                  <a:pt x="39585" y="21600"/>
                </a:lnTo>
                <a:lnTo>
                  <a:pt x="0" y="21600"/>
                </a:lnTo>
                <a:close/>
              </a:path>
              <a:path fill="lightenLess" w="39585" h="21600">
                <a:moveTo>
                  <a:pt x="0" y="0"/>
                </a:moveTo>
                <a:lnTo>
                  <a:pt x="39585" y="0"/>
                </a:lnTo>
                <a:lnTo>
                  <a:pt x="38185" y="1400"/>
                </a:lnTo>
                <a:lnTo>
                  <a:pt x="1400" y="1400"/>
                </a:lnTo>
                <a:close/>
              </a:path>
              <a:path fill="darken" w="39585" h="21600">
                <a:moveTo>
                  <a:pt x="39585" y="0"/>
                </a:moveTo>
                <a:lnTo>
                  <a:pt x="39585" y="21600"/>
                </a:lnTo>
                <a:lnTo>
                  <a:pt x="38185" y="20200"/>
                </a:lnTo>
                <a:lnTo>
                  <a:pt x="38185" y="1400"/>
                </a:lnTo>
                <a:close/>
              </a:path>
              <a:path fill="darkenLess" w="39585" h="21600">
                <a:moveTo>
                  <a:pt x="39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5" y="20200"/>
                </a:lnTo>
                <a:close/>
              </a:path>
              <a:path fill="lighten" w="39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5" h="21600">
                <a:moveTo>
                  <a:pt x="12786" y="10800"/>
                </a:moveTo>
                <a:lnTo>
                  <a:pt x="26799" y="3794"/>
                </a:lnTo>
                <a:lnTo>
                  <a:pt x="267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9CE1-449B-4166-8AF0-9B4EDD79311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20">
            <a:hlinkClick r:id="rId1" action="ppaction://hlinksldjump"/>
          </p:cNvPr>
          <p:cNvSpPr/>
          <p:nvPr/>
        </p:nvSpPr>
        <p:spPr>
          <a:xfrm>
            <a:off x="8101080" y="6308640"/>
            <a:ext cx="792000" cy="43200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85" h="21600">
                <a:moveTo>
                  <a:pt x="0" y="0"/>
                </a:moveTo>
                <a:lnTo>
                  <a:pt x="39585" y="0"/>
                </a:lnTo>
                <a:lnTo>
                  <a:pt x="39585" y="21600"/>
                </a:lnTo>
                <a:lnTo>
                  <a:pt x="0" y="21600"/>
                </a:lnTo>
                <a:close/>
              </a:path>
              <a:path fill="lightenLess" w="39585" h="21600">
                <a:moveTo>
                  <a:pt x="0" y="0"/>
                </a:moveTo>
                <a:lnTo>
                  <a:pt x="39585" y="0"/>
                </a:lnTo>
                <a:lnTo>
                  <a:pt x="38185" y="1400"/>
                </a:lnTo>
                <a:lnTo>
                  <a:pt x="1400" y="1400"/>
                </a:lnTo>
                <a:close/>
              </a:path>
              <a:path fill="darken" w="39585" h="21600">
                <a:moveTo>
                  <a:pt x="39585" y="0"/>
                </a:moveTo>
                <a:lnTo>
                  <a:pt x="39585" y="21600"/>
                </a:lnTo>
                <a:lnTo>
                  <a:pt x="38185" y="20200"/>
                </a:lnTo>
                <a:lnTo>
                  <a:pt x="38185" y="1400"/>
                </a:lnTo>
                <a:close/>
              </a:path>
              <a:path fill="darkenLess" w="39585" h="21600">
                <a:moveTo>
                  <a:pt x="39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5" y="20200"/>
                </a:lnTo>
                <a:close/>
              </a:path>
              <a:path fill="lighten" w="39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5" h="21600">
                <a:moveTo>
                  <a:pt x="12786" y="10800"/>
                </a:moveTo>
                <a:lnTo>
                  <a:pt x="26799" y="3794"/>
                </a:lnTo>
                <a:lnTo>
                  <a:pt x="267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6" descr="五彩池2"/>
          <p:cNvPicPr/>
          <p:nvPr/>
        </p:nvPicPr>
        <p:blipFill>
          <a:blip r:embed="rId2"/>
          <a:stretch/>
        </p:blipFill>
        <p:spPr>
          <a:xfrm>
            <a:off x="324000" y="620640"/>
            <a:ext cx="7127640" cy="5329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7" descr="五彩池6"/>
          <p:cNvPicPr/>
          <p:nvPr/>
        </p:nvPicPr>
        <p:blipFill>
          <a:blip r:embed="rId3"/>
          <a:stretch/>
        </p:blipFill>
        <p:spPr>
          <a:xfrm>
            <a:off x="324000" y="620640"/>
            <a:ext cx="711648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6"/>
          <p:cNvSpPr/>
          <p:nvPr/>
        </p:nvSpPr>
        <p:spPr>
          <a:xfrm>
            <a:off x="954000" y="1341360"/>
            <a:ext cx="743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初读要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）自由读课文，遇到读起来困难的地方多读几遍，最后能达到读正确、流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）思考：关于五彩池的传说是怎样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5"/>
          <p:cNvSpPr/>
          <p:nvPr/>
        </p:nvSpPr>
        <p:spPr>
          <a:xfrm>
            <a:off x="2648520" y="1881360"/>
            <a:ext cx="43963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藏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龙山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炽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热  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橄榄          柠檬  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矗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眼花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缭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乱                  菜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1717560" y="907920"/>
            <a:ext cx="155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词语练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8">
            <a:hlinkClick r:id="rId1" action="ppaction://hlinksldjump"/>
          </p:cNvPr>
          <p:cNvSpPr/>
          <p:nvPr/>
        </p:nvSpPr>
        <p:spPr>
          <a:xfrm>
            <a:off x="8028000" y="6021360"/>
            <a:ext cx="792000" cy="43200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85" h="21600">
                <a:moveTo>
                  <a:pt x="0" y="0"/>
                </a:moveTo>
                <a:lnTo>
                  <a:pt x="39585" y="0"/>
                </a:lnTo>
                <a:lnTo>
                  <a:pt x="39585" y="21600"/>
                </a:lnTo>
                <a:lnTo>
                  <a:pt x="0" y="21600"/>
                </a:lnTo>
                <a:close/>
              </a:path>
              <a:path fill="lightenLess" w="39585" h="21600">
                <a:moveTo>
                  <a:pt x="0" y="0"/>
                </a:moveTo>
                <a:lnTo>
                  <a:pt x="39585" y="0"/>
                </a:lnTo>
                <a:lnTo>
                  <a:pt x="38185" y="1400"/>
                </a:lnTo>
                <a:lnTo>
                  <a:pt x="1400" y="1400"/>
                </a:lnTo>
                <a:close/>
              </a:path>
              <a:path fill="darken" w="39585" h="21600">
                <a:moveTo>
                  <a:pt x="39585" y="0"/>
                </a:moveTo>
                <a:lnTo>
                  <a:pt x="39585" y="21600"/>
                </a:lnTo>
                <a:lnTo>
                  <a:pt x="38185" y="20200"/>
                </a:lnTo>
                <a:lnTo>
                  <a:pt x="38185" y="1400"/>
                </a:lnTo>
                <a:close/>
              </a:path>
              <a:path fill="darkenLess" w="39585" h="21600">
                <a:moveTo>
                  <a:pt x="39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5" y="20200"/>
                </a:lnTo>
                <a:close/>
              </a:path>
              <a:path fill="lighten" w="39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5" h="21600">
                <a:moveTo>
                  <a:pt x="12786" y="10800"/>
                </a:moveTo>
                <a:lnTo>
                  <a:pt x="26799" y="3794"/>
                </a:lnTo>
                <a:lnTo>
                  <a:pt x="267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7"/>
          <p:cNvSpPr/>
          <p:nvPr/>
        </p:nvSpPr>
        <p:spPr>
          <a:xfrm>
            <a:off x="1279440" y="292428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1095480" y="206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743120" y="1490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611280" y="981000"/>
            <a:ext cx="806436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品读要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）默读第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自然段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边读边划出最能体现五彩池神奇、美丽的词语和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）在小组里读读你划的词语和句子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并互相说说为什么能体现它的美丽和神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8"/>
          <p:cNvSpPr/>
          <p:nvPr/>
        </p:nvSpPr>
        <p:spPr>
          <a:xfrm>
            <a:off x="2115720" y="3500280"/>
            <a:ext cx="51184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大的面积不足一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水深不到一丈；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小的呢，比饭桌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的菜碟还小，水也更浅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用小拇指就可以摸到它的底部。金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色石粉凝成的池边，像一圈圈金色的彩带，将这些池子一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个连接起来，围成各种好看的形状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有的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葫芦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有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镰刀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有的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圆圆的脸盆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有的恰似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盛开的莲花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还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形的、马蹄状的、豆角样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3">
            <a:hlinkClick r:id="" action="ppaction://hlinkshowjump?jump=nextslide"/>
          </p:cNvPr>
          <p:cNvSpPr/>
          <p:nvPr/>
        </p:nvSpPr>
        <p:spPr>
          <a:xfrm>
            <a:off x="8028000" y="6524640"/>
            <a:ext cx="792000" cy="333360"/>
          </a:xfrm>
          <a:custGeom>
            <a:avLst/>
            <a:gdLst>
              <a:gd name="textAreaLeft" fmla="*/ 21600 w 792000"/>
              <a:gd name="textAreaRight" fmla="*/ 770400 w 79200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51285" h="21600">
                <a:moveTo>
                  <a:pt x="0" y="0"/>
                </a:moveTo>
                <a:lnTo>
                  <a:pt x="51285" y="0"/>
                </a:lnTo>
                <a:lnTo>
                  <a:pt x="51285" y="21600"/>
                </a:lnTo>
                <a:lnTo>
                  <a:pt x="0" y="21600"/>
                </a:lnTo>
                <a:close/>
              </a:path>
              <a:path fill="lightenLess" w="51285" h="21600">
                <a:moveTo>
                  <a:pt x="0" y="0"/>
                </a:moveTo>
                <a:lnTo>
                  <a:pt x="51285" y="0"/>
                </a:lnTo>
                <a:lnTo>
                  <a:pt x="49885" y="1400"/>
                </a:lnTo>
                <a:lnTo>
                  <a:pt x="1400" y="1400"/>
                </a:lnTo>
                <a:close/>
              </a:path>
              <a:path fill="darken" w="51285" h="21600">
                <a:moveTo>
                  <a:pt x="51285" y="0"/>
                </a:moveTo>
                <a:lnTo>
                  <a:pt x="51285" y="21600"/>
                </a:lnTo>
                <a:lnTo>
                  <a:pt x="49885" y="20200"/>
                </a:lnTo>
                <a:lnTo>
                  <a:pt x="49885" y="1400"/>
                </a:lnTo>
                <a:close/>
              </a:path>
              <a:path fill="darkenLess" w="51285" h="21600">
                <a:moveTo>
                  <a:pt x="51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85" y="20200"/>
                </a:lnTo>
                <a:close/>
              </a:path>
              <a:path fill="lighten" w="51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285" h="21600">
                <a:moveTo>
                  <a:pt x="18636" y="3794"/>
                </a:moveTo>
                <a:lnTo>
                  <a:pt x="32649" y="10800"/>
                </a:lnTo>
                <a:lnTo>
                  <a:pt x="1863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4" descr="五彩池1"/>
          <p:cNvPicPr/>
          <p:nvPr/>
        </p:nvPicPr>
        <p:blipFill>
          <a:blip r:embed="rId1"/>
          <a:stretch/>
        </p:blipFill>
        <p:spPr>
          <a:xfrm>
            <a:off x="108000" y="115920"/>
            <a:ext cx="4392720" cy="3294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五彩池2"/>
          <p:cNvPicPr/>
          <p:nvPr/>
        </p:nvPicPr>
        <p:blipFill>
          <a:blip r:embed="rId2"/>
          <a:stretch/>
        </p:blipFill>
        <p:spPr>
          <a:xfrm>
            <a:off x="4500720" y="115920"/>
            <a:ext cx="4392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5"/>
          <p:cNvSpPr/>
          <p:nvPr/>
        </p:nvSpPr>
        <p:spPr>
          <a:xfrm>
            <a:off x="2167560" y="2133720"/>
            <a:ext cx="484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说明了五彩池姿态万千、玲珑多姿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让我们感受到了五彩池的神奇、美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9"/>
          <p:cNvSpPr/>
          <p:nvPr/>
        </p:nvSpPr>
        <p:spPr>
          <a:xfrm>
            <a:off x="395280" y="4594320"/>
            <a:ext cx="6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0"/>
          <p:cNvSpPr/>
          <p:nvPr/>
        </p:nvSpPr>
        <p:spPr>
          <a:xfrm>
            <a:off x="3459960" y="4653000"/>
            <a:ext cx="210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1" descr="五彩池1"/>
          <p:cNvPicPr/>
          <p:nvPr/>
        </p:nvPicPr>
        <p:blipFill>
          <a:blip r:embed="rId1"/>
          <a:stretch/>
        </p:blipFill>
        <p:spPr>
          <a:xfrm>
            <a:off x="250920" y="40464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2" descr="五彩池2"/>
          <p:cNvPicPr/>
          <p:nvPr/>
        </p:nvPicPr>
        <p:blipFill>
          <a:blip r:embed="rId2"/>
          <a:stretch/>
        </p:blipFill>
        <p:spPr>
          <a:xfrm>
            <a:off x="3059280" y="404640"/>
            <a:ext cx="2952720" cy="2160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3" descr="五彩池3"/>
          <p:cNvPicPr/>
          <p:nvPr/>
        </p:nvPicPr>
        <p:blipFill>
          <a:blip r:embed="rId3"/>
          <a:stretch/>
        </p:blipFill>
        <p:spPr>
          <a:xfrm>
            <a:off x="227160" y="2492280"/>
            <a:ext cx="2832120" cy="2111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五彩池4"/>
          <p:cNvPicPr/>
          <p:nvPr/>
        </p:nvPicPr>
        <p:blipFill>
          <a:blip r:embed="rId4"/>
          <a:stretch/>
        </p:blipFill>
        <p:spPr>
          <a:xfrm>
            <a:off x="6012000" y="404640"/>
            <a:ext cx="2736720" cy="2159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5" descr="五彩池5"/>
          <p:cNvPicPr/>
          <p:nvPr/>
        </p:nvPicPr>
        <p:blipFill>
          <a:blip r:embed="rId5"/>
          <a:stretch/>
        </p:blipFill>
        <p:spPr>
          <a:xfrm>
            <a:off x="6012000" y="2492280"/>
            <a:ext cx="2736720" cy="2089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6" descr="五彩池6"/>
          <p:cNvPicPr/>
          <p:nvPr/>
        </p:nvPicPr>
        <p:blipFill>
          <a:blip r:embed="rId6"/>
          <a:stretch/>
        </p:blipFill>
        <p:spPr>
          <a:xfrm>
            <a:off x="3059280" y="2565360"/>
            <a:ext cx="295272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5"/>
          <p:cNvSpPr/>
          <p:nvPr/>
        </p:nvSpPr>
        <p:spPr>
          <a:xfrm>
            <a:off x="539640" y="981000"/>
            <a:ext cx="8280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最美丽的是池水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鲜艳多彩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的颜色。站在山上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向下面一望，只见漫山遍野的水池在灿烂的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光沐浴下，闪耀着红的、黄的、绿的、白的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紫的、蓝的等各种颜色的光辉，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就像一幅巨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的五彩地毯铺展在眼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。更使人惊奇的是，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些彩池虽然堤岸相连，水也都是来自同一条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流，但是池水的颜色却各不相同。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有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上面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咖啡色，下面却成了柠檬黄；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有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左边是蓝色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右边却又变成了橄榄绿；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有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全池只有一种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色，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有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一个池子又呈现出多种色彩。如果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各池的水都舀起来看，却又跟普通清水一样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什么颜色也没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6">
            <a:hlinkClick r:id="" action="ppaction://hlinkshowjump?jump=nextslide"/>
          </p:cNvPr>
          <p:cNvSpPr/>
          <p:nvPr/>
        </p:nvSpPr>
        <p:spPr>
          <a:xfrm>
            <a:off x="8172360" y="6453360"/>
            <a:ext cx="647640" cy="404640"/>
          </a:xfrm>
          <a:custGeom>
            <a:avLst/>
            <a:gdLst>
              <a:gd name="textAreaLeft" fmla="*/ 25920 w 647640"/>
              <a:gd name="textAreaRight" fmla="*/ 621720 w 647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4560" h="21600">
                <a:moveTo>
                  <a:pt x="0" y="0"/>
                </a:moveTo>
                <a:lnTo>
                  <a:pt x="34560" y="0"/>
                </a:lnTo>
                <a:lnTo>
                  <a:pt x="34560" y="21600"/>
                </a:lnTo>
                <a:lnTo>
                  <a:pt x="0" y="21600"/>
                </a:lnTo>
                <a:close/>
              </a:path>
              <a:path fill="lightenLess" w="34560" h="21600">
                <a:moveTo>
                  <a:pt x="0" y="0"/>
                </a:moveTo>
                <a:lnTo>
                  <a:pt x="34560" y="0"/>
                </a:lnTo>
                <a:lnTo>
                  <a:pt x="33160" y="1400"/>
                </a:lnTo>
                <a:lnTo>
                  <a:pt x="1400" y="1400"/>
                </a:lnTo>
                <a:close/>
              </a:path>
              <a:path fill="darken" w="34560" h="21600">
                <a:moveTo>
                  <a:pt x="34560" y="0"/>
                </a:moveTo>
                <a:lnTo>
                  <a:pt x="34560" y="21600"/>
                </a:lnTo>
                <a:lnTo>
                  <a:pt x="33160" y="20200"/>
                </a:lnTo>
                <a:lnTo>
                  <a:pt x="33160" y="1400"/>
                </a:lnTo>
                <a:close/>
              </a:path>
              <a:path fill="darkenLess" w="34560" h="21600">
                <a:moveTo>
                  <a:pt x="34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0" y="20200"/>
                </a:lnTo>
                <a:close/>
              </a:path>
              <a:path fill="lighten" w="34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0" h="21600">
                <a:moveTo>
                  <a:pt x="10274" y="3794"/>
                </a:moveTo>
                <a:lnTo>
                  <a:pt x="24286" y="10800"/>
                </a:lnTo>
                <a:lnTo>
                  <a:pt x="102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14:21:5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8:08Z</dcterms:modified>
  <cp:revision>5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