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2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camera.wav" ContentType="audio/x-wav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9F6E2-46CD-487A-B05A-BDC7F1B69F4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4.xml"/><Relationship Id="rId24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35644-4644-4C4C-8B1C-6D3FA0A3636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B462-754C-439D-B4EE-4F2A2AC6F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4BCC-A416-4202-B0BF-999816436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A38B-CF13-4EF5-ACC8-E5C49E6E0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1811-15EC-4F55-9886-A4491B6F3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9366-4E86-41E8-B861-94068B026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90B8-50D4-4CE4-A8CD-7CAAEBAEA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C057-0DD1-4D11-8DF9-0CA47C792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4532-00F4-4F7D-9E60-749C5A409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181C-4118-488F-820C-EC5B4C690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F884-5321-477D-9EAF-5BFA5ADBD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A182-668E-4ECB-8BC0-E5E2A5CCE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698C-4310-4BD2-A879-8BF409A26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CEA71-BFFA-4DAF-861C-B855FC1B094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3"/>
          <p:cNvSpPr/>
          <p:nvPr/>
        </p:nvSpPr>
        <p:spPr>
          <a:xfrm>
            <a:off x="1753920" y="573264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2388960" y="2011320"/>
            <a:ext cx="4204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我的动物朋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81080" y="43920"/>
            <a:ext cx="792000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就是我的开心果，惹人喜欢的小白兔，你说这小东西可爱不可爱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466560" y="1268280"/>
            <a:ext cx="668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~~~~~~~~~~~~~~~~~~~~~~~~~~~~~~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6633144_135557444000_2"/>
          <p:cNvPicPr/>
          <p:nvPr/>
        </p:nvPicPr>
        <p:blipFill>
          <a:blip r:embed="rId1"/>
          <a:stretch/>
        </p:blipFill>
        <p:spPr>
          <a:xfrm>
            <a:off x="0" y="1870200"/>
            <a:ext cx="914400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08000" y="1700280"/>
            <a:ext cx="865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你的动物朋友是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为什么喜欢这个动物朋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他有什么与众不同的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它有哪些生活习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你和它之间发生过哪些有趣的事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u=2466984315,2177241475&amp;fm=23&amp;gp=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u=3999178937,2727409776&amp;fm=23&amp;gp=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0" y="1700280"/>
            <a:ext cx="91440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它浑身长着雪白的毛，摸上去软绵绵的，像穿着一件干净的白毛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这只小狗长着两只珍珠般的黑眼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翘着湿润的小鼻子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张大多的嘴巴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常常伸出红红的舌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对大眼睛咕碌碌直转，仿佛两颗黑宝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它的腿很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奔跑时步子又快又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尾巴一翘一翘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很有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它的尾巴翘的老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见了熟人就不停的摆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好像不住的在对你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你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你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你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尖尖的尾巴十分灵活，常常不停地左右摇晃，但是如果你弄痛了小白狗，它就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汪汪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地叫，尾巴也夹在两腿间，真有点像书上说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夹着尾巴逃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wg2_003"/>
          <p:cNvPicPr/>
          <p:nvPr/>
        </p:nvPicPr>
        <p:blipFill>
          <a:blip r:embed="rId1"/>
          <a:stretch/>
        </p:blipFill>
        <p:spPr>
          <a:xfrm>
            <a:off x="0" y="-57240"/>
            <a:ext cx="9753480" cy="691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-360" y="2349000"/>
            <a:ext cx="8604360" cy="22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三角脑袋，圆溜溜的小眼睛 眼皮长在下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只脚都很短，脚趾之间还长着像蹼一样的肉。墨绿色带花纹的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尾巴又粗、又短、又尖，是动物中罕见的尾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6" descr="Img1556043_940"/>
          <p:cNvPicPr/>
          <p:nvPr/>
        </p:nvPicPr>
        <p:blipFill>
          <a:blip r:embed="rId1"/>
          <a:stretch/>
        </p:blipFill>
        <p:spPr>
          <a:xfrm>
            <a:off x="117360" y="27000"/>
            <a:ext cx="8953560" cy="67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1095283d-c6df-4b87-980d-29acf08689f4"/>
          <p:cNvPicPr/>
          <p:nvPr/>
        </p:nvPicPr>
        <p:blipFill>
          <a:blip r:embed="rId1"/>
          <a:stretch/>
        </p:blipFill>
        <p:spPr>
          <a:xfrm>
            <a:off x="0" y="0"/>
            <a:ext cx="9334440" cy="700092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6"/>
          <p:cNvSpPr/>
          <p:nvPr/>
        </p:nvSpPr>
        <p:spPr>
          <a:xfrm>
            <a:off x="1979640" y="1906560"/>
            <a:ext cx="10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ff00"/>
                </a:solidFill>
                <a:latin typeface="Arial"/>
              </a:rPr>
              <a:t>蚕宝宝怕水  蚕宝宝吃桑叶的速度是非常快的，得准备好许多桑叶给它们吃，它们的饭量是很大的哦！它们有时也非常懒，给它们桑叶吃，却见它们纹丝不动，不知道的人可能会以为蚕宝宝们死了呢！其实它们是在做适当的休息。 </a:t>
            </a:r>
            <a:br>
              <a:rPr sz="4000"/>
            </a:br>
            <a:r>
              <a:rPr b="1" lang="zh-CN" sz="40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1835280" y="33336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这是一只（   ）的小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19300406226898132911762640116_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2000">
    <p:checker dir="vert"/>
    <p:sndAc>
      <p:stSnd>
        <p:snd r:embed="rId2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8"/>
          <p:cNvSpPr/>
          <p:nvPr/>
        </p:nvSpPr>
        <p:spPr>
          <a:xfrm>
            <a:off x="1908000" y="3414600"/>
            <a:ext cx="73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558728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7640" y="43920"/>
            <a:ext cx="644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按从整体到局部的顺序观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1"/>
          <p:cNvSpPr/>
          <p:nvPr/>
        </p:nvSpPr>
        <p:spPr>
          <a:xfrm>
            <a:off x="2843280" y="4417920"/>
            <a:ext cx="602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900000" y="765000"/>
            <a:ext cx="554364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79280" y="647640"/>
            <a:ext cx="4392720" cy="24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家有一只小白猫，长得特别可爱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一双像宝石一样的眼睛镶嵌在毛毛茸茸脸庞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两只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尖尖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耳朵住在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圆圆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头上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像个小雷达收集着声音信号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个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三角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鼻子非常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灵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只要有一点鲜味它都不会放过。它那贪吃的嘴里长着两排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锋利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牙齿，嘴角两边长着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银白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胡须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四条腿像穿着软绵绵的鞋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走起路来很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图片2h"/>
          <p:cNvPicPr/>
          <p:nvPr/>
        </p:nvPicPr>
        <p:blipFill>
          <a:blip r:embed="rId1"/>
          <a:stretch/>
        </p:blipFill>
        <p:spPr>
          <a:xfrm>
            <a:off x="4788000" y="189000"/>
            <a:ext cx="4176720" cy="628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201611325621"/>
          <p:cNvPicPr/>
          <p:nvPr/>
        </p:nvPicPr>
        <p:blipFill>
          <a:blip r:embed="rId1"/>
          <a:stretch/>
        </p:blipFill>
        <p:spPr>
          <a:xfrm>
            <a:off x="0" y="0"/>
            <a:ext cx="4643280" cy="3716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9810621_105608483104_2"/>
          <p:cNvPicPr/>
          <p:nvPr/>
        </p:nvPicPr>
        <p:blipFill>
          <a:blip r:embed="rId2"/>
          <a:stretch/>
        </p:blipFill>
        <p:spPr>
          <a:xfrm>
            <a:off x="4319640" y="-819000"/>
            <a:ext cx="5724360" cy="4868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5432155_011550448754_2"/>
          <p:cNvPicPr/>
          <p:nvPr/>
        </p:nvPicPr>
        <p:blipFill>
          <a:blip r:embed="rId3"/>
          <a:stretch/>
        </p:blipFill>
        <p:spPr>
          <a:xfrm>
            <a:off x="0" y="2825640"/>
            <a:ext cx="4932360" cy="4032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2586391_103215065817_2"/>
          <p:cNvPicPr/>
          <p:nvPr/>
        </p:nvPicPr>
        <p:blipFill>
          <a:blip r:embed="rId4"/>
          <a:stretch/>
        </p:blipFill>
        <p:spPr>
          <a:xfrm>
            <a:off x="4859280" y="2781360"/>
            <a:ext cx="428472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68360" y="177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金鱼游动着，那红色的大尾巴摇摆着，好像是一簇开在水中的火苗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火红的金鱼在水里摇曳着火一样的尾巴，将水与火完美的契合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胖胖的金鱼在水里游啊游，仿佛一粒闪耀金光的水晶球掉进了水里，左翩翩右翩翩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柔若轻纱的尾巴，透如水晶的眼睛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它们的肚子都是鼓鼓的，像个小小的皮球，小尾巴像一条美丽的喇叭裙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金鱼的性格非常温和，不会发生大金鱼追袭小金鱼的现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金鱼生性活泼，喜欢游动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金鱼喜欢在阳光下生长，体色会变得更艳丽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金鱼喜欢吃东西，水温在适宜的条件下，金鱼会不听的吃东西，是非常喜食的观赏鱼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金鱼晚上不会睡觉，只有冬季水温底下，才会进入冬眠状态，不游动（可能是在睡觉）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金鱼喜欢吃鱼虫，小虾等肉性食物，实在没有肉性食物的时候就能吃藻类、青苔等食物，是在没有食物的时候就连软泥也会吞食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金鱼习惯生活在绿水中，对新水较敏感。所以有人说养鱼先养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E39F3-C85C-41FD-B26B-43137CDB09C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320760" y="1557000"/>
            <a:ext cx="8229600" cy="48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耳朵长，尾巴短，红眼睛，白毛衫，三瓣嘴儿胆子小，爱吃青菜和萝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1890720" y="2341440"/>
            <a:ext cx="289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2765520" y="3141720"/>
            <a:ext cx="2022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5050"/>
                </a:solidFill>
                <a:latin typeface="Arial"/>
              </a:rPr>
              <a:t>兔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1413000"/>
            <a:ext cx="868680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兔子几乎是完全的草食动物。非常喜欢吃胡萝卜、土豆、萝卜叶等蔬菜，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以及蒲公英、车前草等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胆小性：兔系胆小动物，遇有敌害时，能借助敏锐的听觉作出判断。突然的声响、生人或陌生的动物等会使家兔惊恐不安，因此在饲养管理中，动作要尽量轻稳，同是防止生人或其他动物进入兔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喜洁性：家兔喜爱清洁干燥的生活环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5050"/>
                </a:solidFill>
                <a:latin typeface="Arial"/>
              </a:rPr>
              <a:t>写作指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按顺序观察：从整体到部分、从上到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运用优美的词语，生动的比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抓住特点、写具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写出喜爱之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9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9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9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9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323640" y="1733400"/>
            <a:ext cx="84214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ff5050"/>
                </a:solidFill>
                <a:latin typeface="Arial"/>
              </a:rPr>
              <a:t>可爱的小白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长耳朵，红眼睛，三半嘴，短尾巴。小朋友，你们猜到它是谁了吗？对了，它就是我的开心果——小白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1305000" y="3746520"/>
            <a:ext cx="66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~~~~~~~~~~~~~~~~~~~~~~~~~~~~~~~~~~~~~~~~~~~~~~~~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0" y="2060280"/>
            <a:ext cx="906768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白兔披着雪白的大衣，我们摸上去毛绒绒的，感到非常舒服。它的一双眼睛像两颗红宝石。小白兔在玩耍时，长长的耳朵一摇一摆，好像在打招呼。它那短短的尾巴还在毛绒绒的白毛中藏着呢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3"/>
          <p:cNvSpPr/>
          <p:nvPr/>
        </p:nvSpPr>
        <p:spPr>
          <a:xfrm>
            <a:off x="6621480" y="2421000"/>
            <a:ext cx="1152360" cy="503280"/>
          </a:xfrm>
          <a:prstGeom prst="ellips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2517840" y="3645000"/>
            <a:ext cx="46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~~~~~~~~~~~~~~~~~~~~~~~~~~~~~~~~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1509840" y="4581360"/>
            <a:ext cx="668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~~~~~~~~~~~~~~~~~~~~~~~~~~~~~~~~~~~~~~~~~~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15440" y="23367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76320" y="873000"/>
            <a:ext cx="6831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它不但可爱，还是个名副其实的贪吃鬼。萝卜、青菜是来者不拒，给它一把草，一眨眼的功夫就把它吃完，还吃得津津有味。在没有食物的时候，它就在笼子里趴着不动。它白胖胖的，非常懒惰，吃了睡，睡了吃，哈哈！怎么样？的确贪吃吧。今天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给兔子喂青菜的时候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突然发现：真奇怪，它吃完了食物之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就用自己小爪子摸一摸自己的脸，像是一个害羞的小姑娘。老师说那是它吃饭后在洗脸。哦，原来小兔子也爱干净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4"/>
          <p:cNvSpPr/>
          <p:nvPr/>
        </p:nvSpPr>
        <p:spPr>
          <a:xfrm>
            <a:off x="3451320" y="2367000"/>
            <a:ext cx="1295280" cy="576360"/>
          </a:xfrm>
          <a:prstGeom prst="ellips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5"/>
          <p:cNvSpPr/>
          <p:nvPr/>
        </p:nvSpPr>
        <p:spPr>
          <a:xfrm>
            <a:off x="1940040" y="1790640"/>
            <a:ext cx="1366560" cy="576360"/>
          </a:xfrm>
          <a:prstGeom prst="ellips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1219320" y="5029200"/>
            <a:ext cx="66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~~~~~~~~~~~~~~~~~~~~~~~~~~~~~~~~~~~~~~~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66600" y="5678640"/>
            <a:ext cx="66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~~~~~~~~~~~~~~~~~~~~~~~~~~~~~~~~~~~~~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8"/>
          <p:cNvSpPr/>
          <p:nvPr/>
        </p:nvSpPr>
        <p:spPr>
          <a:xfrm>
            <a:off x="5322960" y="114156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52601"/>
              <a:gd name="adj4" fmla="val 177708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7164360" y="1362240"/>
            <a:ext cx="92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5050"/>
                </a:solidFill>
                <a:latin typeface="Arial"/>
              </a:rPr>
              <a:t>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5050"/>
                </a:solidFill>
                <a:latin typeface="Arial"/>
              </a:rPr>
              <a:t>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5050"/>
                </a:solidFill>
                <a:latin typeface="Arial"/>
              </a:rPr>
              <a:t>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5050"/>
                </a:solidFill>
                <a:latin typeface="Arial"/>
              </a:rPr>
              <a:t>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0" descr="5"/>
          <p:cNvPicPr/>
          <p:nvPr/>
        </p:nvPicPr>
        <p:blipFill>
          <a:blip r:embed="rId1"/>
          <a:stretch/>
        </p:blipFill>
        <p:spPr>
          <a:xfrm>
            <a:off x="6875640" y="4435560"/>
            <a:ext cx="2277720" cy="24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26640" y="1483920"/>
            <a:ext cx="727380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别看它懒，运动起来它可是个运动健将呢！它一跑出笼子，先来个跳远，用后腿一蹬，在空中向前一伸腿，前脚落地。接着，又来了个它的强项——跑步，简直无人能比：有一次，它在津津有味的吃草，我小石子打在它的屁股后，它飞快地奔跑，一眨眼，就躲到笼子里了。受了惊吓的小兔子过了许久才露出半个脑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3"/>
          <p:cNvSpPr/>
          <p:nvPr/>
        </p:nvSpPr>
        <p:spPr>
          <a:xfrm>
            <a:off x="5645160" y="1628640"/>
            <a:ext cx="1547640" cy="609840"/>
          </a:xfrm>
          <a:prstGeom prst="borderCallout1">
            <a:avLst>
              <a:gd name="adj1" fmla="val 18750"/>
              <a:gd name="adj2" fmla="val -8333"/>
              <a:gd name="adj3" fmla="val 82291"/>
              <a:gd name="adj4" fmla="val 128333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7813800" y="2238480"/>
            <a:ext cx="920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5050"/>
                </a:solidFill>
                <a:latin typeface="Arial"/>
              </a:rPr>
              <a:t>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5050"/>
                </a:solidFill>
                <a:latin typeface="Arial"/>
              </a:rPr>
              <a:t>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5050"/>
                </a:solidFill>
                <a:latin typeface="Arial"/>
              </a:rPr>
              <a:t>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5050"/>
                </a:solidFill>
                <a:latin typeface="Arial"/>
              </a:rPr>
              <a:t>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5"/>
          <p:cNvSpPr/>
          <p:nvPr/>
        </p:nvSpPr>
        <p:spPr>
          <a:xfrm>
            <a:off x="2044800" y="2708280"/>
            <a:ext cx="745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6"/>
          <p:cNvSpPr/>
          <p:nvPr/>
        </p:nvSpPr>
        <p:spPr>
          <a:xfrm>
            <a:off x="3844800" y="328464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7"/>
          <p:cNvSpPr/>
          <p:nvPr/>
        </p:nvSpPr>
        <p:spPr>
          <a:xfrm>
            <a:off x="963720" y="3284640"/>
            <a:ext cx="759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8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8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8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2T09:50:24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21:05Z</dcterms:modified>
  <cp:revision>1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