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BE86-6386-4FA3-A3A6-D3CADA830E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5F4F-9E0C-4A5C-9EEB-1C8F4D2368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AF5-6E38-4E90-BA00-3337ED3C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E5C-3D15-497C-BEA9-91A7971A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2DD-B545-4090-9EDB-CFDEB7E3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E35-FE49-4FD0-BBD3-B0E5F3B6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32F-7DAB-462D-A20E-1B4FB79E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2B2-971E-40BA-8DA9-A3874AA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729-F4F6-4693-8B17-F4123A0A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243-1FDB-44A5-9699-2B6FD86C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2A8-19B4-42A2-82FA-11DC0E59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052-30CD-45CE-95A0-32BBAF9C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FBD-AF62-4FF3-A3A0-991E76D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B26-1C9A-4338-9A1E-699996BD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39D-EA04-4F86-B9E1-469AEFCE2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97;&#750;&#871;+%CD%E6%BE%DF&amp;in=10&amp;cl=2&amp;cm=1&amp;sc=0&amp;lm=-1&amp;pn=9&amp;rn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295;%B7%A8%CE%DD&amp;in=1&amp;cl=2&amp;cm=1&amp;sc=0&amp;lm=-1&amp;pn=0&amp;rn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F%D7%D3+%CD%E6%BE%DF&amp;in=180&amp;cl=2&amp;cm=1&amp;sc=0&amp;lm=-1&amp;pn=179&amp;rn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?ct=503316480&amp;z=0&amp;tn=baiduimagedetail&amp;word=%B7%BF%D7%D3+%CD%E6%BE%DF&amp;in=47&amp;cl=2&amp;cm=1&amp;sc=0&amp;lm=-1&amp;pn=46&amp;rn=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baidu.com/i?ct=503316480&amp;z=0&amp;tn=baiduimagedetail&amp;word=%C4&#1082;%A2+%BF%A8&#872;&amp;in=254&amp;cl=2&amp;cm=1&amp;sc=0&amp;lm=-1&amp;pn=253&amp;r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6%FB%B3%B5%B6%AF%BB%AD&amp;in=1&amp;cl=2&amp;cm=1&amp;sc=0&amp;lm=-1&amp;pn=0&amp;rn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&#635;%FA+%BF%A8&#872;&amp;in=137&amp;cl=2&amp;cm=1&amp;sc=0&amp;lm=-1&amp;pn=136&amp;rn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6" descr=""/>
          <p:cNvPicPr/>
          <p:nvPr/>
        </p:nvPicPr>
        <p:blipFill>
          <a:blip r:embed="rId2"/>
          <a:stretch/>
        </p:blipFill>
        <p:spPr>
          <a:xfrm>
            <a:off x="1116000" y="1236600"/>
            <a:ext cx="1244520" cy="454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rcRect l="1500" t="2252" r="1530" b="0"/>
          <a:stretch/>
        </p:blipFill>
        <p:spPr>
          <a:xfrm>
            <a:off x="3438360" y="1125360"/>
            <a:ext cx="5011920" cy="464688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89684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u=3668268300,382409312&amp;gp=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4149720"/>
            <a:ext cx="3259080" cy="2421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2369880" y="533520"/>
            <a:ext cx="386424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我也希望我的房间</a:t>
            </a:r>
            <a:r>
              <a:rPr b="1" lang="zh-CN" sz="5000" spc="-1" strike="noStrike">
                <a:solidFill>
                  <a:srgbClr val="3333cc"/>
                </a:solidFill>
                <a:latin typeface="Times New Roman"/>
              </a:rPr>
              <a:t>是一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cc"/>
                </a:solidFill>
                <a:latin typeface="Times New Roman"/>
              </a:rPr>
              <a:t>潜水艇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。我只要趴在窗口，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就可以看见许多大章鱼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大鲨鱼、电鳗、珊瑚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龙虾</a:t>
            </a:r>
            <a:r>
              <a:rPr b="1" lang="en-US" sz="5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也许还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美人鱼呢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u=941137280,3950328541&amp;gp=-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15040" y="3941640"/>
            <a:ext cx="3828960" cy="2916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611280" y="353880"/>
            <a:ext cx="734544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我特别希望我的房间</a:t>
            </a:r>
            <a:r>
              <a:rPr b="0" lang="zh-CN" sz="5000" spc="-1" strike="noStrike">
                <a:solidFill>
                  <a:srgbClr val="3333cc"/>
                </a:solidFill>
                <a:latin typeface="Times New Roman"/>
              </a:rPr>
              <a:t>是一间</a:t>
            </a:r>
            <a:r>
              <a:rPr b="0" lang="zh-CN" sz="5000" spc="-1" strike="noStrike">
                <a:solidFill>
                  <a:srgbClr val="ff0000"/>
                </a:solidFill>
                <a:latin typeface="Times New Roman"/>
              </a:rPr>
              <a:t>魔</a:t>
            </a:r>
            <a:r>
              <a:rPr b="0" lang="zh-CN" sz="5000" spc="-1" strike="noStrike">
                <a:solidFill>
                  <a:srgbClr val="3333cc"/>
                </a:solidFill>
                <a:latin typeface="Times New Roman"/>
              </a:rPr>
              <a:t>术屋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。墙壁是</a:t>
            </a:r>
            <a:r>
              <a:rPr b="0" lang="zh-CN" sz="5000" spc="-1" strike="noStrike">
                <a:solidFill>
                  <a:srgbClr val="ff0000"/>
                </a:solidFill>
                <a:latin typeface="Times New Roman"/>
              </a:rPr>
              <a:t>饼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干，窗子是巧</a:t>
            </a:r>
            <a:r>
              <a:rPr b="0" lang="zh-CN" sz="5000" spc="-1" strike="noStrike">
                <a:solidFill>
                  <a:srgbClr val="ff0000"/>
                </a:solidFill>
                <a:latin typeface="Times New Roman"/>
              </a:rPr>
              <a:t>克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力糖，枕头是面包，</a:t>
            </a:r>
            <a:r>
              <a:rPr b="0" lang="zh-CN" sz="5000" spc="-1" strike="noStrike">
                <a:solidFill>
                  <a:srgbClr val="ff0000"/>
                </a:solidFill>
                <a:latin typeface="Times New Roman"/>
              </a:rPr>
              <a:t>毯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子是鸡蛋</a:t>
            </a:r>
            <a:r>
              <a:rPr b="0" lang="zh-CN" sz="5000" spc="-1" strike="noStrike">
                <a:solidFill>
                  <a:srgbClr val="ff0000"/>
                </a:solidFill>
                <a:latin typeface="Times New Roman"/>
              </a:rPr>
              <a:t>煎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饼，水龙头流出的全是橘子汽水。啊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那该多好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44360" y="566892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u=1220860286,1453348342&amp;gp=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5373720"/>
            <a:ext cx="1944720" cy="1000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u=2158269140,3870413694&amp;gp=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3068640"/>
            <a:ext cx="1800000" cy="3403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85800" y="533520"/>
            <a:ext cx="702144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把房间</a:t>
            </a:r>
            <a:r>
              <a:rPr b="1" lang="zh-CN" sz="5000" spc="-1" strike="noStrike">
                <a:solidFill>
                  <a:srgbClr val="3333cc"/>
                </a:solidFill>
                <a:latin typeface="Times New Roman"/>
              </a:rPr>
              <a:t>假装成学校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也很好玩。我做校长、老师和校车司机，洋娃娃和狗熊都变成了学生，我还开汽车</a:t>
            </a: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载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他们上学去呢！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31B0-2166-462A-8412-1616419D34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_1_110"/>
          <p:cNvPicPr/>
          <p:nvPr/>
        </p:nvPicPr>
        <p:blipFill>
          <a:blip r:embed="rId1"/>
          <a:stretch/>
        </p:blipFill>
        <p:spPr>
          <a:xfrm>
            <a:off x="0" y="1773360"/>
            <a:ext cx="8172360" cy="5084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87280" y="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那是一间有门窗、有小床和小枕头的屋子。妈妈常来帮我把房间收拾得干干净净，爸爸也常来教我做功课。我的故事书、玩具，我从外面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的宝贝，都放在那里。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1" descr="u=2831591178,1024734005&amp;gp=-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04240" y="4049640"/>
            <a:ext cx="2039760" cy="2808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4859280" y="5589720"/>
            <a:ext cx="186696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1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幼圆"/>
              </a:rPr>
              <a:t>我的房间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910160" y="3355920"/>
            <a:ext cx="5301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很喜欢我的房间。可是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时候，我希望我的房子跟现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一样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907320" y="3397320"/>
            <a:ext cx="155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07g"/>
          <p:cNvPicPr/>
          <p:nvPr/>
        </p:nvPicPr>
        <p:blipFill>
          <a:blip r:embed="rId1"/>
          <a:stretch/>
        </p:blipFill>
        <p:spPr>
          <a:xfrm>
            <a:off x="0" y="0"/>
            <a:ext cx="2700360" cy="23414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"/>
          <p:cNvGrpSpPr/>
          <p:nvPr/>
        </p:nvGrpSpPr>
        <p:grpSpPr>
          <a:xfrm>
            <a:off x="4427640" y="2421000"/>
            <a:ext cx="4716000" cy="4436640"/>
            <a:chOff x="4427640" y="2421000"/>
            <a:chExt cx="4716000" cy="4436640"/>
          </a:xfrm>
        </p:grpSpPr>
        <p:pic>
          <p:nvPicPr>
            <p:cNvPr id="59" name="Picture 4" descr="u=4154953636,888488799&amp;gp=2"/>
            <p:cNvPicPr/>
            <p:nvPr/>
          </p:nvPicPr>
          <p:blipFill>
            <a:blip r:embed="rId2"/>
            <a:stretch/>
          </p:blipFill>
          <p:spPr>
            <a:xfrm>
              <a:off x="4660920" y="2842920"/>
              <a:ext cx="4482720" cy="40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5"/>
            <p:cNvSpPr/>
            <p:nvPr/>
          </p:nvSpPr>
          <p:spPr>
            <a:xfrm>
              <a:off x="4427640" y="2421000"/>
              <a:ext cx="857160" cy="14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6"/>
          <p:cNvSpPr/>
          <p:nvPr/>
        </p:nvSpPr>
        <p:spPr>
          <a:xfrm>
            <a:off x="539640" y="1341360"/>
            <a:ext cx="819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880"/>
            <a:ext cx="8532720" cy="53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组学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组学习生字、词语和字形、  字义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初读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、认清字形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通课文、不添字漏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想：为什么我希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的房子有时候不一样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7"/>
          <p:cNvSpPr/>
          <p:nvPr/>
        </p:nvSpPr>
        <p:spPr>
          <a:xfrm>
            <a:off x="2836800" y="336384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_1_93"/>
          <p:cNvPicPr/>
          <p:nvPr/>
        </p:nvPicPr>
        <p:blipFill>
          <a:blip r:embed="rId1"/>
          <a:stretch/>
        </p:blipFill>
        <p:spPr>
          <a:xfrm>
            <a:off x="395280" y="1349280"/>
            <a:ext cx="5616720" cy="5508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489680" y="380880"/>
            <a:ext cx="63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希望我的房间变成（   ）、（   ）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）、（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5105520" y="533520"/>
            <a:ext cx="9144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彩云"/>
              </a:rPr>
              <a:t>汽车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彩云"/>
              <a:ea typeface="华文彩云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7467480" y="533520"/>
            <a:ext cx="9144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彩云"/>
              </a:rPr>
              <a:t>飞机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彩云"/>
              <a:ea typeface="华文彩云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533520" y="1143000"/>
            <a:ext cx="1511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彩云"/>
              </a:rPr>
              <a:t>潜水艇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彩云"/>
              <a:ea typeface="华文彩云"/>
            </a:endParaRPr>
          </a:p>
        </p:txBody>
      </p:sp>
      <p:sp>
        <p:nvSpPr>
          <p:cNvPr id="69" name="WordArt 11"/>
          <p:cNvSpPr txBox="1"/>
          <p:nvPr/>
        </p:nvSpPr>
        <p:spPr>
          <a:xfrm>
            <a:off x="3657600" y="1143000"/>
            <a:ext cx="1511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彩云"/>
              </a:rPr>
              <a:t>魔术屋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彩云"/>
              <a:ea typeface="华文彩云"/>
            </a:endParaRPr>
          </a:p>
        </p:txBody>
      </p:sp>
      <p:sp>
        <p:nvSpPr>
          <p:cNvPr id="70" name="WordArt 12"/>
          <p:cNvSpPr txBox="1"/>
          <p:nvPr/>
        </p:nvSpPr>
        <p:spPr>
          <a:xfrm>
            <a:off x="6705720" y="1143000"/>
            <a:ext cx="1081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彩云"/>
              </a:rPr>
              <a:t>学校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彩云"/>
              <a:ea typeface="华文彩云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4343400" y="2971800"/>
            <a:ext cx="11048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间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2" name="WordArt 14"/>
          <p:cNvSpPr txBox="1"/>
          <p:nvPr/>
        </p:nvSpPr>
        <p:spPr>
          <a:xfrm>
            <a:off x="7391520" y="1828800"/>
            <a:ext cx="11048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辆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7391520" y="2666880"/>
            <a:ext cx="110484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架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4" name="WordArt 16"/>
          <p:cNvSpPr txBox="1"/>
          <p:nvPr/>
        </p:nvSpPr>
        <p:spPr>
          <a:xfrm>
            <a:off x="7391520" y="3505320"/>
            <a:ext cx="11048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艘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5" name="WordArt 17"/>
          <p:cNvSpPr txBox="1"/>
          <p:nvPr/>
        </p:nvSpPr>
        <p:spPr>
          <a:xfrm>
            <a:off x="7391520" y="4419720"/>
            <a:ext cx="110484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间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7391520" y="5410080"/>
            <a:ext cx="110484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所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_1_106"/>
          <p:cNvPicPr/>
          <p:nvPr/>
        </p:nvPicPr>
        <p:blipFill>
          <a:blip r:embed="rId1"/>
          <a:stretch/>
        </p:blipFill>
        <p:spPr>
          <a:xfrm>
            <a:off x="0" y="0"/>
            <a:ext cx="9144000" cy="3166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867960" y="2637000"/>
            <a:ext cx="735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是，想完了所有之后，我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喜欢的还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自己现在的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间。在这里，我可以读书，可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73440" y="609480"/>
            <a:ext cx="780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捡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西</a:t>
            </a:r>
            <a:r>
              <a:rPr b="1" lang="en-US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念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   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舅舅   魔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术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克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饼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   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毯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煎饼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载    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熊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幻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   宝贝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u=216930859,3015467338&amp;gp=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3933720"/>
            <a:ext cx="396072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066680" y="533520"/>
            <a:ext cx="755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我希望我的房间</a:t>
            </a:r>
            <a:r>
              <a:rPr b="1" lang="zh-CN" sz="5000" spc="-1" strike="noStrike">
                <a:solidFill>
                  <a:srgbClr val="3333cc"/>
                </a:solidFill>
                <a:latin typeface="Times New Roman"/>
              </a:rPr>
              <a:t>有轮子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</a:rPr>
              <a:t>。这样，我就可以开着它跑，我要开着它跑到我搬了家的朋友那里，跟他一块儿玩儿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304920" y="304920"/>
            <a:ext cx="831672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我更希望我的房间</a:t>
            </a:r>
            <a:r>
              <a:rPr b="1" lang="zh-CN" sz="4500" spc="-1" strike="noStrike">
                <a:solidFill>
                  <a:srgbClr val="3333cc"/>
                </a:solidFill>
                <a:latin typeface="Times New Roman"/>
              </a:rPr>
              <a:t>长了翅膀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。这样，我可以飞到很远的地方，去看望在美国</a:t>
            </a: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念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书的表哥，在日本做生意的</a:t>
            </a: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舅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舅。他们看见我，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一定吓一跳，我只是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笑一笑，不说是怎么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去的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0" descr="u=1595374551,1414716785&amp;gp=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933720"/>
            <a:ext cx="2835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21:32Z</dcterms:modified>
  <cp:revision>1</cp:revision>
  <dc:subject/>
  <dc:title>幻灯片 1</dc:title>
</cp:coreProperties>
</file>