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03C-A0A2-477A-8A49-5CD79C577F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FD3-B040-4EE1-A6DD-5095D5F4B9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9C5-BEA0-455F-9021-2BD9A74B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276-FD3C-4CA2-8927-1C8ED6B0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47C-3396-4BC2-B0AF-BD06D1B5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D22-5CFC-4EB0-B30D-A09724B7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C76-7B70-4852-BE4B-493E0F34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616-8888-4788-A84F-41C07407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672-900F-4073-83DD-184D09B8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F74-1FBF-438D-9843-783222D9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40C-E58B-4317-A37A-336EA021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223-B27C-4D59-BDD3-08E76F9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0A7-782D-4562-8735-637ECC4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46D-B9F2-493E-AC46-22097B0C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A62-A8C3-4592-B52C-D172DBBD3F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830160" y="692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湘教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3179520" y="23493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我的书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07200" y="58262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584520" y="5391000"/>
            <a:ext cx="235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尺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  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028760" y="487692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hǐ   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8-1-4"/>
          <p:cNvPicPr/>
          <p:nvPr/>
        </p:nvPicPr>
        <p:blipFill>
          <a:blip r:embed="rId1"/>
          <a:stretch/>
        </p:blipFill>
        <p:spPr>
          <a:xfrm>
            <a:off x="2514600" y="9907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804960" y="136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话指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60160" y="765000"/>
            <a:ext cx="42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例：我的书包里有语文课本，有数学课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有图画本，还有文具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8480" y="2276640"/>
            <a:ext cx="829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我能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文具盒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978200" y="2492280"/>
            <a:ext cx="5708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书包       语文课本        文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盒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尺子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数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学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铅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笔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橡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411280" y="981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看你记住了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06560" y="1873080"/>
            <a:ext cx="30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757840" y="184644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包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03280" y="620640"/>
            <a:ext cx="214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sh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042920" y="522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包 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227640" y="692280"/>
            <a:ext cx="214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b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437080" y="530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包 包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06560" y="1873080"/>
            <a:ext cx="30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语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757840" y="184644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46200" y="620640"/>
            <a:ext cx="213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y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042920" y="522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语文  语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227640" y="692280"/>
            <a:ext cx="214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wé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437080" y="530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文字  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06560" y="1873080"/>
            <a:ext cx="30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757840" y="184644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本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546200" y="620640"/>
            <a:ext cx="213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k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042920" y="5229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本  课文  下课  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227640" y="692280"/>
            <a:ext cx="214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bě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437080" y="530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本子  本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06560" y="1873080"/>
            <a:ext cx="30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具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57840" y="184644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546200" y="620640"/>
            <a:ext cx="213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j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042920" y="522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文具  用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227640" y="692280"/>
            <a:ext cx="214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Arial"/>
              </a:rPr>
              <a:t>ch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013440" y="522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尺子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73480" y="695160"/>
            <a:ext cx="3889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3300"/>
                </a:solidFill>
                <a:latin typeface="Arial"/>
                <a:ea typeface="楷体_GB2312"/>
              </a:rPr>
              <a:t>语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4354560" y="1415880"/>
            <a:ext cx="2232000" cy="2737080"/>
            <a:chOff x="4354560" y="1415880"/>
            <a:chExt cx="2232000" cy="2737080"/>
          </a:xfrm>
        </p:grpSpPr>
        <p:sp>
          <p:nvSpPr>
            <p:cNvPr id="134" name="Rectangle 4"/>
            <p:cNvSpPr/>
            <p:nvPr/>
          </p:nvSpPr>
          <p:spPr>
            <a:xfrm>
              <a:off x="4642200" y="1415880"/>
              <a:ext cx="1944360" cy="27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4354560" y="2712600"/>
              <a:ext cx="630360" cy="41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6"/>
          <p:cNvSpPr/>
          <p:nvPr/>
        </p:nvSpPr>
        <p:spPr>
          <a:xfrm>
            <a:off x="612720" y="4508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语  课  说  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457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，再组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100520" y="1523880"/>
            <a:ext cx="717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书　　书 包　　 图  书　　 （　　　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05320" y="1066680"/>
            <a:ext cx="72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sh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94480" y="1082520"/>
            <a:ext cx="137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shū bā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161240" y="1082520"/>
            <a:ext cx="120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 sh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39480" y="2819520"/>
            <a:ext cx="691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课　　上  课　　课  本　　（　　　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33120" y="2397240"/>
            <a:ext cx="52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k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943640" y="2438280"/>
            <a:ext cx="152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k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207320" y="2413080"/>
            <a:ext cx="126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 bě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162440" y="4292640"/>
            <a:ext cx="717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笔　　铅 笔　　 钢   笔　　（　　　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936000" y="3692520"/>
            <a:ext cx="45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b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2108520" y="3708360"/>
            <a:ext cx="1192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071600" y="3708360"/>
            <a:ext cx="138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ɡ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 b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031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6443640" y="1413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6445080" y="270972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下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6516720" y="422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毛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5看电视2"/>
          <p:cNvPicPr/>
          <p:nvPr/>
        </p:nvPicPr>
        <p:blipFill>
          <a:blip r:embed="rId1"/>
          <a:stretch/>
        </p:blipFill>
        <p:spPr>
          <a:xfrm>
            <a:off x="771480" y="1701720"/>
            <a:ext cx="8344080" cy="4896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2556000" y="260280"/>
            <a:ext cx="304776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看图说话</a:t>
            </a:r>
            <a:endParaRPr b="1" lang="en-US" sz="6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-1"/>
          <p:cNvPicPr/>
          <p:nvPr/>
        </p:nvPicPr>
        <p:blipFill>
          <a:blip r:embed="rId1"/>
          <a:stretch/>
        </p:blipFill>
        <p:spPr>
          <a:xfrm>
            <a:off x="2197080" y="333360"/>
            <a:ext cx="4495680" cy="458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656160" y="5440320"/>
            <a:ext cx="2135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楷体_GB2312"/>
              </a:rPr>
              <a:t>书   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81280" y="4876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hū  b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031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38F8-39B8-46B4-B88A-3496095923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创设情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92000" y="26370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孩子们，你们有书包吗？书包里都有什么？说给大家听一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1028880" y="5234040"/>
            <a:ext cx="57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352680" y="5638680"/>
            <a:ext cx="358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楷体_GB2312"/>
              </a:rPr>
              <a:t>语  文  课  本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76720" y="50767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ǔ  wén  kè  b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8-2"/>
          <p:cNvPicPr/>
          <p:nvPr/>
        </p:nvPicPr>
        <p:blipFill>
          <a:blip r:embed="rId1"/>
          <a:stretch/>
        </p:blipFill>
        <p:spPr>
          <a:xfrm>
            <a:off x="2773440" y="914400"/>
            <a:ext cx="35971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883240" y="5489640"/>
            <a:ext cx="338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楷体_GB2312"/>
              </a:rPr>
              <a:t>数  学  课  本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711520" y="4800600"/>
            <a:ext cx="35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hù  xué  kè  b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8-3"/>
          <p:cNvPicPr/>
          <p:nvPr/>
        </p:nvPicPr>
        <p:blipFill>
          <a:blip r:embed="rId1"/>
          <a:stretch/>
        </p:blipFill>
        <p:spPr>
          <a:xfrm>
            <a:off x="2733840" y="990720"/>
            <a:ext cx="3674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82000" y="5715000"/>
            <a:ext cx="333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图   画   本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90160" y="502920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tú  huà  b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8-4"/>
          <p:cNvPicPr/>
          <p:nvPr/>
        </p:nvPicPr>
        <p:blipFill>
          <a:blip r:embed="rId1"/>
          <a:stretch/>
        </p:blipFill>
        <p:spPr>
          <a:xfrm>
            <a:off x="2540160" y="728640"/>
            <a:ext cx="40636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498840" y="5641920"/>
            <a:ext cx="2978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文  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楷体_GB2312"/>
              </a:rPr>
              <a:t>具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  盒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616560" y="5024520"/>
            <a:ext cx="26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én  jù  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8-1-1"/>
          <p:cNvPicPr/>
          <p:nvPr/>
        </p:nvPicPr>
        <p:blipFill>
          <a:blip r:embed="rId1"/>
          <a:stretch/>
        </p:blipFill>
        <p:spPr>
          <a:xfrm>
            <a:off x="2343240" y="609480"/>
            <a:ext cx="44575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727440" y="5718240"/>
            <a:ext cx="2368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铅    笔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664080" y="4998960"/>
            <a:ext cx="258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ān   b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8-1-2"/>
          <p:cNvPicPr/>
          <p:nvPr/>
        </p:nvPicPr>
        <p:blipFill>
          <a:blip r:embed="rId1"/>
          <a:stretch/>
        </p:blipFill>
        <p:spPr>
          <a:xfrm>
            <a:off x="2523960" y="914400"/>
            <a:ext cx="40960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78120" y="5592600"/>
            <a:ext cx="226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橡   皮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664080" y="50767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xiànɡ  p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8-1-3"/>
          <p:cNvPicPr/>
          <p:nvPr/>
        </p:nvPicPr>
        <p:blipFill>
          <a:blip r:embed="rId1"/>
          <a:stretch/>
        </p:blipFill>
        <p:spPr>
          <a:xfrm>
            <a:off x="2617920" y="685800"/>
            <a:ext cx="3908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20:54Z</dcterms:modified>
  <cp:revision>1</cp:revision>
  <dc:subject/>
  <dc:title>幻灯片 1</dc:title>
</cp:coreProperties>
</file>