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E12-C98A-489D-8A70-19F816CC74DF}" type="slidenum">
              <a:rPr b="0" lang="zh-CN" sz="12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C8A6-9EFB-4152-9EBB-128A030985B5}" type="slidenum">
              <a:rPr b="0" lang="zh-CN" sz="12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57D-9119-4F26-8470-49013677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C42-5A04-47C3-8831-8D13E4AC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EF6-ABE9-4B23-A688-30D3A565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FB1-CEEE-491C-819C-D7816E1D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D35-934F-4EA8-861B-D695267E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FE9-D70C-4E4A-B98C-8A2A418A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6A3-6F00-43E4-9D0E-E5322CA3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5B6-EB9A-4EFC-8A04-B2F8AAD6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DA3-31E1-4C70-86C5-FB7D9E7F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C39-C607-4412-9C19-F98BDF81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765-A87F-4DAE-ABA4-29B35C4A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3F2-B9F3-4250-879F-E418A3A8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034E-4A11-4974-AC63-E4D52EBEB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我是一片小树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270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5280" y="25992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观察自己所准备的树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95280" y="14130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树叶是什么形状的？树叶是什么颜色的？你看看它们的表面是否有条纹？把鼻子凑近它，你能闻到什么气味？再用手摸一摸，有什么感觉？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79280" y="4724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声地把这些发现连贯地说一说。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76"/>
          <p:cNvPicPr/>
          <p:nvPr/>
        </p:nvPicPr>
        <p:blipFill>
          <a:blip r:embed="rId1"/>
          <a:stretch/>
        </p:blipFill>
        <p:spPr>
          <a:xfrm>
            <a:off x="0" y="2852640"/>
            <a:ext cx="2643120" cy="4005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3"/>
          <p:cNvSpPr/>
          <p:nvPr/>
        </p:nvSpPr>
        <p:spPr>
          <a:xfrm>
            <a:off x="2087640" y="260280"/>
            <a:ext cx="7056360" cy="5329440"/>
          </a:xfrm>
          <a:prstGeom prst="wedgeRoundRectCallout">
            <a:avLst>
              <a:gd name="adj1" fmla="val -57444"/>
              <a:gd name="adj2" fmla="val 19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我是一片小小的树叶，春天来了，五彩缤纷的花绽开了笑脸，我也跟着花儿一起生长，虽然我没有花儿美丽，但是，我一点也不自卑，因为在我的映衬下，花儿也显眼了许多，这让我也感到自豪。</a:t>
            </a:r>
            <a:br>
              <a:rPr sz="4000"/>
            </a:b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1"/>
          <p:cNvPicPr/>
          <p:nvPr/>
        </p:nvPicPr>
        <p:blipFill>
          <a:blip r:embed="rId1"/>
          <a:stretch/>
        </p:blipFill>
        <p:spPr>
          <a:xfrm>
            <a:off x="250920" y="189000"/>
            <a:ext cx="4032000" cy="302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9"/>
          <p:cNvPicPr/>
          <p:nvPr/>
        </p:nvPicPr>
        <p:blipFill>
          <a:blip r:embed="rId2"/>
          <a:stretch/>
        </p:blipFill>
        <p:spPr>
          <a:xfrm>
            <a:off x="4643280" y="189000"/>
            <a:ext cx="4500720" cy="29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17"/>
          <p:cNvPicPr/>
          <p:nvPr/>
        </p:nvPicPr>
        <p:blipFill>
          <a:blip r:embed="rId3"/>
          <a:stretch/>
        </p:blipFill>
        <p:spPr>
          <a:xfrm>
            <a:off x="250920" y="3357720"/>
            <a:ext cx="4680000" cy="3105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5216400" y="3573360"/>
            <a:ext cx="4516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变得（                     ），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天，风婆婆（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        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像（                             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渐渐地，姐妹们都（   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地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                             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7243560" y="3573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枯黄枯黄的了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7846200" y="40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向我一招手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30476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一只美丽的黄蝴蝶，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736960" y="4724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翩然起舞，投向大地的怀抱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8211600" y="5059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像赶集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5687280" y="5445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似的聚在树妈妈的脚下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6300720" y="6093000"/>
            <a:ext cx="30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6156360" y="580536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Arial"/>
              </a:rPr>
              <a:t>国王换上了金黄色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5476320" y="616572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Arial"/>
              </a:rPr>
              <a:t>的新装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403280" y="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是一片小树叶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作者：田茂坪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42920" y="549360"/>
            <a:ext cx="90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春天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我从大树妈妈的怀抱里探出头来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然后慢慢的长成了一片小小的树叶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因为我的身上有一些斑点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所以妈妈取名叫我斑斑。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夏日炎炎的夏天里，我披上了一件深绿色的衣裳，我长的更茂盛了，我的伙伴也不甘落后，也长的又大又圆，远远看去，我们就像一把大伞，人们在这乘凉说：“好凉快，好凉快。”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秋天到了，我换上了一件火红火红的衣裳，我的伙伴：小蜜蜂，小蝴蝶飞到我的身边给我唱歌，慢慢的把我送进了甜蜜的梦乡。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寒冷的冬天到了，我离开了大树妈妈，向它告别，一阵狂风吹来，吹得我翩翩起舞，还打着旋，慢慢飘到了小溪里，突然，我听到了一遍又一遍的呼救声，赶紧漂了过去，不远处，我看见了一只小蚂蚁，小蚂蚁喊着：“斑斑快救救我。”我赶紧漂了过去，蚂蚁急忙爬了上去，慢慢睡着了，我漂到岸边，小蚂蚁爬了上去说：“斑斑，谢谢！”这时候，一个小朋友看见了我，把我捡了上来，做成了一个书签，他对我笑着说：“你真是一个有趣的小树叶。”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 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范文展示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195640" y="333360"/>
            <a:ext cx="46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词语加油站</a:t>
            </a:r>
            <a:endParaRPr b="0" lang="en-US" sz="6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32320" y="1628640"/>
            <a:ext cx="588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心形   扇形  针形  椭圆形 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宽阔   修长  狭长  锯齿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金黄   火红  嫩绿  黄澄澄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清香   乘凉  凋谢   飞舞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95400" y="5716440"/>
            <a:ext cx="67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3366ff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3366ff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3366ff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174840" y="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句子加油站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3429000"/>
            <a:ext cx="93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秋天到了，我换上了黄澄澄的衣裳。伙伴们也开始举行起了《舞林大会》，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他们穿着明黄、暗红、淡紫的纱衣，旋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转起来，宛如数十只的蝴蝶，翩翩起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舞。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79280" y="9079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春风吹来，我们为大树妈妈换上翠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绿的新装，兄弟姐妹们都绿得发蓝，在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阳光的映照下，我们像无数忽明忽暗的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蓝宝石。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2360" y="1341360"/>
            <a:ext cx="878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第一步：把自己想象成你最喜欢的那树叶，并做自我介绍。</a:t>
            </a:r>
            <a:endParaRPr b="0" lang="en-US" sz="44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第二步：写出自己在一年四季的变化（生长过程、颜色变化等）</a:t>
            </a:r>
            <a:endParaRPr b="0" lang="en-US" sz="44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第三步：说说自己经历过哪些有趣的事情，讲清楚事情的经过。</a:t>
            </a:r>
            <a:endParaRPr b="0" lang="en-US" sz="44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第四步：作为一片小树叶，你有什么心里话？把它说出来！ </a:t>
            </a:r>
            <a:endParaRPr b="0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760120" y="18900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你可以这样写：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6D70-BE14-47D1-85A8-A5B43ECEC1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966080" y="1111320"/>
            <a:ext cx="63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银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杏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9640" y="1628640"/>
            <a:ext cx="10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松 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940360" y="33336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樟树叶</a:t>
            </a:r>
            <a:endParaRPr b="0" lang="en-US" sz="4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828720" y="9493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柳叶</a:t>
            </a:r>
            <a:endParaRPr b="0" lang="en-US" sz="54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885080" y="2924280"/>
            <a:ext cx="201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蕨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7763400" y="1341360"/>
            <a:ext cx="1034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枫  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67640" y="907920"/>
            <a:ext cx="115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酸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浆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草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7451640" y="1268280"/>
            <a:ext cx="11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桃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4:18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9:20Z</dcterms:modified>
  <cp:revision>4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