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9AAB-79E0-4CFB-96F2-D690E0460F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706F-C9CE-4F4D-8E7A-CFAF695C39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A3C-42DB-4DE7-98C3-DB56A9F0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FC2-711A-4F7B-87C7-9B0FAD05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CA9-4176-4623-93A0-F25766BC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E4F-68E4-4FFF-BBC5-125B5F34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4C1-DA4A-431A-B3E4-351D4369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6D0-EB07-4FF3-9D27-490255A8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900-3FDD-4EA6-9609-16CA8482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337-BC10-4DEB-8BF9-05BFC30B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397-B4B2-4177-9171-219AC979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E8E-C9C1-4F43-9943-20304CBE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95B-FA99-4EE0-80BC-D0F5AFB1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EBC-ABAE-4B6D-99B6-FF6FEAC8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12A7-32E4-463E-9C09-5C0C0B83B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981160" y="1989000"/>
            <a:ext cx="54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是中国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82700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3005280" y="63360"/>
            <a:ext cx="33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是中国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916360" y="836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是中国娃 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916360" y="1484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着黑眼睛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916360" y="2131920"/>
            <a:ext cx="32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着黑头发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916360" y="2708280"/>
            <a:ext cx="405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的是中国字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2916360" y="3355920"/>
            <a:ext cx="43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的是中国话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900520" y="3938760"/>
            <a:ext cx="32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管在哪里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916360" y="457992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国都是我的家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50920" y="57340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2556000" y="1159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诗歌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700360" y="112536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这首诗共有几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771640" y="2133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你从每一句中知道了什么？想说哪一句就说哪一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627280" y="45086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读了这首诗你知道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龟"/>
          <p:cNvPicPr/>
          <p:nvPr/>
        </p:nvPicPr>
        <p:blipFill>
          <a:blip r:embed="rId1"/>
          <a:stretch/>
        </p:blipFill>
        <p:spPr>
          <a:xfrm>
            <a:off x="2195640" y="4437000"/>
            <a:ext cx="6624360" cy="2171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羊"/>
          <p:cNvPicPr/>
          <p:nvPr/>
        </p:nvPicPr>
        <p:blipFill>
          <a:blip r:embed="rId2"/>
          <a:stretch/>
        </p:blipFill>
        <p:spPr>
          <a:xfrm>
            <a:off x="1906560" y="2276640"/>
            <a:ext cx="6986520" cy="2304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鸟"/>
          <p:cNvPicPr/>
          <p:nvPr/>
        </p:nvPicPr>
        <p:blipFill>
          <a:blip r:embed="rId3"/>
          <a:stretch/>
        </p:blipFill>
        <p:spPr>
          <a:xfrm>
            <a:off x="1906560" y="115920"/>
            <a:ext cx="6626160" cy="2205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216000" y="326880"/>
            <a:ext cx="610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神奇的中国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国旗"/>
          <p:cNvPicPr/>
          <p:nvPr/>
        </p:nvPicPr>
        <p:blipFill>
          <a:blip r:embed="rId4"/>
          <a:stretch/>
        </p:blipFill>
        <p:spPr>
          <a:xfrm>
            <a:off x="6588000" y="333360"/>
            <a:ext cx="2016360" cy="1366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国旗"/>
          <p:cNvPicPr/>
          <p:nvPr/>
        </p:nvPicPr>
        <p:blipFill>
          <a:blip r:embed="rId5"/>
          <a:stretch/>
        </p:blipFill>
        <p:spPr>
          <a:xfrm>
            <a:off x="7236000" y="2637000"/>
            <a:ext cx="1657080" cy="1223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国旗"/>
          <p:cNvPicPr/>
          <p:nvPr/>
        </p:nvPicPr>
        <p:blipFill>
          <a:blip r:embed="rId6"/>
          <a:stretch/>
        </p:blipFill>
        <p:spPr>
          <a:xfrm>
            <a:off x="6588000" y="4437000"/>
            <a:ext cx="2087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484360" y="189000"/>
            <a:ext cx="49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字写好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3168720" y="1268280"/>
            <a:ext cx="1619280" cy="1619280"/>
            <a:chOff x="3168720" y="1268280"/>
            <a:chExt cx="1619280" cy="1619280"/>
          </a:xfrm>
        </p:grpSpPr>
        <p:sp>
          <p:nvSpPr>
            <p:cNvPr id="241" name="Rectangle 5"/>
            <p:cNvSpPr/>
            <p:nvPr/>
          </p:nvSpPr>
          <p:spPr>
            <a:xfrm>
              <a:off x="3168720" y="1268280"/>
              <a:ext cx="1619280" cy="16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>
              <a:off x="3168720" y="2077920"/>
              <a:ext cx="161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3978360" y="1268280"/>
              <a:ext cx="0" cy="1619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8"/>
          <p:cNvGrpSpPr/>
          <p:nvPr/>
        </p:nvGrpSpPr>
        <p:grpSpPr>
          <a:xfrm>
            <a:off x="5580000" y="1268280"/>
            <a:ext cx="1619280" cy="1619280"/>
            <a:chOff x="5580000" y="1268280"/>
            <a:chExt cx="1619280" cy="1619280"/>
          </a:xfrm>
        </p:grpSpPr>
        <p:sp>
          <p:nvSpPr>
            <p:cNvPr id="245" name="Rectangle 9"/>
            <p:cNvSpPr/>
            <p:nvPr/>
          </p:nvSpPr>
          <p:spPr>
            <a:xfrm>
              <a:off x="5580000" y="1268280"/>
              <a:ext cx="1619280" cy="16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0"/>
            <p:cNvSpPr/>
            <p:nvPr/>
          </p:nvSpPr>
          <p:spPr>
            <a:xfrm>
              <a:off x="5580000" y="2077920"/>
              <a:ext cx="161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1"/>
            <p:cNvSpPr/>
            <p:nvPr/>
          </p:nvSpPr>
          <p:spPr>
            <a:xfrm>
              <a:off x="6389640" y="1268280"/>
              <a:ext cx="0" cy="1619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2"/>
          <p:cNvGrpSpPr/>
          <p:nvPr/>
        </p:nvGrpSpPr>
        <p:grpSpPr>
          <a:xfrm>
            <a:off x="5580000" y="3357720"/>
            <a:ext cx="1619280" cy="1618920"/>
            <a:chOff x="5580000" y="3357720"/>
            <a:chExt cx="1619280" cy="1618920"/>
          </a:xfrm>
        </p:grpSpPr>
        <p:sp>
          <p:nvSpPr>
            <p:cNvPr id="249" name="Rectangle 13"/>
            <p:cNvSpPr/>
            <p:nvPr/>
          </p:nvSpPr>
          <p:spPr>
            <a:xfrm>
              <a:off x="5580000" y="3357720"/>
              <a:ext cx="1619280" cy="16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5580000" y="4167000"/>
              <a:ext cx="161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6389640" y="335772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6"/>
          <p:cNvGrpSpPr/>
          <p:nvPr/>
        </p:nvGrpSpPr>
        <p:grpSpPr>
          <a:xfrm>
            <a:off x="3203640" y="3357720"/>
            <a:ext cx="1619280" cy="1618920"/>
            <a:chOff x="3203640" y="3357720"/>
            <a:chExt cx="1619280" cy="1618920"/>
          </a:xfrm>
        </p:grpSpPr>
        <p:sp>
          <p:nvSpPr>
            <p:cNvPr id="253" name="Rectangle 17"/>
            <p:cNvSpPr/>
            <p:nvPr/>
          </p:nvSpPr>
          <p:spPr>
            <a:xfrm>
              <a:off x="3203640" y="3357720"/>
              <a:ext cx="1619280" cy="16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>
              <a:off x="3203640" y="4167000"/>
              <a:ext cx="161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>
              <a:off x="4013280" y="335772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20"/>
          <p:cNvSpPr/>
          <p:nvPr/>
        </p:nvSpPr>
        <p:spPr>
          <a:xfrm>
            <a:off x="3290760" y="126828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3348000" y="331308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5722920" y="331308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5722920" y="119700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2556000" y="1159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2627280" y="1125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你还知道有关中国的什么地方，或者其他跟中国有关的东西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2556000" y="314172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你长大后也许会离开中国，你会到哪里呢？你会不会忘记中国呢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20081209341124_2"/>
          <p:cNvPicPr/>
          <p:nvPr/>
        </p:nvPicPr>
        <p:blipFill>
          <a:blip r:embed="rId1"/>
          <a:stretch/>
        </p:blipFill>
        <p:spPr>
          <a:xfrm>
            <a:off x="5076720" y="404640"/>
            <a:ext cx="3816360" cy="286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213291_230424007736_2"/>
          <p:cNvPicPr/>
          <p:nvPr/>
        </p:nvPicPr>
        <p:blipFill>
          <a:blip r:embed="rId2"/>
          <a:stretch/>
        </p:blipFill>
        <p:spPr>
          <a:xfrm>
            <a:off x="90000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u=2708243064,660087224&amp;fm=23&amp;gp=0"/>
          <p:cNvPicPr/>
          <p:nvPr/>
        </p:nvPicPr>
        <p:blipFill>
          <a:blip r:embed="rId3"/>
          <a:stretch/>
        </p:blipFill>
        <p:spPr>
          <a:xfrm>
            <a:off x="971640" y="3611520"/>
            <a:ext cx="3744720" cy="2481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u=2604243279,4172901374&amp;fm=52&amp;gp=0"/>
          <p:cNvPicPr/>
          <p:nvPr/>
        </p:nvPicPr>
        <p:blipFill>
          <a:blip r:embed="rId4"/>
          <a:stretch/>
        </p:blipFill>
        <p:spPr>
          <a:xfrm>
            <a:off x="5076720" y="3573360"/>
            <a:ext cx="3816360" cy="25210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2"/>
          <p:cNvSpPr/>
          <p:nvPr/>
        </p:nvSpPr>
        <p:spPr>
          <a:xfrm>
            <a:off x="1187280" y="62064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西藏 布达拉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1187280" y="522936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云南 玉龙雪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5580000" y="692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里长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5867280" y="5373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杭州 西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73080" y="333360"/>
            <a:ext cx="61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风景如画的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u=1427173288,1188914845&amp;fm=23&amp;gp=0"/>
          <p:cNvPicPr/>
          <p:nvPr/>
        </p:nvPicPr>
        <p:blipFill>
          <a:blip r:embed="rId1"/>
          <a:stretch/>
        </p:blipFill>
        <p:spPr>
          <a:xfrm>
            <a:off x="3348000" y="981000"/>
            <a:ext cx="1898640" cy="2232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u=4219715273,2908104592&amp;fm=23&amp;gp=0"/>
          <p:cNvPicPr/>
          <p:nvPr/>
        </p:nvPicPr>
        <p:blipFill>
          <a:blip r:embed="rId2"/>
          <a:stretch/>
        </p:blipFill>
        <p:spPr>
          <a:xfrm>
            <a:off x="324000" y="1003320"/>
            <a:ext cx="2952720" cy="2209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u=2191045762,3955953799&amp;fm=23&amp;gp=0"/>
          <p:cNvPicPr/>
          <p:nvPr/>
        </p:nvPicPr>
        <p:blipFill>
          <a:blip r:embed="rId3"/>
          <a:stretch/>
        </p:blipFill>
        <p:spPr>
          <a:xfrm>
            <a:off x="590400" y="3860640"/>
            <a:ext cx="3333960" cy="1971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u=4184557220,3478862556&amp;fm=23&amp;gp=0"/>
          <p:cNvPicPr/>
          <p:nvPr/>
        </p:nvPicPr>
        <p:blipFill>
          <a:blip r:embed="rId4"/>
          <a:stretch/>
        </p:blipFill>
        <p:spPr>
          <a:xfrm>
            <a:off x="4716360" y="3716280"/>
            <a:ext cx="3780000" cy="2203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u=971625320,1192995820&amp;fm=52&amp;gp=0"/>
          <p:cNvPicPr/>
          <p:nvPr/>
        </p:nvPicPr>
        <p:blipFill>
          <a:blip r:embed="rId5"/>
          <a:stretch/>
        </p:blipFill>
        <p:spPr>
          <a:xfrm>
            <a:off x="5940360" y="996840"/>
            <a:ext cx="2952720" cy="22161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4"/>
          <p:cNvSpPr/>
          <p:nvPr/>
        </p:nvSpPr>
        <p:spPr>
          <a:xfrm>
            <a:off x="6227640" y="3270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中国火箭发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611280" y="32702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神九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问候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天宫一号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1763640" y="5877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008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年我国成功举办奥运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108000" y="115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飞速发展的中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2009130151178153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971640" y="26028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国有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6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个民族，各民族兄弟姐妹是相亲相爱的一家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国旗"/>
          <p:cNvPicPr/>
          <p:nvPr/>
        </p:nvPicPr>
        <p:blipFill>
          <a:blip r:embed="rId2"/>
          <a:stretch/>
        </p:blipFill>
        <p:spPr>
          <a:xfrm>
            <a:off x="3564000" y="549360"/>
            <a:ext cx="4537080" cy="30765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2952720" y="3789360"/>
            <a:ext cx="60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骄傲，我是中国人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"/>
          <p:cNvSpPr/>
          <p:nvPr/>
        </p:nvSpPr>
        <p:spPr>
          <a:xfrm>
            <a:off x="1109520" y="62406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252360" y="126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556000" y="62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把中、生、头、不这四个生字的笔顺写两遍，并给生字注音写两遍，再口头组两个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556000" y="2565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背诵这首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556000" y="3500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请家长辅导完成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基本功训练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中第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课的练习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519280" y="177336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花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448000" y="52704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东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716360" y="422100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游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716360" y="304632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80000" y="179064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采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680000" y="47628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肥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985080" y="47628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亭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020000" y="422100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江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7056360" y="304632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躺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985080" y="1773360"/>
            <a:ext cx="18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鸣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484360" y="30463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田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556000" y="414972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九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50920" y="57546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EAFE-4E3F-4A22-A24A-6728F5C483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map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国旗"/>
          <p:cNvPicPr/>
          <p:nvPr/>
        </p:nvPicPr>
        <p:blipFill>
          <a:blip r:embed="rId2"/>
          <a:stretch/>
        </p:blipFill>
        <p:spPr>
          <a:xfrm>
            <a:off x="2771640" y="115920"/>
            <a:ext cx="266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未命名"/>
          <p:cNvPicPr/>
          <p:nvPr/>
        </p:nvPicPr>
        <p:blipFill>
          <a:blip r:embed="rId2"/>
          <a:stretch/>
        </p:blipFill>
        <p:spPr>
          <a:xfrm>
            <a:off x="611280" y="3573360"/>
            <a:ext cx="2058840" cy="302436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8"/>
          <p:cNvGrpSpPr/>
          <p:nvPr/>
        </p:nvGrpSpPr>
        <p:grpSpPr>
          <a:xfrm>
            <a:off x="2010960" y="4570920"/>
            <a:ext cx="1347120" cy="831240"/>
            <a:chOff x="2010960" y="4570920"/>
            <a:chExt cx="1347120" cy="831240"/>
          </a:xfrm>
        </p:grpSpPr>
        <p:sp>
          <p:nvSpPr>
            <p:cNvPr id="70" name="AutoShape 10"/>
            <p:cNvSpPr/>
            <p:nvPr/>
          </p:nvSpPr>
          <p:spPr>
            <a:xfrm flipV="1" rot="21496800">
              <a:off x="2022480" y="4590000"/>
              <a:ext cx="1324080" cy="792000"/>
            </a:xfrm>
            <a:prstGeom prst="wedgeEllipseCallout">
              <a:avLst>
                <a:gd name="adj1" fmla="val -53009"/>
                <a:gd name="adj2" fmla="val 363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2124000" y="46530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你好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" descr="CAGHUYU212"/>
          <p:cNvPicPr/>
          <p:nvPr/>
        </p:nvPicPr>
        <p:blipFill>
          <a:blip r:embed="rId3"/>
          <a:stretch/>
        </p:blipFill>
        <p:spPr>
          <a:xfrm>
            <a:off x="2987640" y="44280"/>
            <a:ext cx="2521080" cy="232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399_34234"/>
          <p:cNvPicPr/>
          <p:nvPr/>
        </p:nvPicPr>
        <p:blipFill>
          <a:blip r:embed="rId4"/>
          <a:srcRect l="0" t="0" r="0" b="-744"/>
          <a:stretch/>
        </p:blipFill>
        <p:spPr>
          <a:xfrm>
            <a:off x="6157800" y="2565360"/>
            <a:ext cx="2735280" cy="253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aia010031404"/>
          <p:cNvPicPr/>
          <p:nvPr/>
        </p:nvPicPr>
        <p:blipFill>
          <a:blip r:embed="rId5"/>
          <a:stretch/>
        </p:blipFill>
        <p:spPr>
          <a:xfrm>
            <a:off x="2987640" y="2708280"/>
            <a:ext cx="2425680" cy="26654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6"/>
          <p:cNvGrpSpPr/>
          <p:nvPr/>
        </p:nvGrpSpPr>
        <p:grpSpPr>
          <a:xfrm>
            <a:off x="4572000" y="2708280"/>
            <a:ext cx="1512720" cy="865080"/>
            <a:chOff x="4572000" y="2708280"/>
            <a:chExt cx="1512720" cy="865080"/>
          </a:xfrm>
        </p:grpSpPr>
        <p:sp>
          <p:nvSpPr>
            <p:cNvPr id="76" name="AutoShape 8"/>
            <p:cNvSpPr/>
            <p:nvPr/>
          </p:nvSpPr>
          <p:spPr>
            <a:xfrm>
              <a:off x="4572000" y="2708280"/>
              <a:ext cx="1512720" cy="865080"/>
            </a:xfrm>
            <a:prstGeom prst="cloudCallout">
              <a:avLst>
                <a:gd name="adj1" fmla="val -44648"/>
                <a:gd name="adj2" fmla="val 73300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4788000" y="285264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你好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7"/>
          <p:cNvGrpSpPr/>
          <p:nvPr/>
        </p:nvGrpSpPr>
        <p:grpSpPr>
          <a:xfrm>
            <a:off x="5940360" y="189000"/>
            <a:ext cx="3239640" cy="1342080"/>
            <a:chOff x="5940360" y="189000"/>
            <a:chExt cx="3239640" cy="1342080"/>
          </a:xfrm>
        </p:grpSpPr>
        <p:grpSp>
          <p:nvGrpSpPr>
            <p:cNvPr id="79" name="Group 14"/>
            <p:cNvGrpSpPr/>
            <p:nvPr/>
          </p:nvGrpSpPr>
          <p:grpSpPr>
            <a:xfrm>
              <a:off x="5940360" y="189000"/>
              <a:ext cx="3239640" cy="1152360"/>
              <a:chOff x="5940360" y="189000"/>
              <a:chExt cx="3239640" cy="1152360"/>
            </a:xfrm>
          </p:grpSpPr>
          <p:sp>
            <p:nvSpPr>
              <p:cNvPr id="80" name="AutoShape 12"/>
              <p:cNvSpPr/>
              <p:nvPr/>
            </p:nvSpPr>
            <p:spPr>
              <a:xfrm>
                <a:off x="5940360" y="189000"/>
                <a:ext cx="3237480" cy="1152360"/>
              </a:xfrm>
              <a:prstGeom prst="cloudCallout">
                <a:avLst>
                  <a:gd name="adj1" fmla="val -66027"/>
                  <a:gd name="adj2" fmla="val 36365"/>
                </a:avLst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13"/>
              <p:cNvSpPr/>
              <p:nvPr/>
            </p:nvSpPr>
            <p:spPr>
              <a:xfrm>
                <a:off x="5940360" y="189000"/>
                <a:ext cx="3239640" cy="1152360"/>
              </a:xfrm>
              <a:prstGeom prst="cloudCallout">
                <a:avLst>
                  <a:gd name="adj1" fmla="val 3638"/>
                  <a:gd name="adj2" fmla="val 130990"/>
                </a:avLst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5"/>
            <p:cNvSpPr/>
            <p:nvPr/>
          </p:nvSpPr>
          <p:spPr>
            <a:xfrm>
              <a:off x="6084720" y="339840"/>
              <a:ext cx="305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  <a:ea typeface="黑体"/>
                </a:rPr>
                <a:t>How are yo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21"/>
          <p:cNvSpPr/>
          <p:nvPr/>
        </p:nvSpPr>
        <p:spPr>
          <a:xfrm>
            <a:off x="538200" y="1644480"/>
            <a:ext cx="10094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677960" y="476280"/>
            <a:ext cx="43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ǒ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hì z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g guó w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690560" y="2205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g zhe 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 tóu  f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692360" y="1341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g zhe 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y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j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ī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692360" y="3068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ě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de shì z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 guó z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763640" y="48751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ù gu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 z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ǎ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692360" y="401148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hu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de shì z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 guó hu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763640" y="57340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 guó 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u shì  w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ǒ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de j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005280" y="12600"/>
            <a:ext cx="33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5 </a:t>
            </a:r>
            <a:r>
              <a:rPr b="1" lang="zh-CN" sz="4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我是中国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1763640" y="981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 是  中   国  娃 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835280" y="1773360"/>
            <a:ext cx="57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生  着  黑  眼  睛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1835280" y="263700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长  着  黑  头  发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835280" y="3573360"/>
            <a:ext cx="62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写 的 是    中   国 字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908000" y="4437000"/>
            <a:ext cx="66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说  的  是   中   国   话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835280" y="5373720"/>
            <a:ext cx="49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  管   在 哪里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1908000" y="6165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中   国  都  是  我 的 家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324000" y="2133720"/>
            <a:ext cx="7189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005280" y="63360"/>
            <a:ext cx="33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5 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我是中国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916360" y="836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916360" y="1484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黑眼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916360" y="2131920"/>
            <a:ext cx="32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黑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916360" y="2708280"/>
            <a:ext cx="405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是中国字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916360" y="3355920"/>
            <a:ext cx="43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是中国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900520" y="3938760"/>
            <a:ext cx="32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在哪里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916360" y="457992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都是我的家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7" descr="6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"/>
          <p:cNvGrpSpPr/>
          <p:nvPr/>
        </p:nvGrpSpPr>
        <p:grpSpPr>
          <a:xfrm>
            <a:off x="1195560" y="2882880"/>
            <a:ext cx="900000" cy="900000"/>
            <a:chOff x="1195560" y="2882880"/>
            <a:chExt cx="900000" cy="900000"/>
          </a:xfrm>
        </p:grpSpPr>
        <p:sp>
          <p:nvSpPr>
            <p:cNvPr id="112" name="Rectangle 4"/>
            <p:cNvSpPr/>
            <p:nvPr/>
          </p:nvSpPr>
          <p:spPr>
            <a:xfrm>
              <a:off x="1195560" y="2882880"/>
              <a:ext cx="900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1195560" y="333288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1645560" y="2882880"/>
              <a:ext cx="0" cy="90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7"/>
          <p:cNvSpPr/>
          <p:nvPr/>
        </p:nvSpPr>
        <p:spPr>
          <a:xfrm>
            <a:off x="1244520" y="2801880"/>
            <a:ext cx="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166840" y="2852640"/>
            <a:ext cx="900360" cy="900360"/>
            <a:chOff x="2166840" y="2852640"/>
            <a:chExt cx="900360" cy="900360"/>
          </a:xfrm>
        </p:grpSpPr>
        <p:sp>
          <p:nvSpPr>
            <p:cNvPr id="117" name="Rectangle 9"/>
            <p:cNvSpPr/>
            <p:nvPr/>
          </p:nvSpPr>
          <p:spPr>
            <a:xfrm>
              <a:off x="2166840" y="2852640"/>
              <a:ext cx="90036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2166840" y="330264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2616840" y="2852640"/>
              <a:ext cx="0" cy="900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2"/>
          <p:cNvSpPr/>
          <p:nvPr/>
        </p:nvSpPr>
        <p:spPr>
          <a:xfrm>
            <a:off x="2166840" y="28018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3"/>
          <p:cNvGrpSpPr/>
          <p:nvPr/>
        </p:nvGrpSpPr>
        <p:grpSpPr>
          <a:xfrm>
            <a:off x="3174840" y="2852640"/>
            <a:ext cx="900360" cy="900360"/>
            <a:chOff x="3174840" y="2852640"/>
            <a:chExt cx="900360" cy="900360"/>
          </a:xfrm>
        </p:grpSpPr>
        <p:sp>
          <p:nvSpPr>
            <p:cNvPr id="122" name="Rectangle 14"/>
            <p:cNvSpPr/>
            <p:nvPr/>
          </p:nvSpPr>
          <p:spPr>
            <a:xfrm>
              <a:off x="3174840" y="2852640"/>
              <a:ext cx="90036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3174840" y="330264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6"/>
            <p:cNvSpPr/>
            <p:nvPr/>
          </p:nvSpPr>
          <p:spPr>
            <a:xfrm>
              <a:off x="3624840" y="2852640"/>
              <a:ext cx="0" cy="900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17"/>
          <p:cNvSpPr/>
          <p:nvPr/>
        </p:nvSpPr>
        <p:spPr>
          <a:xfrm>
            <a:off x="3203640" y="2820960"/>
            <a:ext cx="8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8"/>
          <p:cNvGrpSpPr/>
          <p:nvPr/>
        </p:nvGrpSpPr>
        <p:grpSpPr>
          <a:xfrm>
            <a:off x="8072280" y="2801880"/>
            <a:ext cx="900360" cy="900000"/>
            <a:chOff x="8072280" y="2801880"/>
            <a:chExt cx="900360" cy="900000"/>
          </a:xfrm>
        </p:grpSpPr>
        <p:sp>
          <p:nvSpPr>
            <p:cNvPr id="127" name="Rectangle 19"/>
            <p:cNvSpPr/>
            <p:nvPr/>
          </p:nvSpPr>
          <p:spPr>
            <a:xfrm>
              <a:off x="8072280" y="2801880"/>
              <a:ext cx="90036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8072280" y="32518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1"/>
            <p:cNvSpPr/>
            <p:nvPr/>
          </p:nvSpPr>
          <p:spPr>
            <a:xfrm>
              <a:off x="8522280" y="2801880"/>
              <a:ext cx="0" cy="90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2"/>
          <p:cNvGrpSpPr/>
          <p:nvPr/>
        </p:nvGrpSpPr>
        <p:grpSpPr>
          <a:xfrm>
            <a:off x="7099200" y="2820960"/>
            <a:ext cx="900360" cy="900000"/>
            <a:chOff x="7099200" y="2820960"/>
            <a:chExt cx="900360" cy="900000"/>
          </a:xfrm>
        </p:grpSpPr>
        <p:sp>
          <p:nvSpPr>
            <p:cNvPr id="131" name="Rectangle 23"/>
            <p:cNvSpPr/>
            <p:nvPr/>
          </p:nvSpPr>
          <p:spPr>
            <a:xfrm>
              <a:off x="7099200" y="2820960"/>
              <a:ext cx="90036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>
              <a:off x="7099200" y="32709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5"/>
            <p:cNvSpPr/>
            <p:nvPr/>
          </p:nvSpPr>
          <p:spPr>
            <a:xfrm>
              <a:off x="7549200" y="2820960"/>
              <a:ext cx="0" cy="90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6127920" y="2830680"/>
            <a:ext cx="900000" cy="900000"/>
            <a:chOff x="6127920" y="2830680"/>
            <a:chExt cx="900000" cy="900000"/>
          </a:xfrm>
        </p:grpSpPr>
        <p:sp>
          <p:nvSpPr>
            <p:cNvPr id="135" name="Rectangle 27"/>
            <p:cNvSpPr/>
            <p:nvPr/>
          </p:nvSpPr>
          <p:spPr>
            <a:xfrm>
              <a:off x="6127920" y="2830680"/>
              <a:ext cx="900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6127920" y="328068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6577920" y="2830680"/>
              <a:ext cx="0" cy="90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0"/>
          <p:cNvGrpSpPr/>
          <p:nvPr/>
        </p:nvGrpSpPr>
        <p:grpSpPr>
          <a:xfrm>
            <a:off x="5156280" y="2846520"/>
            <a:ext cx="900000" cy="900000"/>
            <a:chOff x="5156280" y="2846520"/>
            <a:chExt cx="900000" cy="900000"/>
          </a:xfrm>
        </p:grpSpPr>
        <p:sp>
          <p:nvSpPr>
            <p:cNvPr id="139" name="Rectangle 31"/>
            <p:cNvSpPr/>
            <p:nvPr/>
          </p:nvSpPr>
          <p:spPr>
            <a:xfrm>
              <a:off x="5156280" y="2846520"/>
              <a:ext cx="900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2"/>
            <p:cNvSpPr/>
            <p:nvPr/>
          </p:nvSpPr>
          <p:spPr>
            <a:xfrm>
              <a:off x="5156280" y="329652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3"/>
            <p:cNvSpPr/>
            <p:nvPr/>
          </p:nvSpPr>
          <p:spPr>
            <a:xfrm>
              <a:off x="5606280" y="2846520"/>
              <a:ext cx="0" cy="90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4"/>
          <p:cNvGrpSpPr/>
          <p:nvPr/>
        </p:nvGrpSpPr>
        <p:grpSpPr>
          <a:xfrm>
            <a:off x="4170240" y="2865600"/>
            <a:ext cx="900360" cy="900000"/>
            <a:chOff x="4170240" y="2865600"/>
            <a:chExt cx="900360" cy="900000"/>
          </a:xfrm>
        </p:grpSpPr>
        <p:sp>
          <p:nvSpPr>
            <p:cNvPr id="143" name="Rectangle 35"/>
            <p:cNvSpPr/>
            <p:nvPr/>
          </p:nvSpPr>
          <p:spPr>
            <a:xfrm>
              <a:off x="4170240" y="2865600"/>
              <a:ext cx="90036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6"/>
            <p:cNvSpPr/>
            <p:nvPr/>
          </p:nvSpPr>
          <p:spPr>
            <a:xfrm>
              <a:off x="4170240" y="331560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7"/>
            <p:cNvSpPr/>
            <p:nvPr/>
          </p:nvSpPr>
          <p:spPr>
            <a:xfrm>
              <a:off x="4620240" y="2865600"/>
              <a:ext cx="0" cy="90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8"/>
          <p:cNvGrpSpPr/>
          <p:nvPr/>
        </p:nvGrpSpPr>
        <p:grpSpPr>
          <a:xfrm>
            <a:off x="187200" y="2901960"/>
            <a:ext cx="900360" cy="900000"/>
            <a:chOff x="187200" y="2901960"/>
            <a:chExt cx="900360" cy="900000"/>
          </a:xfrm>
        </p:grpSpPr>
        <p:sp>
          <p:nvSpPr>
            <p:cNvPr id="147" name="Rectangle 39"/>
            <p:cNvSpPr/>
            <p:nvPr/>
          </p:nvSpPr>
          <p:spPr>
            <a:xfrm>
              <a:off x="187200" y="2901960"/>
              <a:ext cx="90036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0"/>
            <p:cNvSpPr/>
            <p:nvPr/>
          </p:nvSpPr>
          <p:spPr>
            <a:xfrm>
              <a:off x="187200" y="33519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1"/>
            <p:cNvSpPr/>
            <p:nvPr/>
          </p:nvSpPr>
          <p:spPr>
            <a:xfrm>
              <a:off x="637200" y="2901960"/>
              <a:ext cx="0" cy="90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42"/>
          <p:cNvSpPr/>
          <p:nvPr/>
        </p:nvSpPr>
        <p:spPr>
          <a:xfrm>
            <a:off x="42840" y="-2700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找朋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3"/>
          <p:cNvSpPr/>
          <p:nvPr/>
        </p:nvSpPr>
        <p:spPr>
          <a:xfrm>
            <a:off x="468360" y="454968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xi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2050920" y="4508640"/>
            <a:ext cx="12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3635280" y="4508640"/>
            <a:ext cx="16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hu</a:t>
            </a:r>
            <a:r>
              <a:rPr b="1" lang="en-US" sz="5400" spc="-1" strike="noStrike">
                <a:solidFill>
                  <a:srgbClr val="ff0066"/>
                </a:solidFill>
                <a:latin typeface="宋体"/>
              </a:rPr>
              <a:t>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6"/>
          <p:cNvSpPr/>
          <p:nvPr/>
        </p:nvSpPr>
        <p:spPr>
          <a:xfrm>
            <a:off x="5219640" y="447660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shu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7099200" y="44766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5400" spc="-1" strike="noStrike">
                <a:solidFill>
                  <a:srgbClr val="ff0066"/>
                </a:solidFill>
                <a:latin typeface="宋体"/>
              </a:rPr>
              <a:t>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8"/>
          <p:cNvSpPr/>
          <p:nvPr/>
        </p:nvSpPr>
        <p:spPr>
          <a:xfrm>
            <a:off x="6227640" y="1146240"/>
            <a:ext cx="215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zh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9"/>
          <p:cNvSpPr/>
          <p:nvPr/>
        </p:nvSpPr>
        <p:spPr>
          <a:xfrm>
            <a:off x="4508640" y="112392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j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ī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0"/>
          <p:cNvSpPr/>
          <p:nvPr/>
        </p:nvSpPr>
        <p:spPr>
          <a:xfrm>
            <a:off x="2637000" y="11239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1"/>
          <p:cNvSpPr/>
          <p:nvPr/>
        </p:nvSpPr>
        <p:spPr>
          <a:xfrm>
            <a:off x="620640" y="112392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1" lang="en-US" sz="5400" spc="-1" strike="noStrike">
                <a:solidFill>
                  <a:srgbClr val="ff0066"/>
                </a:solidFill>
                <a:latin typeface="宋体"/>
              </a:rPr>
              <a:t>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2"/>
          <p:cNvSpPr/>
          <p:nvPr/>
        </p:nvSpPr>
        <p:spPr>
          <a:xfrm>
            <a:off x="216000" y="2852640"/>
            <a:ext cx="79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3"/>
          <p:cNvSpPr/>
          <p:nvPr/>
        </p:nvSpPr>
        <p:spPr>
          <a:xfrm>
            <a:off x="4222800" y="2820960"/>
            <a:ext cx="86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4"/>
          <p:cNvSpPr/>
          <p:nvPr/>
        </p:nvSpPr>
        <p:spPr>
          <a:xfrm>
            <a:off x="5227560" y="2781360"/>
            <a:ext cx="7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5"/>
          <p:cNvSpPr/>
          <p:nvPr/>
        </p:nvSpPr>
        <p:spPr>
          <a:xfrm>
            <a:off x="6164280" y="278136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6"/>
          <p:cNvSpPr/>
          <p:nvPr/>
        </p:nvSpPr>
        <p:spPr>
          <a:xfrm>
            <a:off x="7164360" y="28018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7"/>
          <p:cNvSpPr/>
          <p:nvPr/>
        </p:nvSpPr>
        <p:spPr>
          <a:xfrm>
            <a:off x="8178840" y="285264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8"/>
          <p:cNvSpPr/>
          <p:nvPr/>
        </p:nvSpPr>
        <p:spPr>
          <a:xfrm>
            <a:off x="3211560" y="1916280"/>
            <a:ext cx="5176800" cy="79200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9"/>
          <p:cNvSpPr/>
          <p:nvPr/>
        </p:nvSpPr>
        <p:spPr>
          <a:xfrm flipV="1">
            <a:off x="1619280" y="1954080"/>
            <a:ext cx="5265720" cy="8985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0"/>
          <p:cNvSpPr/>
          <p:nvPr/>
        </p:nvSpPr>
        <p:spPr>
          <a:xfrm>
            <a:off x="1268280" y="1916280"/>
            <a:ext cx="2440080" cy="86508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1"/>
          <p:cNvSpPr/>
          <p:nvPr/>
        </p:nvSpPr>
        <p:spPr>
          <a:xfrm>
            <a:off x="5086440" y="1916280"/>
            <a:ext cx="1492200" cy="88560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2"/>
          <p:cNvSpPr/>
          <p:nvPr/>
        </p:nvSpPr>
        <p:spPr>
          <a:xfrm flipV="1">
            <a:off x="5940360" y="3735000"/>
            <a:ext cx="1376280" cy="91764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3"/>
          <p:cNvSpPr/>
          <p:nvPr/>
        </p:nvSpPr>
        <p:spPr>
          <a:xfrm flipV="1">
            <a:off x="2700360" y="3789000"/>
            <a:ext cx="1800360" cy="9349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4"/>
          <p:cNvSpPr/>
          <p:nvPr/>
        </p:nvSpPr>
        <p:spPr>
          <a:xfrm flipV="1">
            <a:off x="1116000" y="3801960"/>
            <a:ext cx="1449360" cy="85104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5"/>
          <p:cNvSpPr/>
          <p:nvPr/>
        </p:nvSpPr>
        <p:spPr>
          <a:xfrm flipV="1">
            <a:off x="4356000" y="3860280"/>
            <a:ext cx="1152720" cy="86364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6"/>
          <p:cNvSpPr/>
          <p:nvPr/>
        </p:nvSpPr>
        <p:spPr>
          <a:xfrm flipH="1" flipV="1">
            <a:off x="755280" y="3860280"/>
            <a:ext cx="6769080" cy="792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Next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3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evt="onNext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4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evt="onNext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5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evt="onNext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6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evt="onNext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7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Next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8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evt="onNext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9" dur="1" fill="hold"/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evt="onNext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0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evt="onNext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1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我是中国娃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5072760" y="2009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443640" y="1989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3776760"/>
            <a:ext cx="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348000" y="37162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859280" y="37162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443640" y="3716280"/>
            <a:ext cx="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419640" y="204804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979640" y="20480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1" descr="gybh"/>
          <p:cNvPicPr/>
          <p:nvPr/>
        </p:nvPicPr>
        <p:blipFill>
          <a:blip r:embed="rId2"/>
          <a:stretch/>
        </p:blipFill>
        <p:spPr>
          <a:xfrm>
            <a:off x="1692360" y="1773360"/>
            <a:ext cx="1392120" cy="1471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gybh"/>
          <p:cNvPicPr/>
          <p:nvPr/>
        </p:nvPicPr>
        <p:blipFill>
          <a:blip r:embed="rId3"/>
          <a:stretch/>
        </p:blipFill>
        <p:spPr>
          <a:xfrm>
            <a:off x="1692360" y="3357720"/>
            <a:ext cx="1392120" cy="1471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gybh"/>
          <p:cNvPicPr/>
          <p:nvPr/>
        </p:nvPicPr>
        <p:blipFill>
          <a:blip r:embed="rId4"/>
          <a:stretch/>
        </p:blipFill>
        <p:spPr>
          <a:xfrm>
            <a:off x="3132000" y="1741320"/>
            <a:ext cx="1392480" cy="1471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gybh"/>
          <p:cNvPicPr/>
          <p:nvPr/>
        </p:nvPicPr>
        <p:blipFill>
          <a:blip r:embed="rId5"/>
          <a:stretch/>
        </p:blipFill>
        <p:spPr>
          <a:xfrm>
            <a:off x="4619520" y="1700280"/>
            <a:ext cx="1392480" cy="1471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gybh"/>
          <p:cNvPicPr/>
          <p:nvPr/>
        </p:nvPicPr>
        <p:blipFill>
          <a:blip r:embed="rId6"/>
          <a:stretch/>
        </p:blipFill>
        <p:spPr>
          <a:xfrm>
            <a:off x="6084720" y="1741320"/>
            <a:ext cx="1392480" cy="1471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gybh"/>
          <p:cNvPicPr/>
          <p:nvPr/>
        </p:nvPicPr>
        <p:blipFill>
          <a:blip r:embed="rId7"/>
          <a:stretch/>
        </p:blipFill>
        <p:spPr>
          <a:xfrm>
            <a:off x="3203640" y="3357720"/>
            <a:ext cx="1392120" cy="1471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gybh"/>
          <p:cNvPicPr/>
          <p:nvPr/>
        </p:nvPicPr>
        <p:blipFill>
          <a:blip r:embed="rId8"/>
          <a:stretch/>
        </p:blipFill>
        <p:spPr>
          <a:xfrm>
            <a:off x="4643280" y="3355920"/>
            <a:ext cx="1392480" cy="151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gybh"/>
          <p:cNvPicPr/>
          <p:nvPr/>
        </p:nvPicPr>
        <p:blipFill>
          <a:blip r:embed="rId9"/>
          <a:stretch/>
        </p:blipFill>
        <p:spPr>
          <a:xfrm>
            <a:off x="6132600" y="3357720"/>
            <a:ext cx="1392120" cy="147132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22"/>
          <p:cNvGrpSpPr/>
          <p:nvPr/>
        </p:nvGrpSpPr>
        <p:grpSpPr>
          <a:xfrm>
            <a:off x="2556000" y="404640"/>
            <a:ext cx="4464000" cy="1295640"/>
            <a:chOff x="2556000" y="404640"/>
            <a:chExt cx="4464000" cy="1295640"/>
          </a:xfrm>
        </p:grpSpPr>
        <p:sp>
          <p:nvSpPr>
            <p:cNvPr id="193" name="Text Box 19"/>
            <p:cNvSpPr/>
            <p:nvPr/>
          </p:nvSpPr>
          <p:spPr>
            <a:xfrm>
              <a:off x="3132000" y="476280"/>
              <a:ext cx="367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宋体"/>
                </a:rPr>
                <a:t>生字花园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0"/>
            <p:cNvSpPr/>
            <p:nvPr/>
          </p:nvSpPr>
          <p:spPr>
            <a:xfrm>
              <a:off x="2556000" y="404640"/>
              <a:ext cx="4464000" cy="1295640"/>
            </a:xfrm>
            <a:prstGeom prst="cloudCallout">
              <a:avLst>
                <a:gd name="adj1" fmla="val -38870"/>
                <a:gd name="adj2" fmla="val 64462"/>
              </a:avLst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23"/>
          <p:cNvSpPr/>
          <p:nvPr/>
        </p:nvSpPr>
        <p:spPr>
          <a:xfrm>
            <a:off x="7812000" y="1989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7812000" y="3645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419640" y="53514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1979640" y="54007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7" descr="gybh"/>
          <p:cNvPicPr/>
          <p:nvPr/>
        </p:nvPicPr>
        <p:blipFill>
          <a:blip r:embed="rId10"/>
          <a:stretch/>
        </p:blipFill>
        <p:spPr>
          <a:xfrm>
            <a:off x="7524720" y="1700280"/>
            <a:ext cx="1392120" cy="1471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8" descr="gybh"/>
          <p:cNvPicPr/>
          <p:nvPr/>
        </p:nvPicPr>
        <p:blipFill>
          <a:blip r:embed="rId11"/>
          <a:stretch/>
        </p:blipFill>
        <p:spPr>
          <a:xfrm>
            <a:off x="7572240" y="3316320"/>
            <a:ext cx="1392480" cy="14716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9"/>
          <p:cNvSpPr/>
          <p:nvPr/>
        </p:nvSpPr>
        <p:spPr>
          <a:xfrm>
            <a:off x="611280" y="54007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0" descr="gybh"/>
          <p:cNvPicPr/>
          <p:nvPr/>
        </p:nvPicPr>
        <p:blipFill>
          <a:blip r:embed="rId12"/>
          <a:stretch/>
        </p:blipFill>
        <p:spPr>
          <a:xfrm>
            <a:off x="468360" y="5084640"/>
            <a:ext cx="1392120" cy="1471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1" descr="gybh"/>
          <p:cNvPicPr/>
          <p:nvPr/>
        </p:nvPicPr>
        <p:blipFill>
          <a:blip r:embed="rId13"/>
          <a:stretch/>
        </p:blipFill>
        <p:spPr>
          <a:xfrm>
            <a:off x="1955880" y="5084640"/>
            <a:ext cx="1392120" cy="1471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2" descr="gybh"/>
          <p:cNvPicPr/>
          <p:nvPr/>
        </p:nvPicPr>
        <p:blipFill>
          <a:blip r:embed="rId14"/>
          <a:stretch/>
        </p:blipFill>
        <p:spPr>
          <a:xfrm>
            <a:off x="3419640" y="5083200"/>
            <a:ext cx="139212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4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4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4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4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4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4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4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4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4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5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5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5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5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我是中国娃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908000" y="6336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比一比，看谁读得又快又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627280" y="253692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生</a:t>
            </a:r>
            <a:r>
              <a:rPr b="1" lang="zh-CN" sz="5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56000" y="110340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眼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824360" y="395460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4788000" y="255420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中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788000" y="105264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7093080" y="105264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写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7164360" y="395460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说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7093080" y="2536920"/>
            <a:ext cx="18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黑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2556000" y="393372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头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4:13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9:47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