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F47F-52D4-45AA-9571-B98CC5E439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C132-AA46-4CF8-A04B-399168E28C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B66-FFA2-4305-B88A-3EF6C5B1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FA7-487E-44B0-ADB9-CEA4B74C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E01-A289-4903-9544-D4F12936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383-BEC4-43A0-A0C1-9EA3869C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C2D-0CC5-416D-AC5E-D5A17646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A41-29BE-4668-AAE0-2913A252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120-F79E-4FAE-A6E8-7EF88C82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458B-DAD2-4834-AC80-77BD51AC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B8A-2AD4-47EE-90E2-048E32FE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481-610D-41B5-B229-48AEF62C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A1A-985F-44D3-AC5B-A5E63E67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1C8A-5921-4612-BA51-7500F631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0BCA-6BFE-483C-BF0F-70412D5940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227664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有一个小小的书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1157400" y="55166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-2765520" y="3330720"/>
          <a:ext cx="5708520" cy="517320"/>
        </p:xfrm>
        <a:graphic>
          <a:graphicData uri="http://schemas.openxmlformats.org/drawingml/2006/table">
            <a:tbl>
              <a:tblPr/>
              <a:tblGrid>
                <a:gridCol w="570852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-2765520" y="4883040"/>
          <a:ext cx="5708520" cy="517680"/>
        </p:xfrm>
        <a:graphic>
          <a:graphicData uri="http://schemas.openxmlformats.org/drawingml/2006/table">
            <a:tbl>
              <a:tblPr/>
              <a:tblGrid>
                <a:gridCol w="570852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-2765520" y="5400720"/>
          <a:ext cx="5708520" cy="517320"/>
        </p:xfrm>
        <a:graphic>
          <a:graphicData uri="http://schemas.openxmlformats.org/drawingml/2006/table">
            <a:tbl>
              <a:tblPr/>
              <a:tblGrid>
                <a:gridCol w="570852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20" descr="U143P1T68D126348F1023DT20080807172336"/>
          <p:cNvPicPr/>
          <p:nvPr/>
        </p:nvPicPr>
        <p:blipFill>
          <a:blip r:embed="rId1"/>
          <a:stretch/>
        </p:blipFill>
        <p:spPr>
          <a:xfrm>
            <a:off x="36360" y="-22320"/>
            <a:ext cx="90727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008611847259626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2-64590-24-3[1]"/>
          <p:cNvPicPr/>
          <p:nvPr/>
        </p:nvPicPr>
        <p:blipFill>
          <a:blip r:embed="rId2"/>
          <a:stretch/>
        </p:blipFill>
        <p:spPr>
          <a:xfrm>
            <a:off x="179280" y="2133720"/>
            <a:ext cx="5867640" cy="4425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3657600" y="117360"/>
            <a:ext cx="5486400" cy="3479760"/>
          </a:xfrm>
          <a:prstGeom prst="wedgeRectCallout">
            <a:avLst>
              <a:gd name="adj1" fmla="val -71412"/>
              <a:gd name="adj2" fmla="val 105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伟大的爱国主义者岳飞，为抗击金兵，由其母背剌“精忠报国”四字，毅然投身于抗金战争中，岳飞智勇双全，屡建奇功，很快由一名普通的士兵晋升为抗金主将。　后被赵构、秦桧等以“莫须有”的罪名将杀害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91025201950933"/>
          <p:cNvPicPr/>
          <p:nvPr/>
        </p:nvPicPr>
        <p:blipFill>
          <a:blip r:embed="rId1"/>
          <a:stretch/>
        </p:blipFill>
        <p:spPr>
          <a:xfrm>
            <a:off x="-30240" y="0"/>
            <a:ext cx="91378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685800" y="990720"/>
            <a:ext cx="4419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书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我了解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外灿烂的文化；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是书，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为我拓宽了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走向世界的道路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爱生活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爱读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9f81eef86fde312cf53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227664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6600ff"/>
                </a:solidFill>
                <a:latin typeface="Arial"/>
              </a:rPr>
              <a:t>拓展阅读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ff"/>
                </a:solidFill>
                <a:latin typeface="Arial"/>
              </a:rPr>
              <a:t>《</a:t>
            </a:r>
            <a:r>
              <a:rPr b="1" lang="zh-CN" sz="6600" spc="-1" strike="noStrike">
                <a:solidFill>
                  <a:srgbClr val="6600ff"/>
                </a:solidFill>
                <a:latin typeface="Arial"/>
              </a:rPr>
              <a:t>小小的书橱</a:t>
            </a:r>
            <a:r>
              <a:rPr b="1" lang="en-US" sz="6600" spc="-1" strike="noStrike">
                <a:solidFill>
                  <a:srgbClr val="6600ff"/>
                </a:solidFill>
                <a:latin typeface="Arial"/>
              </a:rPr>
              <a:t>》</a:t>
            </a:r>
            <a:r>
              <a:rPr b="0" lang="zh-CN" sz="66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8"/>
          <p:cNvPicPr/>
          <p:nvPr/>
        </p:nvPicPr>
        <p:blipFill>
          <a:blip r:embed="rId1"/>
          <a:stretch/>
        </p:blipFill>
        <p:spPr>
          <a:xfrm>
            <a:off x="0" y="133200"/>
            <a:ext cx="8964720" cy="6724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539640" y="765000"/>
            <a:ext cx="37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面对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广阔的世界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浩瀚的海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啊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只是坐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的小书橱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我漫游历史的长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穿越“上下五千年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我遨游在知识的空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叩问“十万个为什么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572000" y="7650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我结识了多少朋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海的女儿、快乐王子、孙悟                      空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我有多少尊敬的老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鲁迅、冰心、爱迪生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沐浴在知识的海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时而沉思，时而幻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关心童话和小说中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物的命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时而快乐，时而忧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200852219333395682"/>
          <p:cNvPicPr/>
          <p:nvPr/>
        </p:nvPicPr>
        <p:blipFill>
          <a:blip r:embed="rId1"/>
          <a:stretch/>
        </p:blipFill>
        <p:spPr>
          <a:xfrm>
            <a:off x="-31680" y="-22320"/>
            <a:ext cx="9139320" cy="6853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55680" y="1514520"/>
            <a:ext cx="836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cc00ff"/>
                </a:solidFill>
                <a:latin typeface="Arial"/>
              </a:rPr>
              <a:t>读完《小小的书橱》，你想对这位小作者说些什么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468360" y="0"/>
            <a:ext cx="3816360" cy="144000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12720" y="404640"/>
            <a:ext cx="462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我想对你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1228680" y="5140440"/>
            <a:ext cx="565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小男孩1"/>
          <p:cNvPicPr/>
          <p:nvPr/>
        </p:nvPicPr>
        <p:blipFill>
          <a:blip r:embed="rId1"/>
          <a:stretch/>
        </p:blipFill>
        <p:spPr>
          <a:xfrm>
            <a:off x="0" y="1143000"/>
            <a:ext cx="1762200" cy="3930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1763640" y="306864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闹天宫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三国演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施耐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抄贾府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西游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贯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草船借箭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伊索寓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吴承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武松打虎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格林童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农夫和蛇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红楼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格林兄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雪公主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水浒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雪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294000" y="914400"/>
            <a:ext cx="253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把下面有关的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用线连接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1981080" y="685800"/>
            <a:ext cx="5029200" cy="1523880"/>
          </a:xfrm>
          <a:prstGeom prst="cloudCallout">
            <a:avLst>
              <a:gd name="adj1" fmla="val -57166"/>
              <a:gd name="adj2" fmla="val 7364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251160" y="907920"/>
            <a:ext cx="253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把下面有关的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用线连接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5435640" y="3718080"/>
            <a:ext cx="1225440" cy="502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364640" y="3238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3276720" y="3357720"/>
            <a:ext cx="792000" cy="3603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3203640" y="3718080"/>
            <a:ext cx="865080" cy="129528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5435640" y="5084640"/>
            <a:ext cx="1009440" cy="43344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 flipV="1">
            <a:off x="3276720" y="3357360"/>
            <a:ext cx="718920" cy="9363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5797440" y="3357720"/>
            <a:ext cx="790560" cy="3603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"/>
          <p:cNvSpPr/>
          <p:nvPr/>
        </p:nvSpPr>
        <p:spPr>
          <a:xfrm>
            <a:off x="3348000" y="4653000"/>
            <a:ext cx="720720" cy="7207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 flipV="1">
            <a:off x="5364000" y="3355920"/>
            <a:ext cx="1081080" cy="21621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 flipV="1">
            <a:off x="3276720" y="4149360"/>
            <a:ext cx="718920" cy="86364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>
            <a:off x="5654520" y="4221000"/>
            <a:ext cx="862200" cy="3603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V="1">
            <a:off x="3276720" y="4581360"/>
            <a:ext cx="718920" cy="9367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5724360" y="4654440"/>
            <a:ext cx="648000" cy="3589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2771640" y="476280"/>
            <a:ext cx="30481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课外探究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184464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课后同学们自己摘抄一些有关读书的名言警句，积累好词好句，并背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01480" y="3446640"/>
            <a:ext cx="83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自己读的书和读书的体会，试着用诗歌的形式写一写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5B3E-2868-4785-9CAF-776B18C7B4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读一读"/>
          <p:cNvPicPr/>
          <p:nvPr/>
        </p:nvPicPr>
        <p:blipFill>
          <a:blip r:embed="rId1"/>
          <a:stretch/>
        </p:blipFill>
        <p:spPr>
          <a:xfrm>
            <a:off x="-33480" y="-95400"/>
            <a:ext cx="2337120" cy="244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0920" y="2060280"/>
            <a:ext cx="835344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默读诗歌，想一想：你最喜欢诗歌的哪一部分？画出来，在旁边写出自己喜欢的理由，然后再有感情的读一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008522193333956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有一个小小的书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有一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小的书橱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层搁板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托起许多好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瞧一瞧吧，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前人留下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多少故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大闹天宫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查抄贾府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草船借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武松打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农夫和蛇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白雪公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从书中，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我认识了李白，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看见了杜甫；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知道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司马迁受尽酷刑著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史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，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懂得了，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蒲松龄笔借鬼狐发感触；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我为曹植叹息，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替岳飞痛哭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…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ff"/>
                </a:solidFill>
                <a:latin typeface="Arial"/>
              </a:rPr>
              <a:t>　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书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让我了解了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中外灿烂的文化；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书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为我拓宽了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走向世界的道路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我爱生活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我爱读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读一读"/>
          <p:cNvPicPr/>
          <p:nvPr/>
        </p:nvPicPr>
        <p:blipFill>
          <a:blip r:embed="rId3"/>
          <a:stretch/>
        </p:blipFill>
        <p:spPr>
          <a:xfrm>
            <a:off x="0" y="0"/>
            <a:ext cx="1873080" cy="196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天宫"/>
          <p:cNvPicPr/>
          <p:nvPr/>
        </p:nvPicPr>
        <p:blipFill>
          <a:blip r:embed="rId4"/>
          <a:stretch/>
        </p:blipFill>
        <p:spPr>
          <a:xfrm>
            <a:off x="0" y="2637000"/>
            <a:ext cx="1619280" cy="198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白雪公主"/>
          <p:cNvPicPr/>
          <p:nvPr/>
        </p:nvPicPr>
        <p:blipFill>
          <a:blip r:embed="rId5"/>
          <a:stretch/>
        </p:blipFill>
        <p:spPr>
          <a:xfrm>
            <a:off x="0" y="5378400"/>
            <a:ext cx="1619280" cy="1479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武松大虎"/>
          <p:cNvPicPr/>
          <p:nvPr/>
        </p:nvPicPr>
        <p:blipFill>
          <a:blip r:embed="rId6"/>
          <a:stretch/>
        </p:blipFill>
        <p:spPr>
          <a:xfrm>
            <a:off x="7451640" y="3284640"/>
            <a:ext cx="1692360" cy="148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查抄贾府"/>
          <p:cNvPicPr/>
          <p:nvPr/>
        </p:nvPicPr>
        <p:blipFill>
          <a:blip r:embed="rId7"/>
          <a:stretch/>
        </p:blipFill>
        <p:spPr>
          <a:xfrm>
            <a:off x="7351560" y="5589720"/>
            <a:ext cx="17924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457200"/>
            <a:ext cx="86104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有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小的书橱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四层搁板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托起许多好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瞧一瞧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前人留下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少故事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大闹天宫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查抄贾府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草船借箭，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武松打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农夫和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白雪公主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008112601519317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cc"/>
                </a:solidFill>
                <a:latin typeface="Arial"/>
              </a:rPr>
              <a:t>细读感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宋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大闹天宫</a:t>
            </a:r>
            <a:r>
              <a:rPr b="0" lang="zh-CN" sz="3200" spc="-1" strike="noStrike">
                <a:solidFill>
                  <a:srgbClr val="3366ff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西游记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宋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查抄贾府</a:t>
            </a:r>
            <a:r>
              <a:rPr b="0" lang="zh-CN" sz="3200" spc="-1" strike="noStrike">
                <a:solidFill>
                  <a:srgbClr val="3366ff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红楼梦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宋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草船借箭</a:t>
            </a:r>
            <a:r>
              <a:rPr b="0" lang="zh-CN" sz="3200" spc="-1" strike="noStrike">
                <a:solidFill>
                  <a:srgbClr val="3366ff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三国演义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宋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武松打虎</a:t>
            </a:r>
            <a:r>
              <a:rPr b="0" lang="zh-CN" sz="3200" spc="-1" strike="noStrike">
                <a:solidFill>
                  <a:srgbClr val="3366ff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水浒传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宋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农夫和蛇</a:t>
            </a:r>
            <a:r>
              <a:rPr b="0" lang="zh-CN" sz="3200" spc="-1" strike="noStrike">
                <a:solidFill>
                  <a:srgbClr val="3366ff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伊索寓言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宋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白雪公主</a:t>
            </a:r>
            <a:r>
              <a:rPr b="0" lang="zh-CN" sz="3200" spc="-1" strike="noStrike">
                <a:solidFill>
                  <a:srgbClr val="3366ff"/>
                </a:solidFill>
                <a:latin typeface="宋体"/>
                <a:ea typeface="黑体"/>
              </a:rPr>
              <a:t>”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    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格林童话</a:t>
            </a:r>
            <a:r>
              <a:rPr b="0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684360" y="1773360"/>
            <a:ext cx="7777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瞧一瞧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前人留下了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多少故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（  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（  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（              ）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68360" y="9079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觉得小作者的书橱中还有哪些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539640" y="620640"/>
            <a:ext cx="784872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从书中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认识了李白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看见了杜甫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知道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司马迁受尽酷刑著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史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懂得了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蒲松龄笔借鬼狐发感触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为曹植叹息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替岳飞痛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……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012000" y="1844640"/>
            <a:ext cx="2590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A00529450"/>
          <p:cNvPicPr/>
          <p:nvPr/>
        </p:nvPicPr>
        <p:blipFill>
          <a:blip r:embed="rId1"/>
          <a:srcRect l="0" t="0" r="0" b="-63"/>
          <a:stretch/>
        </p:blipFill>
        <p:spPr>
          <a:xfrm>
            <a:off x="1440" y="25560"/>
            <a:ext cx="9109080" cy="6759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08000" y="1197000"/>
            <a:ext cx="3887640" cy="11919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司马迁在写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时候，司马迁因为替一位将军辩护，入狱受了酷刑。司马迁悲愤交加，几次想了此残生。但想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没有完成，便打消了这个念头。就这样，司马迁发愤写作，用了整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时间，在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，终于完成了一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字的辉煌巨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这部前无古人的著作，几乎耗尽了他毕生的心血，是他用生命写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08682"/>
          <p:cNvPicPr/>
          <p:nvPr/>
        </p:nvPicPr>
        <p:blipFill>
          <a:blip r:embed="rId1"/>
          <a:stretch/>
        </p:blipFill>
        <p:spPr>
          <a:xfrm>
            <a:off x="108000" y="620640"/>
            <a:ext cx="5040360" cy="576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04"/>
          <p:cNvPicPr/>
          <p:nvPr/>
        </p:nvPicPr>
        <p:blipFill>
          <a:blip r:embed="rId2"/>
          <a:stretch/>
        </p:blipFill>
        <p:spPr>
          <a:xfrm>
            <a:off x="4140360" y="620640"/>
            <a:ext cx="4716360" cy="576108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3635280" y="1413000"/>
            <a:ext cx="5256360" cy="4536720"/>
            <a:chOff x="3635280" y="1413000"/>
            <a:chExt cx="5256360" cy="4536720"/>
          </a:xfrm>
        </p:grpSpPr>
        <p:sp>
          <p:nvSpPr>
            <p:cNvPr id="76" name="AutoShape 5"/>
            <p:cNvSpPr/>
            <p:nvPr/>
          </p:nvSpPr>
          <p:spPr>
            <a:xfrm>
              <a:off x="3635280" y="1413000"/>
              <a:ext cx="5256360" cy="4536720"/>
            </a:xfrm>
            <a:prstGeom prst="wedgeRoundRectCallout">
              <a:avLst>
                <a:gd name="adj1" fmla="val -67666"/>
                <a:gd name="adj2" fmla="val 47314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6"/>
            <p:cNvSpPr/>
            <p:nvPr/>
          </p:nvSpPr>
          <p:spPr>
            <a:xfrm>
              <a:off x="3845520" y="1500120"/>
              <a:ext cx="4835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清代短篇小说集，是蒲松龄的代表作，在他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40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岁左右已基本完成，此后不断有所增补和修改。“聊斋”是他的书屋名称，“志”是记述的意思，“异”指奇异的故事。全书有短篇小说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491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篇。题材非常广泛，内容极其丰富。多数作品通过谈狐说鬼的手法，对当时社会的腐败、黑暗进行了有力批判，在一定程度上揭露了社会矛盾，表达了人民的愿望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7:18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0:27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0e0a000000000001024120</vt:lpwstr>
  </property>
</Properties>
</file>