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explode.wav" ContentType="audio/x-wav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3.png" ContentType="image/png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0EDE-C44F-430A-BEFE-784685A4E88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FD02-996E-4016-9DD1-74A7776D94A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D557-55AD-4897-AF5A-8A079AAE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15B5-BBEA-4882-B537-C6CCC85A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0D48A-C638-41EE-ACE7-32E91998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03F82-CB57-44A0-8A0A-5F31112F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5A366-F7B0-4E66-B67B-6ADB5D11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8A597-06E4-4903-87E8-996CF95F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C6C36-B70B-4B51-8C72-DBD13FE6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2CF9A-507B-48D2-B178-82B3FA29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1C7AA-4604-450D-AC8E-82A390B8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BC9F4-A6D9-4C8B-BE1C-D0C02442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0CCAF-421A-484A-85F0-9AA2171E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B04C5-C47C-4D4C-8C92-099ACEDE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48E-4FF3-44B2-8EDD-A2439B80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8F914-D79C-409C-9174-83DDA2C0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9D7F7-3FDF-41A1-BFB9-46E2AD4B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1AA62-8763-4A30-A2E4-8FA67F8F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A251A-105B-43BF-8C45-70965928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86A5B-344D-4498-AAAF-9C232519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70201-630A-45B3-A69B-F2E6DCCF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55088-D537-4BE3-BFDB-96AB8764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11D16-2E84-4687-B23A-E2D9301F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40891-5A3B-4C65-A610-968FD9EB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56C9A-9D44-4857-AADA-292DBF7F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B65D-BAE0-4A48-9DAA-71D35729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B323C-BE8A-42EA-A24D-451A4B30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B2D1D-E309-451F-9E26-0DC6986B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495F2-D587-4498-8835-BB76564B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4CC80-3227-4974-A511-1AF622A7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C1912-E404-456B-814B-241BB4AD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60F92-15A2-4D56-A24F-3EB25031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5C715-A632-40EF-9FDA-F1E74F3E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27614-0C46-4A40-A0D1-9BE74AE8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C589B-2161-4F6A-B254-470B4973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8FF93-6E7E-45BB-AE07-36E8105F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B57A-926A-4AD4-BDF8-C890D22E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C0ECD-899D-4435-8CF3-95314413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D1D37-6DFD-4140-867E-A56AE6A8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EC4B0-7A5C-4842-B365-067E5277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AC40-98DA-4640-B839-200D0E12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4CA4-83F7-46AF-92ED-747739D3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6DF0-89EF-4EEB-9E76-CCE6A2F1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BEBF-1DC8-4A8F-AFC7-BC489914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6328-600E-4DCF-9254-EB716909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ABCE-21D0-4C8C-83A0-2A0A5D0D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1274-6982-4031-8777-CD07EA6C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6604-926D-46A9-A961-207CB8A9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1EC6-7126-489D-8894-93A6816A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E670-19C4-4843-92E2-62C9F913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9986-5D66-4A1E-96C7-404ADE74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D7BD-45C0-467A-9F76-B08454BD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F7BA3-CDE1-4C52-916D-C6F48519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014D4-7479-44D6-8912-8F05C8DF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87C3F-99FB-4D78-A2B4-2F38DD4C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1866C-945E-42E6-8042-9D82318D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4F9A9-E90D-4C7B-AC8F-0B5A2D8D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4EC2-A0D8-42B7-B4E0-A5343412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84044-F1A4-429E-961D-9489D162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6FDEB-3849-4A58-9D5B-A9C448F2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0CC8E-DB8F-47A3-B790-8EF2C47D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0432D-BE0B-4DE1-B9CE-DF112E35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453C5-9681-4B81-876D-83BF93CB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FA828-C164-4C27-B9A7-92DDC133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1380E-63B8-496A-87DA-6941748E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1D7ED-3CF9-4CB5-954E-C285E5A4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ED8B6-20D0-427A-8E28-60DE1DD9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196DB-8411-401C-AAA4-8405F420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0A8B-0B00-4AD8-AF6E-31B226BF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4A48F-3380-4E66-BF80-7B640348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EE6DE-6EF2-4BB2-81D9-5472BA05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964A1-813A-4622-A8D9-AB631A0D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90F21-7701-410F-927D-00742BD9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23F47-0E17-48B1-8819-C311E21E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A0528-758B-4A5B-BA8C-6669A993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77B9D-B63D-48B6-9BA0-B2C7DA1A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F829A-A71F-4455-B076-1784C8EF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40474-FFBD-45AB-90C0-D404365F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F0579-0976-46B8-9DA5-897BBA9E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CE8D-A8B9-4FFA-8D8F-EA513846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9614F-B256-4551-B661-8E87ADCE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5FD48-8259-4E66-84C1-E10ABA7E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5E723-0119-4E1D-ACB8-09A79C6C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C353F-50A5-4DB3-91D1-A7036A03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15C35-E4B1-4F31-AE9B-C519D8B6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F37D8-674C-45EF-9911-2C2BA60F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2C4A7-5F23-41F3-9F54-0A0938EA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E9F61-74BD-481E-8CE3-006A71A0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4A7A7-CD14-428C-9ED0-1606C2D0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A87B5-5F0E-4242-8A55-9EDDB646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086D-ABB8-4CE4-95BC-5B28F8B8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86233-BAAC-4E5C-A5C2-8B26493B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AA038-CB57-4FB0-BB14-B2184F5A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93B1D-1F92-4282-9FBB-C04B89AC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1920E-D8E3-4B2A-91FA-D85DC7A3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822CA-9369-4418-8144-A97A3ADE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C9A5C-3960-47DA-A6E9-D3F9715F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7A66B-F425-4F54-8AD9-6C48CD38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8ECFA-CA4D-4B75-BD0C-0F5316A9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98561-8B58-4F9F-8190-53BDBE8A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9A021-1CB9-460A-A1F4-630CE031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2996-F183-4D07-B87B-1E02E396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D2969-A0D1-410A-94BB-54570CF9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65A68-244C-4F76-8AEB-63EDF2CE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CC809-ED6E-4DF3-956D-5D0D65BB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1DA0E-E07F-402C-BC8D-59676B13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44924-A6D1-401B-96D6-7BFD0884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72F57-0504-40E1-85A0-DB1B7554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1FE0F-62D9-4D17-A500-EFE1E161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B1794-FC2D-4CD8-8916-538CBF7E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02A23-721D-4BEB-B584-8987AD77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976E2-BB2F-4EB7-9556-201A95A2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99A1-CC64-4AE2-8412-7362C1F6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D4AAA-0E2E-4E3C-AA78-2F61BC21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B935F-EB0F-4B09-8D73-66810655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B5DDA-A0CC-47F7-8A10-A5AEA3D5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C4C41-0E2B-44C2-9E19-F441869E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0DADC-7B7C-4799-B691-38161607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77048-91E8-4C1F-94CC-017244E0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460F6-66CB-4C4D-B141-A156712D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6B6CE-610B-43B6-B007-134D28E5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DDAF9-C507-40E6-A6CB-BE53E163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6572E-7962-4685-90E2-D31C8CF0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3B7D-11F3-43E5-A6A7-79FFE1ED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17C5F-2042-4297-BB80-C2B9465B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E1E0C-DEE8-41EA-B1BC-60EA14D9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FE1DE-0360-4D2F-B40E-259CF3BB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9EB8F-BEF6-408A-837B-2C8E8CDC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7929F-04A6-45CB-82D6-E3403F12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71A3C-5C93-4A32-B89B-568530B4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0E29F-75FF-48B8-BBC1-4D64CE42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E8B67-24D8-4206-9E43-F598E65D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028CF-A104-45D2-9615-57BB5E53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E7B83-65B8-4144-AB65-259E4E4F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7CEC-A829-403B-B1C5-6003699D41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2C2F-BE4C-476D-81A5-0CC058EC09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86A2-7DDD-443D-822D-FEFFE76D73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6986-C688-4785-86D5-E103916D85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76E5-A3F2-4AE3-BD31-E6428818CD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F870-B9FF-4266-A7F3-284DF4AB53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13A6-8796-4AFD-BD50-FCB8F297F2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FB0A-8387-42A6-A8F0-764CDEA6E0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A9B6-2343-41E6-834E-6552B701E6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923D-4EC5-4951-8083-BD136C18F2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FC1F-8D69-4AE3-864B-225829B6A5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24DC-A4FF-4DBF-94A0-152D3EE59D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横卷形 8" descr=""/>
          <p:cNvPicPr/>
          <p:nvPr/>
        </p:nvPicPr>
        <p:blipFill>
          <a:blip r:embed="rId1"/>
          <a:stretch/>
        </p:blipFill>
        <p:spPr>
          <a:xfrm>
            <a:off x="-11160" y="1898640"/>
            <a:ext cx="9118800" cy="2066760"/>
          </a:xfrm>
          <a:prstGeom prst="rect">
            <a:avLst/>
          </a:prstGeom>
          <a:ln w="0">
            <a:noFill/>
          </a:ln>
        </p:spPr>
      </p:pic>
      <p:sp>
        <p:nvSpPr>
          <p:cNvPr id="459" name="矩形 6"/>
          <p:cNvSpPr/>
          <p:nvPr/>
        </p:nvSpPr>
        <p:spPr>
          <a:xfrm>
            <a:off x="1423440" y="5732640"/>
            <a:ext cx="6248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TextBox 5" descr=""/>
          <p:cNvPicPr/>
          <p:nvPr/>
        </p:nvPicPr>
        <p:blipFill>
          <a:blip r:embed="rId1"/>
          <a:stretch/>
        </p:blipFill>
        <p:spPr>
          <a:xfrm>
            <a:off x="50760" y="2500200"/>
            <a:ext cx="1440000" cy="462240"/>
          </a:xfrm>
          <a:prstGeom prst="rect">
            <a:avLst/>
          </a:prstGeom>
          <a:ln w="0">
            <a:noFill/>
          </a:ln>
        </p:spPr>
      </p:pic>
      <p:pic>
        <p:nvPicPr>
          <p:cNvPr id="525" name="TextBox 8" descr=""/>
          <p:cNvPicPr/>
          <p:nvPr/>
        </p:nvPicPr>
        <p:blipFill>
          <a:blip r:embed="rId2"/>
          <a:stretch/>
        </p:blipFill>
        <p:spPr>
          <a:xfrm>
            <a:off x="7832880" y="2500200"/>
            <a:ext cx="1311120" cy="462240"/>
          </a:xfrm>
          <a:prstGeom prst="rect">
            <a:avLst/>
          </a:prstGeom>
          <a:ln w="0">
            <a:noFill/>
          </a:ln>
        </p:spPr>
      </p:pic>
      <p:pic>
        <p:nvPicPr>
          <p:cNvPr id="526" name="TextBox 9" descr=""/>
          <p:cNvPicPr/>
          <p:nvPr/>
        </p:nvPicPr>
        <p:blipFill>
          <a:blip r:embed="rId3"/>
          <a:stretch/>
        </p:blipFill>
        <p:spPr>
          <a:xfrm>
            <a:off x="3940200" y="2500200"/>
            <a:ext cx="1326960" cy="462240"/>
          </a:xfrm>
          <a:prstGeom prst="rect">
            <a:avLst/>
          </a:prstGeom>
          <a:ln w="0">
            <a:noFill/>
          </a:ln>
        </p:spPr>
      </p:pic>
      <p:pic>
        <p:nvPicPr>
          <p:cNvPr id="527" name="TextBox 10" descr=""/>
          <p:cNvPicPr/>
          <p:nvPr/>
        </p:nvPicPr>
        <p:blipFill>
          <a:blip r:embed="rId4"/>
          <a:stretch/>
        </p:blipFill>
        <p:spPr>
          <a:xfrm>
            <a:off x="2732040" y="488880"/>
            <a:ext cx="3743280" cy="924120"/>
          </a:xfrm>
          <a:prstGeom prst="rect">
            <a:avLst/>
          </a:prstGeom>
          <a:ln w="0">
            <a:noFill/>
          </a:ln>
        </p:spPr>
      </p:pic>
      <p:grpSp>
        <p:nvGrpSpPr>
          <p:cNvPr id="528" name="组合 14"/>
          <p:cNvGrpSpPr/>
          <p:nvPr/>
        </p:nvGrpSpPr>
        <p:grpSpPr>
          <a:xfrm>
            <a:off x="1403280" y="3716280"/>
            <a:ext cx="6640560" cy="2592360"/>
            <a:chOff x="1403280" y="3716280"/>
            <a:chExt cx="6640560" cy="2592360"/>
          </a:xfrm>
        </p:grpSpPr>
        <p:sp>
          <p:nvSpPr>
            <p:cNvPr id="529" name="爆炸形 1 15"/>
            <p:cNvSpPr/>
            <p:nvPr/>
          </p:nvSpPr>
          <p:spPr>
            <a:xfrm>
              <a:off x="1403280" y="3716280"/>
              <a:ext cx="6640560" cy="2592360"/>
            </a:xfrm>
            <a:prstGeom prst="irregularSeal1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0" name="矩形 16" descr=""/>
            <p:cNvPicPr/>
            <p:nvPr/>
          </p:nvPicPr>
          <p:blipFill>
            <a:blip r:embed="rId5"/>
            <a:stretch/>
          </p:blipFill>
          <p:spPr>
            <a:xfrm>
              <a:off x="2809080" y="4436280"/>
              <a:ext cx="3834360" cy="94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下箭头 17"/>
          <p:cNvSpPr/>
          <p:nvPr/>
        </p:nvSpPr>
        <p:spPr>
          <a:xfrm flipV="1">
            <a:off x="8317080" y="3357720"/>
            <a:ext cx="280800" cy="50472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2"/>
          <p:cNvSpPr/>
          <p:nvPr/>
        </p:nvSpPr>
        <p:spPr>
          <a:xfrm>
            <a:off x="608040" y="2970360"/>
            <a:ext cx="7923240" cy="387360"/>
          </a:xfrm>
          <a:custGeom>
            <a:avLst/>
            <a:gdLst/>
            <a:ahLst/>
            <a:rect l="l" t="t" r="r" b="b"/>
            <a:pathLst>
              <a:path w="7923906" h="386705">
                <a:moveTo>
                  <a:pt x="3916371" y="0"/>
                </a:moveTo>
                <a:lnTo>
                  <a:pt x="4075461" y="0"/>
                </a:lnTo>
                <a:lnTo>
                  <a:pt x="4075461" y="242689"/>
                </a:lnTo>
                <a:lnTo>
                  <a:pt x="7760349" y="242689"/>
                </a:lnTo>
                <a:lnTo>
                  <a:pt x="7760349" y="26665"/>
                </a:lnTo>
                <a:lnTo>
                  <a:pt x="7919439" y="26665"/>
                </a:lnTo>
                <a:lnTo>
                  <a:pt x="7919439" y="242689"/>
                </a:lnTo>
                <a:lnTo>
                  <a:pt x="7923906" y="242689"/>
                </a:lnTo>
                <a:lnTo>
                  <a:pt x="7923906" y="386705"/>
                </a:lnTo>
                <a:lnTo>
                  <a:pt x="7919439" y="386705"/>
                </a:lnTo>
                <a:lnTo>
                  <a:pt x="7760349" y="386705"/>
                </a:lnTo>
                <a:lnTo>
                  <a:pt x="159090" y="386705"/>
                </a:lnTo>
                <a:lnTo>
                  <a:pt x="3906" y="386705"/>
                </a:lnTo>
                <a:lnTo>
                  <a:pt x="0" y="386705"/>
                </a:lnTo>
                <a:lnTo>
                  <a:pt x="0" y="26665"/>
                </a:lnTo>
                <a:lnTo>
                  <a:pt x="159090" y="26665"/>
                </a:lnTo>
                <a:lnTo>
                  <a:pt x="159090" y="242689"/>
                </a:lnTo>
                <a:lnTo>
                  <a:pt x="3916371" y="242689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4" descr="QQ截图20140324204717"/>
          <p:cNvPicPr/>
          <p:nvPr/>
        </p:nvPicPr>
        <p:blipFill>
          <a:blip r:embed="rId6"/>
          <a:stretch/>
        </p:blipFill>
        <p:spPr>
          <a:xfrm>
            <a:off x="0" y="0"/>
            <a:ext cx="1332000" cy="10526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5" descr="QQ截图20140324204717"/>
          <p:cNvPicPr/>
          <p:nvPr/>
        </p:nvPicPr>
        <p:blipFill>
          <a:blip r:embed="rId7"/>
          <a:stretch/>
        </p:blipFill>
        <p:spPr>
          <a:xfrm>
            <a:off x="7812000" y="0"/>
            <a:ext cx="1332000" cy="981000"/>
          </a:xfrm>
          <a:prstGeom prst="rect">
            <a:avLst/>
          </a:prstGeom>
          <a:ln w="0">
            <a:noFill/>
          </a:ln>
        </p:spPr>
      </p:pic>
      <p:pic>
        <p:nvPicPr>
          <p:cNvPr id="535" name="警报声 特效音效.mp3" descr=""/>
          <p:cNvPicPr/>
          <p:nvPr/>
        </p:nvPicPr>
        <p:blipFill>
          <a:blip r:embed="rId8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3213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TextBox 5" descr=""/>
          <p:cNvPicPr/>
          <p:nvPr/>
        </p:nvPicPr>
        <p:blipFill>
          <a:blip r:embed="rId1"/>
          <a:stretch/>
        </p:blipFill>
        <p:spPr>
          <a:xfrm>
            <a:off x="50760" y="2500200"/>
            <a:ext cx="1440000" cy="462240"/>
          </a:xfrm>
          <a:prstGeom prst="rect">
            <a:avLst/>
          </a:prstGeom>
          <a:ln w="0">
            <a:noFill/>
          </a:ln>
        </p:spPr>
      </p:pic>
      <p:pic>
        <p:nvPicPr>
          <p:cNvPr id="537" name="TextBox 8" descr=""/>
          <p:cNvPicPr/>
          <p:nvPr/>
        </p:nvPicPr>
        <p:blipFill>
          <a:blip r:embed="rId2"/>
          <a:stretch/>
        </p:blipFill>
        <p:spPr>
          <a:xfrm>
            <a:off x="7832880" y="2500200"/>
            <a:ext cx="1311120" cy="462240"/>
          </a:xfrm>
          <a:prstGeom prst="rect">
            <a:avLst/>
          </a:prstGeom>
          <a:ln w="0">
            <a:noFill/>
          </a:ln>
        </p:spPr>
      </p:pic>
      <p:pic>
        <p:nvPicPr>
          <p:cNvPr id="538" name="TextBox 9" descr=""/>
          <p:cNvPicPr/>
          <p:nvPr/>
        </p:nvPicPr>
        <p:blipFill>
          <a:blip r:embed="rId3"/>
          <a:stretch/>
        </p:blipFill>
        <p:spPr>
          <a:xfrm>
            <a:off x="3940200" y="2500200"/>
            <a:ext cx="1326960" cy="462240"/>
          </a:xfrm>
          <a:prstGeom prst="rect">
            <a:avLst/>
          </a:prstGeom>
          <a:ln w="0">
            <a:noFill/>
          </a:ln>
        </p:spPr>
      </p:pic>
      <p:pic>
        <p:nvPicPr>
          <p:cNvPr id="539" name="TextBox 10" descr=""/>
          <p:cNvPicPr/>
          <p:nvPr/>
        </p:nvPicPr>
        <p:blipFill>
          <a:blip r:embed="rId4"/>
          <a:stretch/>
        </p:blipFill>
        <p:spPr>
          <a:xfrm>
            <a:off x="2732040" y="488880"/>
            <a:ext cx="3743280" cy="924120"/>
          </a:xfrm>
          <a:prstGeom prst="rect">
            <a:avLst/>
          </a:prstGeom>
          <a:ln w="0">
            <a:noFill/>
          </a:ln>
        </p:spPr>
      </p:pic>
      <p:grpSp>
        <p:nvGrpSpPr>
          <p:cNvPr id="540" name="组合 13"/>
          <p:cNvGrpSpPr/>
          <p:nvPr/>
        </p:nvGrpSpPr>
        <p:grpSpPr>
          <a:xfrm>
            <a:off x="1728720" y="3860640"/>
            <a:ext cx="6639120" cy="2592720"/>
            <a:chOff x="1728720" y="3860640"/>
            <a:chExt cx="6639120" cy="2592720"/>
          </a:xfrm>
        </p:grpSpPr>
        <p:sp>
          <p:nvSpPr>
            <p:cNvPr id="541" name="爆炸形 1 11"/>
            <p:cNvSpPr/>
            <p:nvPr/>
          </p:nvSpPr>
          <p:spPr>
            <a:xfrm>
              <a:off x="1728720" y="3860640"/>
              <a:ext cx="6639120" cy="2592720"/>
            </a:xfrm>
            <a:prstGeom prst="irregularSeal1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2" name="矩形 12" descr=""/>
            <p:cNvPicPr/>
            <p:nvPr/>
          </p:nvPicPr>
          <p:blipFill>
            <a:blip r:embed="rId5"/>
            <a:stretch/>
          </p:blipFill>
          <p:spPr>
            <a:xfrm>
              <a:off x="3134160" y="4580640"/>
              <a:ext cx="3834000" cy="97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3" name="组合 14"/>
          <p:cNvGrpSpPr/>
          <p:nvPr/>
        </p:nvGrpSpPr>
        <p:grpSpPr>
          <a:xfrm>
            <a:off x="1755720" y="3860640"/>
            <a:ext cx="6640560" cy="2592720"/>
            <a:chOff x="1755720" y="3860640"/>
            <a:chExt cx="6640560" cy="2592720"/>
          </a:xfrm>
        </p:grpSpPr>
        <p:sp>
          <p:nvSpPr>
            <p:cNvPr id="544" name="爆炸形 1 15"/>
            <p:cNvSpPr/>
            <p:nvPr/>
          </p:nvSpPr>
          <p:spPr>
            <a:xfrm>
              <a:off x="1755720" y="3860640"/>
              <a:ext cx="6640560" cy="2592720"/>
            </a:xfrm>
            <a:prstGeom prst="irregularSeal1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5" name="矩形 16" descr=""/>
            <p:cNvPicPr/>
            <p:nvPr/>
          </p:nvPicPr>
          <p:blipFill>
            <a:blip r:embed="rId6"/>
            <a:stretch/>
          </p:blipFill>
          <p:spPr>
            <a:xfrm>
              <a:off x="3161520" y="4580640"/>
              <a:ext cx="3834360" cy="94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6" name="下箭头 17"/>
          <p:cNvSpPr/>
          <p:nvPr/>
        </p:nvSpPr>
        <p:spPr>
          <a:xfrm flipV="1">
            <a:off x="490680" y="3397320"/>
            <a:ext cx="280800" cy="5047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ff000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2"/>
          <p:cNvSpPr/>
          <p:nvPr/>
        </p:nvSpPr>
        <p:spPr>
          <a:xfrm>
            <a:off x="608040" y="2970360"/>
            <a:ext cx="7923240" cy="387360"/>
          </a:xfrm>
          <a:custGeom>
            <a:avLst/>
            <a:gdLst/>
            <a:ahLst/>
            <a:rect l="l" t="t" r="r" b="b"/>
            <a:pathLst>
              <a:path w="7923906" h="386705">
                <a:moveTo>
                  <a:pt x="3916371" y="0"/>
                </a:moveTo>
                <a:lnTo>
                  <a:pt x="4075461" y="0"/>
                </a:lnTo>
                <a:lnTo>
                  <a:pt x="4075461" y="242689"/>
                </a:lnTo>
                <a:lnTo>
                  <a:pt x="7760349" y="242689"/>
                </a:lnTo>
                <a:lnTo>
                  <a:pt x="7760349" y="26665"/>
                </a:lnTo>
                <a:lnTo>
                  <a:pt x="7919439" y="26665"/>
                </a:lnTo>
                <a:lnTo>
                  <a:pt x="7919439" y="242689"/>
                </a:lnTo>
                <a:lnTo>
                  <a:pt x="7923906" y="242689"/>
                </a:lnTo>
                <a:lnTo>
                  <a:pt x="7923906" y="386705"/>
                </a:lnTo>
                <a:lnTo>
                  <a:pt x="7919439" y="386705"/>
                </a:lnTo>
                <a:lnTo>
                  <a:pt x="7760349" y="386705"/>
                </a:lnTo>
                <a:lnTo>
                  <a:pt x="159090" y="386705"/>
                </a:lnTo>
                <a:lnTo>
                  <a:pt x="3906" y="386705"/>
                </a:lnTo>
                <a:lnTo>
                  <a:pt x="0" y="386705"/>
                </a:lnTo>
                <a:lnTo>
                  <a:pt x="0" y="26665"/>
                </a:lnTo>
                <a:lnTo>
                  <a:pt x="159090" y="26665"/>
                </a:lnTo>
                <a:lnTo>
                  <a:pt x="159090" y="242689"/>
                </a:lnTo>
                <a:lnTo>
                  <a:pt x="3916371" y="242689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5" descr="QQ截图20140324204717"/>
          <p:cNvPicPr/>
          <p:nvPr/>
        </p:nvPicPr>
        <p:blipFill>
          <a:blip r:embed="rId7"/>
          <a:stretch/>
        </p:blipFill>
        <p:spPr>
          <a:xfrm>
            <a:off x="0" y="0"/>
            <a:ext cx="1332000" cy="10526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6" descr="QQ截图20140324204717"/>
          <p:cNvPicPr/>
          <p:nvPr/>
        </p:nvPicPr>
        <p:blipFill>
          <a:blip r:embed="rId8"/>
          <a:stretch/>
        </p:blipFill>
        <p:spPr>
          <a:xfrm>
            <a:off x="7812000" y="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7 L 0.86424 -0.00139 E">
                                      <p:cBhvr>
                                        <p:cTn id="100" dur="180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0"/>
                            </p:stCondLst>
                            <p:childTnLst>
                              <p:par>
                                <p:cTn id="10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TextBox 5" descr=""/>
          <p:cNvPicPr/>
          <p:nvPr/>
        </p:nvPicPr>
        <p:blipFill>
          <a:blip r:embed="rId1"/>
          <a:stretch/>
        </p:blipFill>
        <p:spPr>
          <a:xfrm>
            <a:off x="50760" y="2500200"/>
            <a:ext cx="1440000" cy="462240"/>
          </a:xfrm>
          <a:prstGeom prst="rect">
            <a:avLst/>
          </a:prstGeom>
          <a:ln w="0">
            <a:noFill/>
          </a:ln>
        </p:spPr>
      </p:pic>
      <p:pic>
        <p:nvPicPr>
          <p:cNvPr id="551" name="TextBox 8" descr=""/>
          <p:cNvPicPr/>
          <p:nvPr/>
        </p:nvPicPr>
        <p:blipFill>
          <a:blip r:embed="rId2"/>
          <a:stretch/>
        </p:blipFill>
        <p:spPr>
          <a:xfrm>
            <a:off x="7832880" y="2500200"/>
            <a:ext cx="1311120" cy="462240"/>
          </a:xfrm>
          <a:prstGeom prst="rect">
            <a:avLst/>
          </a:prstGeom>
          <a:ln w="0">
            <a:noFill/>
          </a:ln>
        </p:spPr>
      </p:pic>
      <p:pic>
        <p:nvPicPr>
          <p:cNvPr id="552" name="TextBox 9" descr=""/>
          <p:cNvPicPr/>
          <p:nvPr/>
        </p:nvPicPr>
        <p:blipFill>
          <a:blip r:embed="rId3"/>
          <a:stretch/>
        </p:blipFill>
        <p:spPr>
          <a:xfrm>
            <a:off x="3940200" y="2500200"/>
            <a:ext cx="1326960" cy="462240"/>
          </a:xfrm>
          <a:prstGeom prst="rect">
            <a:avLst/>
          </a:prstGeom>
          <a:ln w="0">
            <a:noFill/>
          </a:ln>
        </p:spPr>
      </p:pic>
      <p:pic>
        <p:nvPicPr>
          <p:cNvPr id="553" name="TextBox 10" descr=""/>
          <p:cNvPicPr/>
          <p:nvPr/>
        </p:nvPicPr>
        <p:blipFill>
          <a:blip r:embed="rId4"/>
          <a:stretch/>
        </p:blipFill>
        <p:spPr>
          <a:xfrm>
            <a:off x="2732040" y="488880"/>
            <a:ext cx="3743280" cy="924120"/>
          </a:xfrm>
          <a:prstGeom prst="rect">
            <a:avLst/>
          </a:prstGeom>
          <a:ln w="0">
            <a:noFill/>
          </a:ln>
        </p:spPr>
      </p:pic>
      <p:grpSp>
        <p:nvGrpSpPr>
          <p:cNvPr id="554" name="组合 14"/>
          <p:cNvGrpSpPr/>
          <p:nvPr/>
        </p:nvGrpSpPr>
        <p:grpSpPr>
          <a:xfrm>
            <a:off x="1403280" y="3716280"/>
            <a:ext cx="6640560" cy="2592360"/>
            <a:chOff x="1403280" y="3716280"/>
            <a:chExt cx="6640560" cy="2592360"/>
          </a:xfrm>
        </p:grpSpPr>
        <p:sp>
          <p:nvSpPr>
            <p:cNvPr id="555" name="爆炸形 1 15"/>
            <p:cNvSpPr/>
            <p:nvPr/>
          </p:nvSpPr>
          <p:spPr>
            <a:xfrm>
              <a:off x="1403280" y="3716280"/>
              <a:ext cx="6640560" cy="2592360"/>
            </a:xfrm>
            <a:prstGeom prst="irregularSeal1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矩形 16" descr=""/>
            <p:cNvPicPr/>
            <p:nvPr/>
          </p:nvPicPr>
          <p:blipFill>
            <a:blip r:embed="rId5"/>
            <a:stretch/>
          </p:blipFill>
          <p:spPr>
            <a:xfrm>
              <a:off x="2809080" y="4436280"/>
              <a:ext cx="3834360" cy="94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7" name="下箭头 17"/>
          <p:cNvSpPr/>
          <p:nvPr/>
        </p:nvSpPr>
        <p:spPr>
          <a:xfrm flipV="1">
            <a:off x="8317080" y="3357720"/>
            <a:ext cx="280800" cy="50472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2"/>
          <p:cNvSpPr/>
          <p:nvPr/>
        </p:nvSpPr>
        <p:spPr>
          <a:xfrm>
            <a:off x="608040" y="2970360"/>
            <a:ext cx="7923240" cy="387360"/>
          </a:xfrm>
          <a:custGeom>
            <a:avLst/>
            <a:gdLst/>
            <a:ahLst/>
            <a:rect l="l" t="t" r="r" b="b"/>
            <a:pathLst>
              <a:path w="7923906" h="386705">
                <a:moveTo>
                  <a:pt x="3916371" y="0"/>
                </a:moveTo>
                <a:lnTo>
                  <a:pt x="4075461" y="0"/>
                </a:lnTo>
                <a:lnTo>
                  <a:pt x="4075461" y="242689"/>
                </a:lnTo>
                <a:lnTo>
                  <a:pt x="7760349" y="242689"/>
                </a:lnTo>
                <a:lnTo>
                  <a:pt x="7760349" y="26665"/>
                </a:lnTo>
                <a:lnTo>
                  <a:pt x="7919439" y="26665"/>
                </a:lnTo>
                <a:lnTo>
                  <a:pt x="7919439" y="242689"/>
                </a:lnTo>
                <a:lnTo>
                  <a:pt x="7923906" y="242689"/>
                </a:lnTo>
                <a:lnTo>
                  <a:pt x="7923906" y="386705"/>
                </a:lnTo>
                <a:lnTo>
                  <a:pt x="7919439" y="386705"/>
                </a:lnTo>
                <a:lnTo>
                  <a:pt x="7760349" y="386705"/>
                </a:lnTo>
                <a:lnTo>
                  <a:pt x="159090" y="386705"/>
                </a:lnTo>
                <a:lnTo>
                  <a:pt x="3906" y="386705"/>
                </a:lnTo>
                <a:lnTo>
                  <a:pt x="0" y="386705"/>
                </a:lnTo>
                <a:lnTo>
                  <a:pt x="0" y="26665"/>
                </a:lnTo>
                <a:lnTo>
                  <a:pt x="159090" y="26665"/>
                </a:lnTo>
                <a:lnTo>
                  <a:pt x="159090" y="242689"/>
                </a:lnTo>
                <a:lnTo>
                  <a:pt x="3916371" y="242689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14" descr="QQ截图20140324204717"/>
          <p:cNvPicPr/>
          <p:nvPr/>
        </p:nvPicPr>
        <p:blipFill>
          <a:blip r:embed="rId6"/>
          <a:stretch/>
        </p:blipFill>
        <p:spPr>
          <a:xfrm>
            <a:off x="0" y="0"/>
            <a:ext cx="1332000" cy="10526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5" descr="QQ截图20140324204717"/>
          <p:cNvPicPr/>
          <p:nvPr/>
        </p:nvPicPr>
        <p:blipFill>
          <a:blip r:embed="rId7"/>
          <a:stretch/>
        </p:blipFill>
        <p:spPr>
          <a:xfrm>
            <a:off x="7812000" y="0"/>
            <a:ext cx="1332000" cy="981000"/>
          </a:xfrm>
          <a:prstGeom prst="rect">
            <a:avLst/>
          </a:prstGeom>
          <a:ln w="0">
            <a:noFill/>
          </a:ln>
        </p:spPr>
      </p:pic>
      <p:pic>
        <p:nvPicPr>
          <p:cNvPr id="561" name="警报声 特效音效.mp3" descr=""/>
          <p:cNvPicPr/>
          <p:nvPr/>
        </p:nvPicPr>
        <p:blipFill>
          <a:blip r:embed="rId8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3213" fill="hold"/>
                                        <p:tgtEl>
                                          <p:spTgt spid="5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TextBox 5" descr=""/>
          <p:cNvPicPr/>
          <p:nvPr/>
        </p:nvPicPr>
        <p:blipFill>
          <a:blip r:embed="rId1"/>
          <a:stretch/>
        </p:blipFill>
        <p:spPr>
          <a:xfrm>
            <a:off x="50760" y="2500200"/>
            <a:ext cx="1440000" cy="462240"/>
          </a:xfrm>
          <a:prstGeom prst="rect">
            <a:avLst/>
          </a:prstGeom>
          <a:ln w="0">
            <a:noFill/>
          </a:ln>
        </p:spPr>
      </p:pic>
      <p:pic>
        <p:nvPicPr>
          <p:cNvPr id="563" name="TextBox 8" descr=""/>
          <p:cNvPicPr/>
          <p:nvPr/>
        </p:nvPicPr>
        <p:blipFill>
          <a:blip r:embed="rId2"/>
          <a:stretch/>
        </p:blipFill>
        <p:spPr>
          <a:xfrm>
            <a:off x="7832880" y="2500200"/>
            <a:ext cx="1311120" cy="462240"/>
          </a:xfrm>
          <a:prstGeom prst="rect">
            <a:avLst/>
          </a:prstGeom>
          <a:ln w="0">
            <a:noFill/>
          </a:ln>
        </p:spPr>
      </p:pic>
      <p:pic>
        <p:nvPicPr>
          <p:cNvPr id="564" name="TextBox 9" descr=""/>
          <p:cNvPicPr/>
          <p:nvPr/>
        </p:nvPicPr>
        <p:blipFill>
          <a:blip r:embed="rId3"/>
          <a:stretch/>
        </p:blipFill>
        <p:spPr>
          <a:xfrm>
            <a:off x="3940200" y="2500200"/>
            <a:ext cx="1326960" cy="462240"/>
          </a:xfrm>
          <a:prstGeom prst="rect">
            <a:avLst/>
          </a:prstGeom>
          <a:ln w="0">
            <a:noFill/>
          </a:ln>
        </p:spPr>
      </p:pic>
      <p:pic>
        <p:nvPicPr>
          <p:cNvPr id="565" name="TextBox 10" descr=""/>
          <p:cNvPicPr/>
          <p:nvPr/>
        </p:nvPicPr>
        <p:blipFill>
          <a:blip r:embed="rId4"/>
          <a:stretch/>
        </p:blipFill>
        <p:spPr>
          <a:xfrm>
            <a:off x="2732040" y="488880"/>
            <a:ext cx="3743280" cy="924120"/>
          </a:xfrm>
          <a:prstGeom prst="rect">
            <a:avLst/>
          </a:prstGeom>
          <a:ln w="0">
            <a:noFill/>
          </a:ln>
        </p:spPr>
      </p:pic>
      <p:grpSp>
        <p:nvGrpSpPr>
          <p:cNvPr id="566" name="组合 13"/>
          <p:cNvGrpSpPr/>
          <p:nvPr/>
        </p:nvGrpSpPr>
        <p:grpSpPr>
          <a:xfrm>
            <a:off x="1728720" y="3860640"/>
            <a:ext cx="6639120" cy="2592720"/>
            <a:chOff x="1728720" y="3860640"/>
            <a:chExt cx="6639120" cy="2592720"/>
          </a:xfrm>
        </p:grpSpPr>
        <p:sp>
          <p:nvSpPr>
            <p:cNvPr id="567" name="爆炸形 1 11"/>
            <p:cNvSpPr/>
            <p:nvPr/>
          </p:nvSpPr>
          <p:spPr>
            <a:xfrm>
              <a:off x="1728720" y="3860640"/>
              <a:ext cx="6639120" cy="2592720"/>
            </a:xfrm>
            <a:prstGeom prst="irregularSeal1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" name="矩形 12" descr=""/>
            <p:cNvPicPr/>
            <p:nvPr/>
          </p:nvPicPr>
          <p:blipFill>
            <a:blip r:embed="rId5"/>
            <a:stretch/>
          </p:blipFill>
          <p:spPr>
            <a:xfrm>
              <a:off x="3134160" y="4580640"/>
              <a:ext cx="3834000" cy="97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9" name="组合 14"/>
          <p:cNvGrpSpPr/>
          <p:nvPr/>
        </p:nvGrpSpPr>
        <p:grpSpPr>
          <a:xfrm>
            <a:off x="1755720" y="3860640"/>
            <a:ext cx="6640560" cy="2592720"/>
            <a:chOff x="1755720" y="3860640"/>
            <a:chExt cx="6640560" cy="2592720"/>
          </a:xfrm>
        </p:grpSpPr>
        <p:sp>
          <p:nvSpPr>
            <p:cNvPr id="570" name="爆炸形 1 15"/>
            <p:cNvSpPr/>
            <p:nvPr/>
          </p:nvSpPr>
          <p:spPr>
            <a:xfrm>
              <a:off x="1755720" y="3860640"/>
              <a:ext cx="6640560" cy="2592720"/>
            </a:xfrm>
            <a:prstGeom prst="irregularSeal1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1" name="矩形 16" descr=""/>
            <p:cNvPicPr/>
            <p:nvPr/>
          </p:nvPicPr>
          <p:blipFill>
            <a:blip r:embed="rId6"/>
            <a:stretch/>
          </p:blipFill>
          <p:spPr>
            <a:xfrm>
              <a:off x="3161520" y="4580640"/>
              <a:ext cx="3834360" cy="94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2" name="下箭头 17"/>
          <p:cNvSpPr/>
          <p:nvPr/>
        </p:nvSpPr>
        <p:spPr>
          <a:xfrm flipV="1">
            <a:off x="490680" y="3397320"/>
            <a:ext cx="280800" cy="5047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ff000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2"/>
          <p:cNvSpPr/>
          <p:nvPr/>
        </p:nvSpPr>
        <p:spPr>
          <a:xfrm>
            <a:off x="608040" y="2970360"/>
            <a:ext cx="7923240" cy="387360"/>
          </a:xfrm>
          <a:custGeom>
            <a:avLst/>
            <a:gdLst/>
            <a:ahLst/>
            <a:rect l="l" t="t" r="r" b="b"/>
            <a:pathLst>
              <a:path w="7923906" h="386705">
                <a:moveTo>
                  <a:pt x="3916371" y="0"/>
                </a:moveTo>
                <a:lnTo>
                  <a:pt x="4075461" y="0"/>
                </a:lnTo>
                <a:lnTo>
                  <a:pt x="4075461" y="242689"/>
                </a:lnTo>
                <a:lnTo>
                  <a:pt x="7760349" y="242689"/>
                </a:lnTo>
                <a:lnTo>
                  <a:pt x="7760349" y="26665"/>
                </a:lnTo>
                <a:lnTo>
                  <a:pt x="7919439" y="26665"/>
                </a:lnTo>
                <a:lnTo>
                  <a:pt x="7919439" y="242689"/>
                </a:lnTo>
                <a:lnTo>
                  <a:pt x="7923906" y="242689"/>
                </a:lnTo>
                <a:lnTo>
                  <a:pt x="7923906" y="386705"/>
                </a:lnTo>
                <a:lnTo>
                  <a:pt x="7919439" y="386705"/>
                </a:lnTo>
                <a:lnTo>
                  <a:pt x="7760349" y="386705"/>
                </a:lnTo>
                <a:lnTo>
                  <a:pt x="159090" y="386705"/>
                </a:lnTo>
                <a:lnTo>
                  <a:pt x="3906" y="386705"/>
                </a:lnTo>
                <a:lnTo>
                  <a:pt x="0" y="386705"/>
                </a:lnTo>
                <a:lnTo>
                  <a:pt x="0" y="26665"/>
                </a:lnTo>
                <a:lnTo>
                  <a:pt x="159090" y="26665"/>
                </a:lnTo>
                <a:lnTo>
                  <a:pt x="159090" y="242689"/>
                </a:lnTo>
                <a:lnTo>
                  <a:pt x="3916371" y="242689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5" descr="QQ截图20140324204717"/>
          <p:cNvPicPr/>
          <p:nvPr/>
        </p:nvPicPr>
        <p:blipFill>
          <a:blip r:embed="rId7"/>
          <a:stretch/>
        </p:blipFill>
        <p:spPr>
          <a:xfrm>
            <a:off x="0" y="0"/>
            <a:ext cx="1332000" cy="10526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6" descr="QQ截图20140324204717"/>
          <p:cNvPicPr/>
          <p:nvPr/>
        </p:nvPicPr>
        <p:blipFill>
          <a:blip r:embed="rId8"/>
          <a:stretch/>
        </p:blipFill>
        <p:spPr>
          <a:xfrm>
            <a:off x="7812000" y="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7 L 0.86424 -0.00139 E">
                                      <p:cBhvr>
                                        <p:cTn id="123" dur="180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80000"/>
                            </p:stCondLst>
                            <p:childTnLst>
                              <p:par>
                                <p:cTn id="13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TextBox 5" descr=""/>
          <p:cNvPicPr/>
          <p:nvPr/>
        </p:nvPicPr>
        <p:blipFill>
          <a:blip r:embed="rId1"/>
          <a:stretch/>
        </p:blipFill>
        <p:spPr>
          <a:xfrm>
            <a:off x="50760" y="2500200"/>
            <a:ext cx="1440000" cy="462240"/>
          </a:xfrm>
          <a:prstGeom prst="rect">
            <a:avLst/>
          </a:prstGeom>
          <a:ln w="0">
            <a:noFill/>
          </a:ln>
        </p:spPr>
      </p:pic>
      <p:pic>
        <p:nvPicPr>
          <p:cNvPr id="577" name="TextBox 8" descr=""/>
          <p:cNvPicPr/>
          <p:nvPr/>
        </p:nvPicPr>
        <p:blipFill>
          <a:blip r:embed="rId2"/>
          <a:stretch/>
        </p:blipFill>
        <p:spPr>
          <a:xfrm>
            <a:off x="7832880" y="2500200"/>
            <a:ext cx="1311120" cy="462240"/>
          </a:xfrm>
          <a:prstGeom prst="rect">
            <a:avLst/>
          </a:prstGeom>
          <a:ln w="0">
            <a:noFill/>
          </a:ln>
        </p:spPr>
      </p:pic>
      <p:pic>
        <p:nvPicPr>
          <p:cNvPr id="578" name="TextBox 9" descr=""/>
          <p:cNvPicPr/>
          <p:nvPr/>
        </p:nvPicPr>
        <p:blipFill>
          <a:blip r:embed="rId3"/>
          <a:stretch/>
        </p:blipFill>
        <p:spPr>
          <a:xfrm>
            <a:off x="3940200" y="2500200"/>
            <a:ext cx="1326960" cy="462240"/>
          </a:xfrm>
          <a:prstGeom prst="rect">
            <a:avLst/>
          </a:prstGeom>
          <a:ln w="0">
            <a:noFill/>
          </a:ln>
        </p:spPr>
      </p:pic>
      <p:pic>
        <p:nvPicPr>
          <p:cNvPr id="579" name="TextBox 10" descr=""/>
          <p:cNvPicPr/>
          <p:nvPr/>
        </p:nvPicPr>
        <p:blipFill>
          <a:blip r:embed="rId4"/>
          <a:stretch/>
        </p:blipFill>
        <p:spPr>
          <a:xfrm>
            <a:off x="2732040" y="488880"/>
            <a:ext cx="3743280" cy="924120"/>
          </a:xfrm>
          <a:prstGeom prst="rect">
            <a:avLst/>
          </a:prstGeom>
          <a:ln w="0">
            <a:noFill/>
          </a:ln>
        </p:spPr>
      </p:pic>
      <p:grpSp>
        <p:nvGrpSpPr>
          <p:cNvPr id="580" name="组合 14"/>
          <p:cNvGrpSpPr/>
          <p:nvPr/>
        </p:nvGrpSpPr>
        <p:grpSpPr>
          <a:xfrm>
            <a:off x="1403280" y="3716280"/>
            <a:ext cx="6640560" cy="2592360"/>
            <a:chOff x="1403280" y="3716280"/>
            <a:chExt cx="6640560" cy="2592360"/>
          </a:xfrm>
        </p:grpSpPr>
        <p:sp>
          <p:nvSpPr>
            <p:cNvPr id="581" name="爆炸形 1 15"/>
            <p:cNvSpPr/>
            <p:nvPr/>
          </p:nvSpPr>
          <p:spPr>
            <a:xfrm>
              <a:off x="1403280" y="3716280"/>
              <a:ext cx="6640560" cy="2592360"/>
            </a:xfrm>
            <a:prstGeom prst="irregularSeal1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矩形 16" descr=""/>
            <p:cNvPicPr/>
            <p:nvPr/>
          </p:nvPicPr>
          <p:blipFill>
            <a:blip r:embed="rId5"/>
            <a:stretch/>
          </p:blipFill>
          <p:spPr>
            <a:xfrm>
              <a:off x="2809080" y="4436280"/>
              <a:ext cx="3834360" cy="94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3" name="下箭头 17"/>
          <p:cNvSpPr/>
          <p:nvPr/>
        </p:nvSpPr>
        <p:spPr>
          <a:xfrm flipV="1">
            <a:off x="8317080" y="3357720"/>
            <a:ext cx="280800" cy="50472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2"/>
          <p:cNvSpPr/>
          <p:nvPr/>
        </p:nvSpPr>
        <p:spPr>
          <a:xfrm>
            <a:off x="608040" y="2970360"/>
            <a:ext cx="7923240" cy="387360"/>
          </a:xfrm>
          <a:custGeom>
            <a:avLst/>
            <a:gdLst/>
            <a:ahLst/>
            <a:rect l="l" t="t" r="r" b="b"/>
            <a:pathLst>
              <a:path w="7923906" h="386705">
                <a:moveTo>
                  <a:pt x="3916371" y="0"/>
                </a:moveTo>
                <a:lnTo>
                  <a:pt x="4075461" y="0"/>
                </a:lnTo>
                <a:lnTo>
                  <a:pt x="4075461" y="242689"/>
                </a:lnTo>
                <a:lnTo>
                  <a:pt x="7760349" y="242689"/>
                </a:lnTo>
                <a:lnTo>
                  <a:pt x="7760349" y="26665"/>
                </a:lnTo>
                <a:lnTo>
                  <a:pt x="7919439" y="26665"/>
                </a:lnTo>
                <a:lnTo>
                  <a:pt x="7919439" y="242689"/>
                </a:lnTo>
                <a:lnTo>
                  <a:pt x="7923906" y="242689"/>
                </a:lnTo>
                <a:lnTo>
                  <a:pt x="7923906" y="386705"/>
                </a:lnTo>
                <a:lnTo>
                  <a:pt x="7919439" y="386705"/>
                </a:lnTo>
                <a:lnTo>
                  <a:pt x="7760349" y="386705"/>
                </a:lnTo>
                <a:lnTo>
                  <a:pt x="159090" y="386705"/>
                </a:lnTo>
                <a:lnTo>
                  <a:pt x="3906" y="386705"/>
                </a:lnTo>
                <a:lnTo>
                  <a:pt x="0" y="386705"/>
                </a:lnTo>
                <a:lnTo>
                  <a:pt x="0" y="26665"/>
                </a:lnTo>
                <a:lnTo>
                  <a:pt x="159090" y="26665"/>
                </a:lnTo>
                <a:lnTo>
                  <a:pt x="159090" y="242689"/>
                </a:lnTo>
                <a:lnTo>
                  <a:pt x="3916371" y="242689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14" descr="QQ截图20140324204717"/>
          <p:cNvPicPr/>
          <p:nvPr/>
        </p:nvPicPr>
        <p:blipFill>
          <a:blip r:embed="rId6"/>
          <a:stretch/>
        </p:blipFill>
        <p:spPr>
          <a:xfrm>
            <a:off x="0" y="0"/>
            <a:ext cx="1332000" cy="10526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5" descr="QQ截图20140324204717"/>
          <p:cNvPicPr/>
          <p:nvPr/>
        </p:nvPicPr>
        <p:blipFill>
          <a:blip r:embed="rId7"/>
          <a:stretch/>
        </p:blipFill>
        <p:spPr>
          <a:xfrm>
            <a:off x="7812000" y="0"/>
            <a:ext cx="1332000" cy="981000"/>
          </a:xfrm>
          <a:prstGeom prst="rect">
            <a:avLst/>
          </a:prstGeom>
          <a:ln w="0">
            <a:noFill/>
          </a:ln>
        </p:spPr>
      </p:pic>
      <p:pic>
        <p:nvPicPr>
          <p:cNvPr id="587" name="警报声 特效音效.mp3" descr=""/>
          <p:cNvPicPr/>
          <p:nvPr/>
        </p:nvPicPr>
        <p:blipFill>
          <a:blip r:embed="rId8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3213" fill="hold"/>
                                        <p:tgtEl>
                                          <p:spTgt spid="5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TextBox 5" descr=""/>
          <p:cNvPicPr/>
          <p:nvPr/>
        </p:nvPicPr>
        <p:blipFill>
          <a:blip r:embed="rId1"/>
          <a:stretch/>
        </p:blipFill>
        <p:spPr>
          <a:xfrm>
            <a:off x="50760" y="2500200"/>
            <a:ext cx="1440000" cy="462240"/>
          </a:xfrm>
          <a:prstGeom prst="rect">
            <a:avLst/>
          </a:prstGeom>
          <a:ln w="0">
            <a:noFill/>
          </a:ln>
        </p:spPr>
      </p:pic>
      <p:pic>
        <p:nvPicPr>
          <p:cNvPr id="589" name="TextBox 8" descr=""/>
          <p:cNvPicPr/>
          <p:nvPr/>
        </p:nvPicPr>
        <p:blipFill>
          <a:blip r:embed="rId2"/>
          <a:stretch/>
        </p:blipFill>
        <p:spPr>
          <a:xfrm>
            <a:off x="7832880" y="2500200"/>
            <a:ext cx="1311120" cy="462240"/>
          </a:xfrm>
          <a:prstGeom prst="rect">
            <a:avLst/>
          </a:prstGeom>
          <a:ln w="0">
            <a:noFill/>
          </a:ln>
        </p:spPr>
      </p:pic>
      <p:pic>
        <p:nvPicPr>
          <p:cNvPr id="590" name="TextBox 9" descr=""/>
          <p:cNvPicPr/>
          <p:nvPr/>
        </p:nvPicPr>
        <p:blipFill>
          <a:blip r:embed="rId3"/>
          <a:stretch/>
        </p:blipFill>
        <p:spPr>
          <a:xfrm>
            <a:off x="3940200" y="2500200"/>
            <a:ext cx="1326960" cy="462240"/>
          </a:xfrm>
          <a:prstGeom prst="rect">
            <a:avLst/>
          </a:prstGeom>
          <a:ln w="0">
            <a:noFill/>
          </a:ln>
        </p:spPr>
      </p:pic>
      <p:pic>
        <p:nvPicPr>
          <p:cNvPr id="591" name="TextBox 10" descr=""/>
          <p:cNvPicPr/>
          <p:nvPr/>
        </p:nvPicPr>
        <p:blipFill>
          <a:blip r:embed="rId4"/>
          <a:stretch/>
        </p:blipFill>
        <p:spPr>
          <a:xfrm>
            <a:off x="2732040" y="488880"/>
            <a:ext cx="3743280" cy="924120"/>
          </a:xfrm>
          <a:prstGeom prst="rect">
            <a:avLst/>
          </a:prstGeom>
          <a:ln w="0">
            <a:noFill/>
          </a:ln>
        </p:spPr>
      </p:pic>
      <p:grpSp>
        <p:nvGrpSpPr>
          <p:cNvPr id="592" name="组合 13"/>
          <p:cNvGrpSpPr/>
          <p:nvPr/>
        </p:nvGrpSpPr>
        <p:grpSpPr>
          <a:xfrm>
            <a:off x="1728720" y="3860640"/>
            <a:ext cx="6639120" cy="2592720"/>
            <a:chOff x="1728720" y="3860640"/>
            <a:chExt cx="6639120" cy="2592720"/>
          </a:xfrm>
        </p:grpSpPr>
        <p:sp>
          <p:nvSpPr>
            <p:cNvPr id="593" name="爆炸形 1 11"/>
            <p:cNvSpPr/>
            <p:nvPr/>
          </p:nvSpPr>
          <p:spPr>
            <a:xfrm>
              <a:off x="1728720" y="3860640"/>
              <a:ext cx="6639120" cy="2592720"/>
            </a:xfrm>
            <a:prstGeom prst="irregularSeal1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4" name="矩形 12" descr=""/>
            <p:cNvPicPr/>
            <p:nvPr/>
          </p:nvPicPr>
          <p:blipFill>
            <a:blip r:embed="rId5"/>
            <a:stretch/>
          </p:blipFill>
          <p:spPr>
            <a:xfrm>
              <a:off x="3134160" y="4580640"/>
              <a:ext cx="3834000" cy="97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5" name="组合 14"/>
          <p:cNvGrpSpPr/>
          <p:nvPr/>
        </p:nvGrpSpPr>
        <p:grpSpPr>
          <a:xfrm>
            <a:off x="1755720" y="3860640"/>
            <a:ext cx="6640560" cy="2592720"/>
            <a:chOff x="1755720" y="3860640"/>
            <a:chExt cx="6640560" cy="2592720"/>
          </a:xfrm>
        </p:grpSpPr>
        <p:sp>
          <p:nvSpPr>
            <p:cNvPr id="596" name="爆炸形 1 15"/>
            <p:cNvSpPr/>
            <p:nvPr/>
          </p:nvSpPr>
          <p:spPr>
            <a:xfrm>
              <a:off x="1755720" y="3860640"/>
              <a:ext cx="6640560" cy="2592720"/>
            </a:xfrm>
            <a:prstGeom prst="irregularSeal1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7" name="矩形 16" descr=""/>
            <p:cNvPicPr/>
            <p:nvPr/>
          </p:nvPicPr>
          <p:blipFill>
            <a:blip r:embed="rId6"/>
            <a:stretch/>
          </p:blipFill>
          <p:spPr>
            <a:xfrm>
              <a:off x="3161520" y="4580640"/>
              <a:ext cx="3834360" cy="94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8" name="下箭头 17"/>
          <p:cNvSpPr/>
          <p:nvPr/>
        </p:nvSpPr>
        <p:spPr>
          <a:xfrm flipV="1">
            <a:off x="490680" y="3397320"/>
            <a:ext cx="280800" cy="5047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ff000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2"/>
          <p:cNvSpPr/>
          <p:nvPr/>
        </p:nvSpPr>
        <p:spPr>
          <a:xfrm>
            <a:off x="608040" y="2970360"/>
            <a:ext cx="7923240" cy="387360"/>
          </a:xfrm>
          <a:custGeom>
            <a:avLst/>
            <a:gdLst/>
            <a:ahLst/>
            <a:rect l="l" t="t" r="r" b="b"/>
            <a:pathLst>
              <a:path w="7923906" h="386705">
                <a:moveTo>
                  <a:pt x="3916371" y="0"/>
                </a:moveTo>
                <a:lnTo>
                  <a:pt x="4075461" y="0"/>
                </a:lnTo>
                <a:lnTo>
                  <a:pt x="4075461" y="242689"/>
                </a:lnTo>
                <a:lnTo>
                  <a:pt x="7760349" y="242689"/>
                </a:lnTo>
                <a:lnTo>
                  <a:pt x="7760349" y="26665"/>
                </a:lnTo>
                <a:lnTo>
                  <a:pt x="7919439" y="26665"/>
                </a:lnTo>
                <a:lnTo>
                  <a:pt x="7919439" y="242689"/>
                </a:lnTo>
                <a:lnTo>
                  <a:pt x="7923906" y="242689"/>
                </a:lnTo>
                <a:lnTo>
                  <a:pt x="7923906" y="386705"/>
                </a:lnTo>
                <a:lnTo>
                  <a:pt x="7919439" y="386705"/>
                </a:lnTo>
                <a:lnTo>
                  <a:pt x="7760349" y="386705"/>
                </a:lnTo>
                <a:lnTo>
                  <a:pt x="159090" y="386705"/>
                </a:lnTo>
                <a:lnTo>
                  <a:pt x="3906" y="386705"/>
                </a:lnTo>
                <a:lnTo>
                  <a:pt x="0" y="386705"/>
                </a:lnTo>
                <a:lnTo>
                  <a:pt x="0" y="26665"/>
                </a:lnTo>
                <a:lnTo>
                  <a:pt x="159090" y="26665"/>
                </a:lnTo>
                <a:lnTo>
                  <a:pt x="159090" y="242689"/>
                </a:lnTo>
                <a:lnTo>
                  <a:pt x="3916371" y="242689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15" descr="QQ截图20140324204717"/>
          <p:cNvPicPr/>
          <p:nvPr/>
        </p:nvPicPr>
        <p:blipFill>
          <a:blip r:embed="rId7"/>
          <a:stretch/>
        </p:blipFill>
        <p:spPr>
          <a:xfrm>
            <a:off x="0" y="0"/>
            <a:ext cx="1332000" cy="10526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6" descr="QQ截图20140324204717"/>
          <p:cNvPicPr/>
          <p:nvPr/>
        </p:nvPicPr>
        <p:blipFill>
          <a:blip r:embed="rId8"/>
          <a:stretch/>
        </p:blipFill>
        <p:spPr>
          <a:xfrm>
            <a:off x="7812000" y="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7 L 0.86424 -0.00139 E">
                                      <p:cBhvr>
                                        <p:cTn id="146" dur="180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80000"/>
                            </p:stCondLst>
                            <p:childTnLst>
                              <p:par>
                                <p:cTn id="15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TextBox 5" descr=""/>
          <p:cNvPicPr/>
          <p:nvPr/>
        </p:nvPicPr>
        <p:blipFill>
          <a:blip r:embed="rId1"/>
          <a:stretch/>
        </p:blipFill>
        <p:spPr>
          <a:xfrm>
            <a:off x="50760" y="2500200"/>
            <a:ext cx="1440000" cy="462240"/>
          </a:xfrm>
          <a:prstGeom prst="rect">
            <a:avLst/>
          </a:prstGeom>
          <a:ln w="0">
            <a:noFill/>
          </a:ln>
        </p:spPr>
      </p:pic>
      <p:pic>
        <p:nvPicPr>
          <p:cNvPr id="603" name="TextBox 8" descr=""/>
          <p:cNvPicPr/>
          <p:nvPr/>
        </p:nvPicPr>
        <p:blipFill>
          <a:blip r:embed="rId2"/>
          <a:stretch/>
        </p:blipFill>
        <p:spPr>
          <a:xfrm>
            <a:off x="7832880" y="2500200"/>
            <a:ext cx="1311120" cy="462240"/>
          </a:xfrm>
          <a:prstGeom prst="rect">
            <a:avLst/>
          </a:prstGeom>
          <a:ln w="0">
            <a:noFill/>
          </a:ln>
        </p:spPr>
      </p:pic>
      <p:pic>
        <p:nvPicPr>
          <p:cNvPr id="604" name="TextBox 9" descr=""/>
          <p:cNvPicPr/>
          <p:nvPr/>
        </p:nvPicPr>
        <p:blipFill>
          <a:blip r:embed="rId3"/>
          <a:stretch/>
        </p:blipFill>
        <p:spPr>
          <a:xfrm>
            <a:off x="3940200" y="2500200"/>
            <a:ext cx="1326960" cy="462240"/>
          </a:xfrm>
          <a:prstGeom prst="rect">
            <a:avLst/>
          </a:prstGeom>
          <a:ln w="0">
            <a:noFill/>
          </a:ln>
        </p:spPr>
      </p:pic>
      <p:pic>
        <p:nvPicPr>
          <p:cNvPr id="605" name="TextBox 10" descr=""/>
          <p:cNvPicPr/>
          <p:nvPr/>
        </p:nvPicPr>
        <p:blipFill>
          <a:blip r:embed="rId4"/>
          <a:stretch/>
        </p:blipFill>
        <p:spPr>
          <a:xfrm>
            <a:off x="2732040" y="488880"/>
            <a:ext cx="3743280" cy="924120"/>
          </a:xfrm>
          <a:prstGeom prst="rect">
            <a:avLst/>
          </a:prstGeom>
          <a:ln w="0">
            <a:noFill/>
          </a:ln>
        </p:spPr>
      </p:pic>
      <p:grpSp>
        <p:nvGrpSpPr>
          <p:cNvPr id="606" name="组合 14"/>
          <p:cNvGrpSpPr/>
          <p:nvPr/>
        </p:nvGrpSpPr>
        <p:grpSpPr>
          <a:xfrm>
            <a:off x="1403280" y="3716280"/>
            <a:ext cx="6640560" cy="2592360"/>
            <a:chOff x="1403280" y="3716280"/>
            <a:chExt cx="6640560" cy="2592360"/>
          </a:xfrm>
        </p:grpSpPr>
        <p:sp>
          <p:nvSpPr>
            <p:cNvPr id="607" name="爆炸形 1 15"/>
            <p:cNvSpPr/>
            <p:nvPr/>
          </p:nvSpPr>
          <p:spPr>
            <a:xfrm>
              <a:off x="1403280" y="3716280"/>
              <a:ext cx="6640560" cy="2592360"/>
            </a:xfrm>
            <a:prstGeom prst="irregularSeal1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8" name="矩形 16" descr=""/>
            <p:cNvPicPr/>
            <p:nvPr/>
          </p:nvPicPr>
          <p:blipFill>
            <a:blip r:embed="rId5"/>
            <a:stretch/>
          </p:blipFill>
          <p:spPr>
            <a:xfrm>
              <a:off x="2809080" y="4436280"/>
              <a:ext cx="3834360" cy="94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下箭头 17"/>
          <p:cNvSpPr/>
          <p:nvPr/>
        </p:nvSpPr>
        <p:spPr>
          <a:xfrm flipV="1">
            <a:off x="8317080" y="3357720"/>
            <a:ext cx="280800" cy="50472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"/>
          <p:cNvSpPr/>
          <p:nvPr/>
        </p:nvSpPr>
        <p:spPr>
          <a:xfrm>
            <a:off x="608040" y="2970360"/>
            <a:ext cx="7923240" cy="387360"/>
          </a:xfrm>
          <a:custGeom>
            <a:avLst/>
            <a:gdLst/>
            <a:ahLst/>
            <a:rect l="l" t="t" r="r" b="b"/>
            <a:pathLst>
              <a:path w="7923906" h="386705">
                <a:moveTo>
                  <a:pt x="3916371" y="0"/>
                </a:moveTo>
                <a:lnTo>
                  <a:pt x="4075461" y="0"/>
                </a:lnTo>
                <a:lnTo>
                  <a:pt x="4075461" y="242689"/>
                </a:lnTo>
                <a:lnTo>
                  <a:pt x="7760349" y="242689"/>
                </a:lnTo>
                <a:lnTo>
                  <a:pt x="7760349" y="26665"/>
                </a:lnTo>
                <a:lnTo>
                  <a:pt x="7919439" y="26665"/>
                </a:lnTo>
                <a:lnTo>
                  <a:pt x="7919439" y="242689"/>
                </a:lnTo>
                <a:lnTo>
                  <a:pt x="7923906" y="242689"/>
                </a:lnTo>
                <a:lnTo>
                  <a:pt x="7923906" y="386705"/>
                </a:lnTo>
                <a:lnTo>
                  <a:pt x="7919439" y="386705"/>
                </a:lnTo>
                <a:lnTo>
                  <a:pt x="7760349" y="386705"/>
                </a:lnTo>
                <a:lnTo>
                  <a:pt x="159090" y="386705"/>
                </a:lnTo>
                <a:lnTo>
                  <a:pt x="3906" y="386705"/>
                </a:lnTo>
                <a:lnTo>
                  <a:pt x="0" y="386705"/>
                </a:lnTo>
                <a:lnTo>
                  <a:pt x="0" y="26665"/>
                </a:lnTo>
                <a:lnTo>
                  <a:pt x="159090" y="26665"/>
                </a:lnTo>
                <a:lnTo>
                  <a:pt x="159090" y="242689"/>
                </a:lnTo>
                <a:lnTo>
                  <a:pt x="3916371" y="242689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14" descr="QQ截图20140324204717"/>
          <p:cNvPicPr/>
          <p:nvPr/>
        </p:nvPicPr>
        <p:blipFill>
          <a:blip r:embed="rId6"/>
          <a:stretch/>
        </p:blipFill>
        <p:spPr>
          <a:xfrm>
            <a:off x="0" y="0"/>
            <a:ext cx="1332000" cy="10526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5" descr="QQ截图20140324204717"/>
          <p:cNvPicPr/>
          <p:nvPr/>
        </p:nvPicPr>
        <p:blipFill>
          <a:blip r:embed="rId7"/>
          <a:stretch/>
        </p:blipFill>
        <p:spPr>
          <a:xfrm>
            <a:off x="7812000" y="0"/>
            <a:ext cx="1332000" cy="981000"/>
          </a:xfrm>
          <a:prstGeom prst="rect">
            <a:avLst/>
          </a:prstGeom>
          <a:ln w="0">
            <a:noFill/>
          </a:ln>
        </p:spPr>
      </p:pic>
      <p:pic>
        <p:nvPicPr>
          <p:cNvPr id="613" name="警报声 特效音效.mp3" descr=""/>
          <p:cNvPicPr/>
          <p:nvPr/>
        </p:nvPicPr>
        <p:blipFill>
          <a:blip r:embed="rId8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3213" fill="hold"/>
                                        <p:tgtEl>
                                          <p:spTgt spid="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TextBox 5" descr=""/>
          <p:cNvPicPr/>
          <p:nvPr/>
        </p:nvPicPr>
        <p:blipFill>
          <a:blip r:embed="rId1"/>
          <a:stretch/>
        </p:blipFill>
        <p:spPr>
          <a:xfrm>
            <a:off x="50760" y="2500200"/>
            <a:ext cx="1440000" cy="462240"/>
          </a:xfrm>
          <a:prstGeom prst="rect">
            <a:avLst/>
          </a:prstGeom>
          <a:ln w="0">
            <a:noFill/>
          </a:ln>
        </p:spPr>
      </p:pic>
      <p:pic>
        <p:nvPicPr>
          <p:cNvPr id="615" name="TextBox 8" descr=""/>
          <p:cNvPicPr/>
          <p:nvPr/>
        </p:nvPicPr>
        <p:blipFill>
          <a:blip r:embed="rId2"/>
          <a:stretch/>
        </p:blipFill>
        <p:spPr>
          <a:xfrm>
            <a:off x="7832880" y="2500200"/>
            <a:ext cx="1311120" cy="462240"/>
          </a:xfrm>
          <a:prstGeom prst="rect">
            <a:avLst/>
          </a:prstGeom>
          <a:ln w="0">
            <a:noFill/>
          </a:ln>
        </p:spPr>
      </p:pic>
      <p:pic>
        <p:nvPicPr>
          <p:cNvPr id="616" name="TextBox 9" descr=""/>
          <p:cNvPicPr/>
          <p:nvPr/>
        </p:nvPicPr>
        <p:blipFill>
          <a:blip r:embed="rId3"/>
          <a:stretch/>
        </p:blipFill>
        <p:spPr>
          <a:xfrm>
            <a:off x="3940200" y="2500200"/>
            <a:ext cx="1326960" cy="462240"/>
          </a:xfrm>
          <a:prstGeom prst="rect">
            <a:avLst/>
          </a:prstGeom>
          <a:ln w="0">
            <a:noFill/>
          </a:ln>
        </p:spPr>
      </p:pic>
      <p:pic>
        <p:nvPicPr>
          <p:cNvPr id="617" name="TextBox 10" descr=""/>
          <p:cNvPicPr/>
          <p:nvPr/>
        </p:nvPicPr>
        <p:blipFill>
          <a:blip r:embed="rId4"/>
          <a:stretch/>
        </p:blipFill>
        <p:spPr>
          <a:xfrm>
            <a:off x="2732040" y="488880"/>
            <a:ext cx="3743280" cy="924120"/>
          </a:xfrm>
          <a:prstGeom prst="rect">
            <a:avLst/>
          </a:prstGeom>
          <a:ln w="0">
            <a:noFill/>
          </a:ln>
        </p:spPr>
      </p:pic>
      <p:grpSp>
        <p:nvGrpSpPr>
          <p:cNvPr id="618" name="组合 13"/>
          <p:cNvGrpSpPr/>
          <p:nvPr/>
        </p:nvGrpSpPr>
        <p:grpSpPr>
          <a:xfrm>
            <a:off x="1728720" y="3860640"/>
            <a:ext cx="6639120" cy="2592720"/>
            <a:chOff x="1728720" y="3860640"/>
            <a:chExt cx="6639120" cy="2592720"/>
          </a:xfrm>
        </p:grpSpPr>
        <p:sp>
          <p:nvSpPr>
            <p:cNvPr id="619" name="爆炸形 1 11"/>
            <p:cNvSpPr/>
            <p:nvPr/>
          </p:nvSpPr>
          <p:spPr>
            <a:xfrm>
              <a:off x="1728720" y="3860640"/>
              <a:ext cx="6639120" cy="2592720"/>
            </a:xfrm>
            <a:prstGeom prst="irregularSeal1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0" name="矩形 12" descr=""/>
            <p:cNvPicPr/>
            <p:nvPr/>
          </p:nvPicPr>
          <p:blipFill>
            <a:blip r:embed="rId5"/>
            <a:stretch/>
          </p:blipFill>
          <p:spPr>
            <a:xfrm>
              <a:off x="3134160" y="4580640"/>
              <a:ext cx="3834000" cy="97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1" name="组合 14"/>
          <p:cNvGrpSpPr/>
          <p:nvPr/>
        </p:nvGrpSpPr>
        <p:grpSpPr>
          <a:xfrm>
            <a:off x="1755720" y="3860640"/>
            <a:ext cx="6640560" cy="2592720"/>
            <a:chOff x="1755720" y="3860640"/>
            <a:chExt cx="6640560" cy="2592720"/>
          </a:xfrm>
        </p:grpSpPr>
        <p:sp>
          <p:nvSpPr>
            <p:cNvPr id="622" name="爆炸形 1 15"/>
            <p:cNvSpPr/>
            <p:nvPr/>
          </p:nvSpPr>
          <p:spPr>
            <a:xfrm>
              <a:off x="1755720" y="3860640"/>
              <a:ext cx="6640560" cy="2592720"/>
            </a:xfrm>
            <a:prstGeom prst="irregularSeal1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3" name="矩形 16" descr=""/>
            <p:cNvPicPr/>
            <p:nvPr/>
          </p:nvPicPr>
          <p:blipFill>
            <a:blip r:embed="rId6"/>
            <a:stretch/>
          </p:blipFill>
          <p:spPr>
            <a:xfrm>
              <a:off x="3161520" y="4580640"/>
              <a:ext cx="3834360" cy="94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下箭头 17"/>
          <p:cNvSpPr/>
          <p:nvPr/>
        </p:nvSpPr>
        <p:spPr>
          <a:xfrm flipV="1">
            <a:off x="490680" y="3397320"/>
            <a:ext cx="280800" cy="5047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ff000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2"/>
          <p:cNvSpPr/>
          <p:nvPr/>
        </p:nvSpPr>
        <p:spPr>
          <a:xfrm>
            <a:off x="608040" y="2970360"/>
            <a:ext cx="7923240" cy="387360"/>
          </a:xfrm>
          <a:custGeom>
            <a:avLst/>
            <a:gdLst/>
            <a:ahLst/>
            <a:rect l="l" t="t" r="r" b="b"/>
            <a:pathLst>
              <a:path w="7923906" h="386705">
                <a:moveTo>
                  <a:pt x="3916371" y="0"/>
                </a:moveTo>
                <a:lnTo>
                  <a:pt x="4075461" y="0"/>
                </a:lnTo>
                <a:lnTo>
                  <a:pt x="4075461" y="242689"/>
                </a:lnTo>
                <a:lnTo>
                  <a:pt x="7760349" y="242689"/>
                </a:lnTo>
                <a:lnTo>
                  <a:pt x="7760349" y="26665"/>
                </a:lnTo>
                <a:lnTo>
                  <a:pt x="7919439" y="26665"/>
                </a:lnTo>
                <a:lnTo>
                  <a:pt x="7919439" y="242689"/>
                </a:lnTo>
                <a:lnTo>
                  <a:pt x="7923906" y="242689"/>
                </a:lnTo>
                <a:lnTo>
                  <a:pt x="7923906" y="386705"/>
                </a:lnTo>
                <a:lnTo>
                  <a:pt x="7919439" y="386705"/>
                </a:lnTo>
                <a:lnTo>
                  <a:pt x="7760349" y="386705"/>
                </a:lnTo>
                <a:lnTo>
                  <a:pt x="159090" y="386705"/>
                </a:lnTo>
                <a:lnTo>
                  <a:pt x="3906" y="386705"/>
                </a:lnTo>
                <a:lnTo>
                  <a:pt x="0" y="386705"/>
                </a:lnTo>
                <a:lnTo>
                  <a:pt x="0" y="26665"/>
                </a:lnTo>
                <a:lnTo>
                  <a:pt x="159090" y="26665"/>
                </a:lnTo>
                <a:lnTo>
                  <a:pt x="159090" y="242689"/>
                </a:lnTo>
                <a:lnTo>
                  <a:pt x="3916371" y="242689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15" descr="QQ截图20140324204717"/>
          <p:cNvPicPr/>
          <p:nvPr/>
        </p:nvPicPr>
        <p:blipFill>
          <a:blip r:embed="rId7"/>
          <a:stretch/>
        </p:blipFill>
        <p:spPr>
          <a:xfrm>
            <a:off x="0" y="0"/>
            <a:ext cx="1332000" cy="10526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6" descr="QQ截图20140324204717"/>
          <p:cNvPicPr/>
          <p:nvPr/>
        </p:nvPicPr>
        <p:blipFill>
          <a:blip r:embed="rId8"/>
          <a:stretch/>
        </p:blipFill>
        <p:spPr>
          <a:xfrm>
            <a:off x="7812000" y="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7 L 0.86424 -0.00139 E">
                                      <p:cBhvr>
                                        <p:cTn id="169" dur="180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80000"/>
                            </p:stCondLst>
                            <p:childTnLst>
                              <p:par>
                                <p:cTn id="176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TextBox 5" descr=""/>
          <p:cNvPicPr/>
          <p:nvPr/>
        </p:nvPicPr>
        <p:blipFill>
          <a:blip r:embed="rId1"/>
          <a:stretch/>
        </p:blipFill>
        <p:spPr>
          <a:xfrm>
            <a:off x="50760" y="2500200"/>
            <a:ext cx="1440000" cy="462240"/>
          </a:xfrm>
          <a:prstGeom prst="rect">
            <a:avLst/>
          </a:prstGeom>
          <a:ln w="0">
            <a:noFill/>
          </a:ln>
        </p:spPr>
      </p:pic>
      <p:pic>
        <p:nvPicPr>
          <p:cNvPr id="629" name="TextBox 8" descr=""/>
          <p:cNvPicPr/>
          <p:nvPr/>
        </p:nvPicPr>
        <p:blipFill>
          <a:blip r:embed="rId2"/>
          <a:stretch/>
        </p:blipFill>
        <p:spPr>
          <a:xfrm>
            <a:off x="7832880" y="2500200"/>
            <a:ext cx="1311120" cy="462240"/>
          </a:xfrm>
          <a:prstGeom prst="rect">
            <a:avLst/>
          </a:prstGeom>
          <a:ln w="0">
            <a:noFill/>
          </a:ln>
        </p:spPr>
      </p:pic>
      <p:pic>
        <p:nvPicPr>
          <p:cNvPr id="630" name="TextBox 9" descr=""/>
          <p:cNvPicPr/>
          <p:nvPr/>
        </p:nvPicPr>
        <p:blipFill>
          <a:blip r:embed="rId3"/>
          <a:stretch/>
        </p:blipFill>
        <p:spPr>
          <a:xfrm>
            <a:off x="3940200" y="2500200"/>
            <a:ext cx="1326960" cy="462240"/>
          </a:xfrm>
          <a:prstGeom prst="rect">
            <a:avLst/>
          </a:prstGeom>
          <a:ln w="0">
            <a:noFill/>
          </a:ln>
        </p:spPr>
      </p:pic>
      <p:pic>
        <p:nvPicPr>
          <p:cNvPr id="631" name="TextBox 10" descr=""/>
          <p:cNvPicPr/>
          <p:nvPr/>
        </p:nvPicPr>
        <p:blipFill>
          <a:blip r:embed="rId4"/>
          <a:stretch/>
        </p:blipFill>
        <p:spPr>
          <a:xfrm>
            <a:off x="2732040" y="488880"/>
            <a:ext cx="3743280" cy="924120"/>
          </a:xfrm>
          <a:prstGeom prst="rect">
            <a:avLst/>
          </a:prstGeom>
          <a:ln w="0">
            <a:noFill/>
          </a:ln>
        </p:spPr>
      </p:pic>
      <p:grpSp>
        <p:nvGrpSpPr>
          <p:cNvPr id="632" name="组合 14"/>
          <p:cNvGrpSpPr/>
          <p:nvPr/>
        </p:nvGrpSpPr>
        <p:grpSpPr>
          <a:xfrm>
            <a:off x="1403280" y="3716280"/>
            <a:ext cx="6640560" cy="2592360"/>
            <a:chOff x="1403280" y="3716280"/>
            <a:chExt cx="6640560" cy="2592360"/>
          </a:xfrm>
        </p:grpSpPr>
        <p:sp>
          <p:nvSpPr>
            <p:cNvPr id="633" name="爆炸形 1 15"/>
            <p:cNvSpPr/>
            <p:nvPr/>
          </p:nvSpPr>
          <p:spPr>
            <a:xfrm>
              <a:off x="1403280" y="3716280"/>
              <a:ext cx="6640560" cy="2592360"/>
            </a:xfrm>
            <a:prstGeom prst="irregularSeal1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4" name="矩形 16" descr=""/>
            <p:cNvPicPr/>
            <p:nvPr/>
          </p:nvPicPr>
          <p:blipFill>
            <a:blip r:embed="rId5"/>
            <a:stretch/>
          </p:blipFill>
          <p:spPr>
            <a:xfrm>
              <a:off x="2809080" y="4436280"/>
              <a:ext cx="3834360" cy="94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5" name="下箭头 17"/>
          <p:cNvSpPr/>
          <p:nvPr/>
        </p:nvSpPr>
        <p:spPr>
          <a:xfrm flipV="1">
            <a:off x="8317080" y="3357720"/>
            <a:ext cx="280800" cy="50472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2"/>
          <p:cNvSpPr/>
          <p:nvPr/>
        </p:nvSpPr>
        <p:spPr>
          <a:xfrm>
            <a:off x="608040" y="2970360"/>
            <a:ext cx="7923240" cy="387360"/>
          </a:xfrm>
          <a:custGeom>
            <a:avLst/>
            <a:gdLst/>
            <a:ahLst/>
            <a:rect l="l" t="t" r="r" b="b"/>
            <a:pathLst>
              <a:path w="7923906" h="386705">
                <a:moveTo>
                  <a:pt x="3916371" y="0"/>
                </a:moveTo>
                <a:lnTo>
                  <a:pt x="4075461" y="0"/>
                </a:lnTo>
                <a:lnTo>
                  <a:pt x="4075461" y="242689"/>
                </a:lnTo>
                <a:lnTo>
                  <a:pt x="7760349" y="242689"/>
                </a:lnTo>
                <a:lnTo>
                  <a:pt x="7760349" y="26665"/>
                </a:lnTo>
                <a:lnTo>
                  <a:pt x="7919439" y="26665"/>
                </a:lnTo>
                <a:lnTo>
                  <a:pt x="7919439" y="242689"/>
                </a:lnTo>
                <a:lnTo>
                  <a:pt x="7923906" y="242689"/>
                </a:lnTo>
                <a:lnTo>
                  <a:pt x="7923906" y="386705"/>
                </a:lnTo>
                <a:lnTo>
                  <a:pt x="7919439" y="386705"/>
                </a:lnTo>
                <a:lnTo>
                  <a:pt x="7760349" y="386705"/>
                </a:lnTo>
                <a:lnTo>
                  <a:pt x="159090" y="386705"/>
                </a:lnTo>
                <a:lnTo>
                  <a:pt x="3906" y="386705"/>
                </a:lnTo>
                <a:lnTo>
                  <a:pt x="0" y="386705"/>
                </a:lnTo>
                <a:lnTo>
                  <a:pt x="0" y="26665"/>
                </a:lnTo>
                <a:lnTo>
                  <a:pt x="159090" y="26665"/>
                </a:lnTo>
                <a:lnTo>
                  <a:pt x="159090" y="242689"/>
                </a:lnTo>
                <a:lnTo>
                  <a:pt x="3916371" y="242689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14" descr="QQ截图20140324204717"/>
          <p:cNvPicPr/>
          <p:nvPr/>
        </p:nvPicPr>
        <p:blipFill>
          <a:blip r:embed="rId6"/>
          <a:stretch/>
        </p:blipFill>
        <p:spPr>
          <a:xfrm>
            <a:off x="0" y="0"/>
            <a:ext cx="1332000" cy="10526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5" descr="QQ截图20140324204717"/>
          <p:cNvPicPr/>
          <p:nvPr/>
        </p:nvPicPr>
        <p:blipFill>
          <a:blip r:embed="rId7"/>
          <a:stretch/>
        </p:blipFill>
        <p:spPr>
          <a:xfrm>
            <a:off x="7812000" y="0"/>
            <a:ext cx="1332000" cy="981000"/>
          </a:xfrm>
          <a:prstGeom prst="rect">
            <a:avLst/>
          </a:prstGeom>
          <a:ln w="0">
            <a:noFill/>
          </a:ln>
        </p:spPr>
      </p:pic>
      <p:pic>
        <p:nvPicPr>
          <p:cNvPr id="639" name="警报声 特效音效.mp3" descr=""/>
          <p:cNvPicPr/>
          <p:nvPr/>
        </p:nvPicPr>
        <p:blipFill>
          <a:blip r:embed="rId8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3213" fill="hold"/>
                                        <p:tgtEl>
                                          <p:spTgt spid="6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TextBox 5" descr=""/>
          <p:cNvPicPr/>
          <p:nvPr/>
        </p:nvPicPr>
        <p:blipFill>
          <a:blip r:embed="rId1"/>
          <a:stretch/>
        </p:blipFill>
        <p:spPr>
          <a:xfrm>
            <a:off x="50760" y="2500200"/>
            <a:ext cx="1440000" cy="462240"/>
          </a:xfrm>
          <a:prstGeom prst="rect">
            <a:avLst/>
          </a:prstGeom>
          <a:ln w="0">
            <a:noFill/>
          </a:ln>
        </p:spPr>
      </p:pic>
      <p:pic>
        <p:nvPicPr>
          <p:cNvPr id="641" name="TextBox 8" descr=""/>
          <p:cNvPicPr/>
          <p:nvPr/>
        </p:nvPicPr>
        <p:blipFill>
          <a:blip r:embed="rId2"/>
          <a:stretch/>
        </p:blipFill>
        <p:spPr>
          <a:xfrm>
            <a:off x="7832880" y="2500200"/>
            <a:ext cx="1311120" cy="462240"/>
          </a:xfrm>
          <a:prstGeom prst="rect">
            <a:avLst/>
          </a:prstGeom>
          <a:ln w="0">
            <a:noFill/>
          </a:ln>
        </p:spPr>
      </p:pic>
      <p:pic>
        <p:nvPicPr>
          <p:cNvPr id="642" name="TextBox 9" descr=""/>
          <p:cNvPicPr/>
          <p:nvPr/>
        </p:nvPicPr>
        <p:blipFill>
          <a:blip r:embed="rId3"/>
          <a:stretch/>
        </p:blipFill>
        <p:spPr>
          <a:xfrm>
            <a:off x="3940200" y="2500200"/>
            <a:ext cx="1326960" cy="462240"/>
          </a:xfrm>
          <a:prstGeom prst="rect">
            <a:avLst/>
          </a:prstGeom>
          <a:ln w="0">
            <a:noFill/>
          </a:ln>
        </p:spPr>
      </p:pic>
      <p:pic>
        <p:nvPicPr>
          <p:cNvPr id="643" name="TextBox 10" descr=""/>
          <p:cNvPicPr/>
          <p:nvPr/>
        </p:nvPicPr>
        <p:blipFill>
          <a:blip r:embed="rId4"/>
          <a:stretch/>
        </p:blipFill>
        <p:spPr>
          <a:xfrm>
            <a:off x="2732040" y="488880"/>
            <a:ext cx="3743280" cy="924120"/>
          </a:xfrm>
          <a:prstGeom prst="rect">
            <a:avLst/>
          </a:prstGeom>
          <a:ln w="0">
            <a:noFill/>
          </a:ln>
        </p:spPr>
      </p:pic>
      <p:grpSp>
        <p:nvGrpSpPr>
          <p:cNvPr id="644" name="组合 13"/>
          <p:cNvGrpSpPr/>
          <p:nvPr/>
        </p:nvGrpSpPr>
        <p:grpSpPr>
          <a:xfrm>
            <a:off x="1728720" y="3860640"/>
            <a:ext cx="6639120" cy="2592720"/>
            <a:chOff x="1728720" y="3860640"/>
            <a:chExt cx="6639120" cy="2592720"/>
          </a:xfrm>
        </p:grpSpPr>
        <p:sp>
          <p:nvSpPr>
            <p:cNvPr id="645" name="爆炸形 1 11"/>
            <p:cNvSpPr/>
            <p:nvPr/>
          </p:nvSpPr>
          <p:spPr>
            <a:xfrm>
              <a:off x="1728720" y="3860640"/>
              <a:ext cx="6639120" cy="2592720"/>
            </a:xfrm>
            <a:prstGeom prst="irregularSeal1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6" name="矩形 12" descr=""/>
            <p:cNvPicPr/>
            <p:nvPr/>
          </p:nvPicPr>
          <p:blipFill>
            <a:blip r:embed="rId5"/>
            <a:stretch/>
          </p:blipFill>
          <p:spPr>
            <a:xfrm>
              <a:off x="3134160" y="4580640"/>
              <a:ext cx="3834000" cy="97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7" name="组合 14"/>
          <p:cNvGrpSpPr/>
          <p:nvPr/>
        </p:nvGrpSpPr>
        <p:grpSpPr>
          <a:xfrm>
            <a:off x="1755720" y="3860640"/>
            <a:ext cx="6640560" cy="2592720"/>
            <a:chOff x="1755720" y="3860640"/>
            <a:chExt cx="6640560" cy="2592720"/>
          </a:xfrm>
        </p:grpSpPr>
        <p:sp>
          <p:nvSpPr>
            <p:cNvPr id="648" name="爆炸形 1 15"/>
            <p:cNvSpPr/>
            <p:nvPr/>
          </p:nvSpPr>
          <p:spPr>
            <a:xfrm>
              <a:off x="1755720" y="3860640"/>
              <a:ext cx="6640560" cy="2592720"/>
            </a:xfrm>
            <a:prstGeom prst="irregularSeal1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9" name="矩形 16" descr=""/>
            <p:cNvPicPr/>
            <p:nvPr/>
          </p:nvPicPr>
          <p:blipFill>
            <a:blip r:embed="rId6"/>
            <a:stretch/>
          </p:blipFill>
          <p:spPr>
            <a:xfrm>
              <a:off x="3161520" y="4580640"/>
              <a:ext cx="3834360" cy="94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0" name="下箭头 17"/>
          <p:cNvSpPr/>
          <p:nvPr/>
        </p:nvSpPr>
        <p:spPr>
          <a:xfrm flipV="1">
            <a:off x="490680" y="3397320"/>
            <a:ext cx="280800" cy="5047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ff000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2"/>
          <p:cNvSpPr/>
          <p:nvPr/>
        </p:nvSpPr>
        <p:spPr>
          <a:xfrm>
            <a:off x="608040" y="2970360"/>
            <a:ext cx="7923240" cy="387360"/>
          </a:xfrm>
          <a:custGeom>
            <a:avLst/>
            <a:gdLst/>
            <a:ahLst/>
            <a:rect l="l" t="t" r="r" b="b"/>
            <a:pathLst>
              <a:path w="7923906" h="386705">
                <a:moveTo>
                  <a:pt x="3916371" y="0"/>
                </a:moveTo>
                <a:lnTo>
                  <a:pt x="4075461" y="0"/>
                </a:lnTo>
                <a:lnTo>
                  <a:pt x="4075461" y="242689"/>
                </a:lnTo>
                <a:lnTo>
                  <a:pt x="7760349" y="242689"/>
                </a:lnTo>
                <a:lnTo>
                  <a:pt x="7760349" y="26665"/>
                </a:lnTo>
                <a:lnTo>
                  <a:pt x="7919439" y="26665"/>
                </a:lnTo>
                <a:lnTo>
                  <a:pt x="7919439" y="242689"/>
                </a:lnTo>
                <a:lnTo>
                  <a:pt x="7923906" y="242689"/>
                </a:lnTo>
                <a:lnTo>
                  <a:pt x="7923906" y="386705"/>
                </a:lnTo>
                <a:lnTo>
                  <a:pt x="7919439" y="386705"/>
                </a:lnTo>
                <a:lnTo>
                  <a:pt x="7760349" y="386705"/>
                </a:lnTo>
                <a:lnTo>
                  <a:pt x="159090" y="386705"/>
                </a:lnTo>
                <a:lnTo>
                  <a:pt x="3906" y="386705"/>
                </a:lnTo>
                <a:lnTo>
                  <a:pt x="0" y="386705"/>
                </a:lnTo>
                <a:lnTo>
                  <a:pt x="0" y="26665"/>
                </a:lnTo>
                <a:lnTo>
                  <a:pt x="159090" y="26665"/>
                </a:lnTo>
                <a:lnTo>
                  <a:pt x="159090" y="242689"/>
                </a:lnTo>
                <a:lnTo>
                  <a:pt x="3916371" y="242689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15" descr="QQ截图20140324204717"/>
          <p:cNvPicPr/>
          <p:nvPr/>
        </p:nvPicPr>
        <p:blipFill>
          <a:blip r:embed="rId7"/>
          <a:stretch/>
        </p:blipFill>
        <p:spPr>
          <a:xfrm>
            <a:off x="0" y="0"/>
            <a:ext cx="1332000" cy="10526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6" descr="QQ截图20140324204717"/>
          <p:cNvPicPr/>
          <p:nvPr/>
        </p:nvPicPr>
        <p:blipFill>
          <a:blip r:embed="rId8"/>
          <a:stretch/>
        </p:blipFill>
        <p:spPr>
          <a:xfrm>
            <a:off x="7812000" y="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7 L 0.86424 -0.00139 E">
                                      <p:cBhvr>
                                        <p:cTn id="192" dur="180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80000"/>
                            </p:stCondLst>
                            <p:childTnLst>
                              <p:par>
                                <p:cTn id="19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6840" y="3192120"/>
            <a:ext cx="6777000" cy="19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图片 3" descr="1338519319vmvnwhc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圆角矩形 5"/>
          <p:cNvSpPr/>
          <p:nvPr/>
        </p:nvSpPr>
        <p:spPr>
          <a:xfrm>
            <a:off x="3995640" y="1628640"/>
            <a:ext cx="172872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UNJ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流程图: 库存数据 6"/>
          <p:cNvSpPr/>
          <p:nvPr/>
        </p:nvSpPr>
        <p:spPr>
          <a:xfrm>
            <a:off x="2629080" y="3213000"/>
            <a:ext cx="1871640" cy="309744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1c1c1c"/>
                </a:solidFill>
                <a:latin typeface="Times New Roman"/>
              </a:rPr>
              <a:t>J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9"/>
          <p:cNvSpPr/>
          <p:nvPr/>
        </p:nvSpPr>
        <p:spPr>
          <a:xfrm>
            <a:off x="2484360" y="620640"/>
            <a:ext cx="5759640" cy="10083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中国均均电视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0" descr="QQ截图20140324204717"/>
          <p:cNvPicPr/>
          <p:nvPr/>
        </p:nvPicPr>
        <p:blipFill>
          <a:blip r:embed="rId2"/>
          <a:stretch/>
        </p:blipFill>
        <p:spPr>
          <a:xfrm>
            <a:off x="7524720" y="5589720"/>
            <a:ext cx="1619280" cy="12682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1" descr="QQ截图20140324204717"/>
          <p:cNvPicPr/>
          <p:nvPr/>
        </p:nvPicPr>
        <p:blipFill>
          <a:blip r:embed="rId3"/>
          <a:stretch/>
        </p:blipFill>
        <p:spPr>
          <a:xfrm>
            <a:off x="0" y="5877000"/>
            <a:ext cx="1476360" cy="9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TextBox 5" descr=""/>
          <p:cNvPicPr/>
          <p:nvPr/>
        </p:nvPicPr>
        <p:blipFill>
          <a:blip r:embed="rId1"/>
          <a:stretch/>
        </p:blipFill>
        <p:spPr>
          <a:xfrm>
            <a:off x="50760" y="2500200"/>
            <a:ext cx="1440000" cy="462240"/>
          </a:xfrm>
          <a:prstGeom prst="rect">
            <a:avLst/>
          </a:prstGeom>
          <a:ln w="0">
            <a:noFill/>
          </a:ln>
        </p:spPr>
      </p:pic>
      <p:pic>
        <p:nvPicPr>
          <p:cNvPr id="655" name="TextBox 8" descr=""/>
          <p:cNvPicPr/>
          <p:nvPr/>
        </p:nvPicPr>
        <p:blipFill>
          <a:blip r:embed="rId2"/>
          <a:stretch/>
        </p:blipFill>
        <p:spPr>
          <a:xfrm>
            <a:off x="7832880" y="2500200"/>
            <a:ext cx="1311120" cy="462240"/>
          </a:xfrm>
          <a:prstGeom prst="rect">
            <a:avLst/>
          </a:prstGeom>
          <a:ln w="0">
            <a:noFill/>
          </a:ln>
        </p:spPr>
      </p:pic>
      <p:pic>
        <p:nvPicPr>
          <p:cNvPr id="656" name="TextBox 9" descr=""/>
          <p:cNvPicPr/>
          <p:nvPr/>
        </p:nvPicPr>
        <p:blipFill>
          <a:blip r:embed="rId3"/>
          <a:stretch/>
        </p:blipFill>
        <p:spPr>
          <a:xfrm>
            <a:off x="3940200" y="2500200"/>
            <a:ext cx="1326960" cy="462240"/>
          </a:xfrm>
          <a:prstGeom prst="rect">
            <a:avLst/>
          </a:prstGeom>
          <a:ln w="0">
            <a:noFill/>
          </a:ln>
        </p:spPr>
      </p:pic>
      <p:pic>
        <p:nvPicPr>
          <p:cNvPr id="657" name="TextBox 10" descr=""/>
          <p:cNvPicPr/>
          <p:nvPr/>
        </p:nvPicPr>
        <p:blipFill>
          <a:blip r:embed="rId4"/>
          <a:stretch/>
        </p:blipFill>
        <p:spPr>
          <a:xfrm>
            <a:off x="2732040" y="488880"/>
            <a:ext cx="3743280" cy="924120"/>
          </a:xfrm>
          <a:prstGeom prst="rect">
            <a:avLst/>
          </a:prstGeom>
          <a:ln w="0">
            <a:noFill/>
          </a:ln>
        </p:spPr>
      </p:pic>
      <p:grpSp>
        <p:nvGrpSpPr>
          <p:cNvPr id="658" name="组合 14"/>
          <p:cNvGrpSpPr/>
          <p:nvPr/>
        </p:nvGrpSpPr>
        <p:grpSpPr>
          <a:xfrm>
            <a:off x="1403280" y="3716280"/>
            <a:ext cx="6640560" cy="2592360"/>
            <a:chOff x="1403280" y="3716280"/>
            <a:chExt cx="6640560" cy="2592360"/>
          </a:xfrm>
        </p:grpSpPr>
        <p:sp>
          <p:nvSpPr>
            <p:cNvPr id="659" name="爆炸形 1 15"/>
            <p:cNvSpPr/>
            <p:nvPr/>
          </p:nvSpPr>
          <p:spPr>
            <a:xfrm>
              <a:off x="1403280" y="3716280"/>
              <a:ext cx="6640560" cy="2592360"/>
            </a:xfrm>
            <a:prstGeom prst="irregularSeal1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矩形 16" descr=""/>
            <p:cNvPicPr/>
            <p:nvPr/>
          </p:nvPicPr>
          <p:blipFill>
            <a:blip r:embed="rId5"/>
            <a:stretch/>
          </p:blipFill>
          <p:spPr>
            <a:xfrm>
              <a:off x="2809080" y="4436280"/>
              <a:ext cx="3834360" cy="94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下箭头 17"/>
          <p:cNvSpPr/>
          <p:nvPr/>
        </p:nvSpPr>
        <p:spPr>
          <a:xfrm flipV="1">
            <a:off x="8317080" y="3357720"/>
            <a:ext cx="280800" cy="50472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矩形 2"/>
          <p:cNvSpPr/>
          <p:nvPr/>
        </p:nvSpPr>
        <p:spPr>
          <a:xfrm>
            <a:off x="608040" y="2970360"/>
            <a:ext cx="7923240" cy="387360"/>
          </a:xfrm>
          <a:custGeom>
            <a:avLst/>
            <a:gdLst/>
            <a:ahLst/>
            <a:rect l="l" t="t" r="r" b="b"/>
            <a:pathLst>
              <a:path w="7923906" h="386705">
                <a:moveTo>
                  <a:pt x="3916371" y="0"/>
                </a:moveTo>
                <a:lnTo>
                  <a:pt x="4075461" y="0"/>
                </a:lnTo>
                <a:lnTo>
                  <a:pt x="4075461" y="242689"/>
                </a:lnTo>
                <a:lnTo>
                  <a:pt x="7760349" y="242689"/>
                </a:lnTo>
                <a:lnTo>
                  <a:pt x="7760349" y="26665"/>
                </a:lnTo>
                <a:lnTo>
                  <a:pt x="7919439" y="26665"/>
                </a:lnTo>
                <a:lnTo>
                  <a:pt x="7919439" y="242689"/>
                </a:lnTo>
                <a:lnTo>
                  <a:pt x="7923906" y="242689"/>
                </a:lnTo>
                <a:lnTo>
                  <a:pt x="7923906" y="386705"/>
                </a:lnTo>
                <a:lnTo>
                  <a:pt x="7919439" y="386705"/>
                </a:lnTo>
                <a:lnTo>
                  <a:pt x="7760349" y="386705"/>
                </a:lnTo>
                <a:lnTo>
                  <a:pt x="159090" y="386705"/>
                </a:lnTo>
                <a:lnTo>
                  <a:pt x="3906" y="386705"/>
                </a:lnTo>
                <a:lnTo>
                  <a:pt x="0" y="386705"/>
                </a:lnTo>
                <a:lnTo>
                  <a:pt x="0" y="26665"/>
                </a:lnTo>
                <a:lnTo>
                  <a:pt x="159090" y="26665"/>
                </a:lnTo>
                <a:lnTo>
                  <a:pt x="159090" y="242689"/>
                </a:lnTo>
                <a:lnTo>
                  <a:pt x="3916371" y="242689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14" descr="QQ截图20140324204717"/>
          <p:cNvPicPr/>
          <p:nvPr/>
        </p:nvPicPr>
        <p:blipFill>
          <a:blip r:embed="rId6"/>
          <a:stretch/>
        </p:blipFill>
        <p:spPr>
          <a:xfrm>
            <a:off x="0" y="0"/>
            <a:ext cx="1332000" cy="10526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5" descr="QQ截图20140324204717"/>
          <p:cNvPicPr/>
          <p:nvPr/>
        </p:nvPicPr>
        <p:blipFill>
          <a:blip r:embed="rId7"/>
          <a:stretch/>
        </p:blipFill>
        <p:spPr>
          <a:xfrm>
            <a:off x="7812000" y="0"/>
            <a:ext cx="1332000" cy="981000"/>
          </a:xfrm>
          <a:prstGeom prst="rect">
            <a:avLst/>
          </a:prstGeom>
          <a:ln w="0">
            <a:noFill/>
          </a:ln>
        </p:spPr>
      </p:pic>
      <p:pic>
        <p:nvPicPr>
          <p:cNvPr id="665" name="警报声 特效音效.mp3" descr=""/>
          <p:cNvPicPr/>
          <p:nvPr/>
        </p:nvPicPr>
        <p:blipFill>
          <a:blip r:embed="rId8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3213" fill="hold"/>
                                        <p:tgtEl>
                                          <p:spTgt spid="6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WordArt 5"/>
          <p:cNvSpPr txBox="1"/>
          <p:nvPr/>
        </p:nvSpPr>
        <p:spPr>
          <a:xfrm>
            <a:off x="1908000" y="0"/>
            <a:ext cx="539928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cap="sq" w="38160">
                  <a:solidFill>
                    <a:srgbClr val="ffff00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  关</a:t>
            </a:r>
            <a:endParaRPr b="1" lang="en-US" sz="9600" spc="1" strike="noStrike">
              <a:ln cap="sq" w="38160">
                <a:solidFill>
                  <a:srgbClr val="ffff00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7" name="WordArt 7"/>
          <p:cNvSpPr txBox="1"/>
          <p:nvPr/>
        </p:nvSpPr>
        <p:spPr>
          <a:xfrm>
            <a:off x="3995640" y="404640"/>
            <a:ext cx="1584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cap="sq" w="9360">
                  <a:solidFill>
                    <a:srgbClr val="000000"/>
                  </a:solidFill>
                  <a:round/>
                </a:ln>
                <a:solidFill>
                  <a:srgbClr val="800080"/>
                </a:solidFill>
                <a:latin typeface="宋体"/>
              </a:rPr>
              <a:t>3</a:t>
            </a:r>
            <a:endParaRPr b="1" lang="en-US" sz="9600" spc="1" strike="noStrike">
              <a:ln cap="sq" w="9360">
                <a:solidFill>
                  <a:srgbClr val="000000"/>
                </a:solidFill>
                <a:round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sp>
        <p:nvSpPr>
          <p:cNvPr id="668" name="Rectangle 9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noFill/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8000" spc="-1" strike="noStrike">
                <a:solidFill>
                  <a:srgbClr val="000099"/>
                </a:solidFill>
                <a:latin typeface="Times New Roman"/>
              </a:rPr>
              <a:t>最后一击”创奇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5" descr="QQ截图20140324204717"/>
          <p:cNvPicPr/>
          <p:nvPr/>
        </p:nvPicPr>
        <p:blipFill>
          <a:blip r:embed="rId1"/>
          <a:stretch/>
        </p:blipFill>
        <p:spPr>
          <a:xfrm>
            <a:off x="0" y="0"/>
            <a:ext cx="1403280" cy="105264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6" descr="QQ截图20140324204717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0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圆角矩形 4"/>
          <p:cNvSpPr/>
          <p:nvPr/>
        </p:nvSpPr>
        <p:spPr>
          <a:xfrm>
            <a:off x="0" y="0"/>
            <a:ext cx="9144000" cy="5157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Times New Roman"/>
              </a:rPr>
              <a:t>                       </a:t>
            </a:r>
            <a:r>
              <a:rPr b="1" lang="zh-CN" sz="5400" spc="-1" strike="noStrike">
                <a:solidFill>
                  <a:srgbClr val="1c1c1c"/>
                </a:solidFill>
                <a:latin typeface="Times New Roman"/>
              </a:rPr>
              <a:t>闯关规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）请每个团队开动脑筋，给自己推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的电视节目做一个精彩的广告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）汇报时要用这样的语句：我们团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为“</a:t>
            </a: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__________”</a:t>
            </a: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这个节目设计的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告语是“</a:t>
            </a: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________________”</a:t>
            </a: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）限时</a:t>
            </a: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分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7" descr="QQ截图20140324204717"/>
          <p:cNvPicPr/>
          <p:nvPr/>
        </p:nvPicPr>
        <p:blipFill>
          <a:blip r:embed="rId1"/>
          <a:stretch/>
        </p:blipFill>
        <p:spPr>
          <a:xfrm>
            <a:off x="0" y="5445000"/>
            <a:ext cx="1619280" cy="141300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8" descr="QQ截图20140324204717"/>
          <p:cNvPicPr/>
          <p:nvPr/>
        </p:nvPicPr>
        <p:blipFill>
          <a:blip r:embed="rId2"/>
          <a:stretch/>
        </p:blipFill>
        <p:spPr>
          <a:xfrm>
            <a:off x="7524720" y="5445000"/>
            <a:ext cx="161928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" descr=""/>
          <p:cNvPicPr/>
          <p:nvPr/>
        </p:nvPicPr>
        <p:blipFill>
          <a:blip r:embed="rId1"/>
          <a:stretch/>
        </p:blipFill>
        <p:spPr>
          <a:xfrm>
            <a:off x="-181080" y="0"/>
            <a:ext cx="9577440" cy="6858000"/>
          </a:xfrm>
          <a:prstGeom prst="rect">
            <a:avLst/>
          </a:prstGeom>
          <a:ln w="0">
            <a:noFill/>
          </a:ln>
        </p:spPr>
      </p:pic>
      <p:pic>
        <p:nvPicPr>
          <p:cNvPr id="675" name="六边形 6" descr=""/>
          <p:cNvPicPr/>
          <p:nvPr/>
        </p:nvPicPr>
        <p:blipFill>
          <a:blip r:embed="rId2"/>
          <a:stretch/>
        </p:blipFill>
        <p:spPr>
          <a:xfrm>
            <a:off x="1390680" y="1111320"/>
            <a:ext cx="6505560" cy="5288040"/>
          </a:xfrm>
          <a:prstGeom prst="rect">
            <a:avLst/>
          </a:prstGeom>
          <a:ln w="0">
            <a:noFill/>
          </a:ln>
        </p:spPr>
      </p:pic>
      <p:pic>
        <p:nvPicPr>
          <p:cNvPr id="676" name="六边形 7" descr=""/>
          <p:cNvPicPr/>
          <p:nvPr/>
        </p:nvPicPr>
        <p:blipFill>
          <a:blip r:embed="rId3"/>
          <a:stretch/>
        </p:blipFill>
        <p:spPr>
          <a:xfrm>
            <a:off x="1390680" y="1184400"/>
            <a:ext cx="6505560" cy="5286240"/>
          </a:xfrm>
          <a:prstGeom prst="rect">
            <a:avLst/>
          </a:prstGeom>
          <a:ln w="0">
            <a:noFill/>
          </a:ln>
        </p:spPr>
      </p:pic>
      <p:pic>
        <p:nvPicPr>
          <p:cNvPr id="677" name="六边形 8" descr=""/>
          <p:cNvPicPr/>
          <p:nvPr/>
        </p:nvPicPr>
        <p:blipFill>
          <a:blip r:embed="rId4"/>
          <a:stretch/>
        </p:blipFill>
        <p:spPr>
          <a:xfrm>
            <a:off x="1390680" y="1111320"/>
            <a:ext cx="6505560" cy="5288040"/>
          </a:xfrm>
          <a:prstGeom prst="rect">
            <a:avLst/>
          </a:prstGeom>
          <a:ln w="0">
            <a:noFill/>
          </a:ln>
        </p:spPr>
      </p:pic>
      <p:pic>
        <p:nvPicPr>
          <p:cNvPr id="678" name="六边形 9" descr=""/>
          <p:cNvPicPr/>
          <p:nvPr/>
        </p:nvPicPr>
        <p:blipFill>
          <a:blip r:embed="rId5"/>
          <a:stretch/>
        </p:blipFill>
        <p:spPr>
          <a:xfrm>
            <a:off x="1390680" y="1111320"/>
            <a:ext cx="6505560" cy="5288040"/>
          </a:xfrm>
          <a:prstGeom prst="rect">
            <a:avLst/>
          </a:prstGeom>
          <a:ln w="0">
            <a:noFill/>
          </a:ln>
        </p:spPr>
      </p:pic>
      <p:pic>
        <p:nvPicPr>
          <p:cNvPr id="679" name="六边形 10" descr=""/>
          <p:cNvPicPr/>
          <p:nvPr/>
        </p:nvPicPr>
        <p:blipFill>
          <a:blip r:embed="rId6"/>
          <a:stretch/>
        </p:blipFill>
        <p:spPr>
          <a:xfrm>
            <a:off x="1308240" y="1204920"/>
            <a:ext cx="6505560" cy="5288040"/>
          </a:xfrm>
          <a:prstGeom prst="rect">
            <a:avLst/>
          </a:prstGeom>
          <a:ln w="0">
            <a:noFill/>
          </a:ln>
        </p:spPr>
      </p:pic>
      <p:sp>
        <p:nvSpPr>
          <p:cNvPr id="680" name="文本框 1"/>
          <p:cNvSpPr/>
          <p:nvPr/>
        </p:nvSpPr>
        <p:spPr>
          <a:xfrm>
            <a:off x="1917720" y="166860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7A3A-935D-4D70-B202-77BCF489CB2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WordArt 5"/>
          <p:cNvSpPr txBox="1"/>
          <p:nvPr/>
        </p:nvSpPr>
        <p:spPr>
          <a:xfrm>
            <a:off x="1908000" y="0"/>
            <a:ext cx="539928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cap="sq" w="38160">
                  <a:solidFill>
                    <a:srgbClr val="ffff00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  关</a:t>
            </a:r>
            <a:endParaRPr b="1" lang="en-US" sz="9600" spc="1" strike="noStrike">
              <a:ln cap="sq" w="38160">
                <a:solidFill>
                  <a:srgbClr val="ffff00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9" name="WordArt 7"/>
          <p:cNvSpPr txBox="1"/>
          <p:nvPr/>
        </p:nvSpPr>
        <p:spPr>
          <a:xfrm>
            <a:off x="3995640" y="404640"/>
            <a:ext cx="1584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cap="sq" w="9360">
                  <a:solidFill>
                    <a:srgbClr val="000000"/>
                  </a:solidFill>
                  <a:round/>
                </a:ln>
                <a:solidFill>
                  <a:srgbClr val="800080"/>
                </a:solidFill>
                <a:latin typeface="宋体"/>
              </a:rPr>
              <a:t>1</a:t>
            </a:r>
            <a:endParaRPr b="1" lang="en-US" sz="9600" spc="1" strike="noStrike">
              <a:ln cap="sq" w="9360">
                <a:solidFill>
                  <a:srgbClr val="000000"/>
                </a:solidFill>
                <a:round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noFill/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8000" spc="-1" strike="noStrike">
                <a:solidFill>
                  <a:srgbClr val="000099"/>
                </a:solidFill>
                <a:latin typeface="Times New Roman"/>
              </a:rPr>
              <a:t>七嘴八舌”出妙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8" descr="QQ截图20140324204717"/>
          <p:cNvPicPr/>
          <p:nvPr/>
        </p:nvPicPr>
        <p:blipFill>
          <a:blip r:embed="rId1"/>
          <a:stretch/>
        </p:blipFill>
        <p:spPr>
          <a:xfrm>
            <a:off x="0" y="0"/>
            <a:ext cx="1403280" cy="10526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9" descr="QQ截图20140324204717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0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圆角矩形 4"/>
          <p:cNvSpPr/>
          <p:nvPr/>
        </p:nvSpPr>
        <p:spPr>
          <a:xfrm>
            <a:off x="0" y="0"/>
            <a:ext cx="9144000" cy="537372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闯关规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有共同爱好，喜欢同一个电视节目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一个团队。每个团队限六人，以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队为单位参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每个团队人员，为更好地推荐你们的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目，七嘴八舌出妙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把你们团队推选出来的节目，写下来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黑板相应的节目类别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限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7" descr="QQ截图20140324204717"/>
          <p:cNvPicPr/>
          <p:nvPr/>
        </p:nvPicPr>
        <p:blipFill>
          <a:blip r:embed="rId1"/>
          <a:stretch/>
        </p:blipFill>
        <p:spPr>
          <a:xfrm>
            <a:off x="0" y="5516640"/>
            <a:ext cx="1835280" cy="13413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QQ截图20140324204717"/>
          <p:cNvPicPr/>
          <p:nvPr/>
        </p:nvPicPr>
        <p:blipFill>
          <a:blip r:embed="rId2"/>
          <a:stretch/>
        </p:blipFill>
        <p:spPr>
          <a:xfrm>
            <a:off x="7524720" y="5589720"/>
            <a:ext cx="161928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WordArt 5"/>
          <p:cNvSpPr txBox="1"/>
          <p:nvPr/>
        </p:nvSpPr>
        <p:spPr>
          <a:xfrm>
            <a:off x="1908000" y="0"/>
            <a:ext cx="539928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cap="sq" w="38160">
                  <a:solidFill>
                    <a:srgbClr val="ffff00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  关</a:t>
            </a:r>
            <a:endParaRPr b="1" lang="en-US" sz="9600" spc="1" strike="noStrike">
              <a:ln cap="sq" w="38160">
                <a:solidFill>
                  <a:srgbClr val="ffff00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7" name="WordArt 7"/>
          <p:cNvSpPr txBox="1"/>
          <p:nvPr/>
        </p:nvSpPr>
        <p:spPr>
          <a:xfrm>
            <a:off x="3995640" y="404640"/>
            <a:ext cx="1584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cap="sq" w="9360">
                  <a:solidFill>
                    <a:srgbClr val="000000"/>
                  </a:solidFill>
                  <a:round/>
                </a:ln>
                <a:solidFill>
                  <a:srgbClr val="800080"/>
                </a:solidFill>
                <a:latin typeface="宋体"/>
              </a:rPr>
              <a:t>2</a:t>
            </a:r>
            <a:endParaRPr b="1" lang="en-US" sz="9600" spc="1" strike="noStrike">
              <a:ln cap="sq" w="9360">
                <a:solidFill>
                  <a:srgbClr val="000000"/>
                </a:solidFill>
                <a:round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sp>
        <p:nvSpPr>
          <p:cNvPr id="478" name="Rectangle 9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noFill/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8000" spc="-1" strike="noStrike">
                <a:solidFill>
                  <a:srgbClr val="000099"/>
                </a:solidFill>
                <a:latin typeface="Times New Roman"/>
              </a:rPr>
              <a:t>争分夺秒”搏精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5" descr="QQ截图20140324204717"/>
          <p:cNvPicPr/>
          <p:nvPr/>
        </p:nvPicPr>
        <p:blipFill>
          <a:blip r:embed="rId1"/>
          <a:stretch/>
        </p:blipFill>
        <p:spPr>
          <a:xfrm>
            <a:off x="0" y="0"/>
            <a:ext cx="1403280" cy="10526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6" descr="QQ截图20140324204717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0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圆角矩形 4"/>
          <p:cNvSpPr/>
          <p:nvPr/>
        </p:nvSpPr>
        <p:spPr>
          <a:xfrm>
            <a:off x="0" y="0"/>
            <a:ext cx="9144000" cy="5516640"/>
          </a:xfrm>
          <a:prstGeom prst="roundRect">
            <a:avLst>
              <a:gd name="adj" fmla="val 16667"/>
            </a:avLst>
          </a:prstGeom>
          <a:solidFill>
            <a:srgbClr val="ffffff">
              <a:alpha val="42000"/>
            </a:srgbClr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Times New Roman"/>
              </a:rPr>
              <a:t>                   </a:t>
            </a:r>
            <a:r>
              <a:rPr b="1" lang="zh-CN" sz="4000" spc="-1" strike="noStrike">
                <a:solidFill>
                  <a:srgbClr val="1c1c1c"/>
                </a:solidFill>
                <a:latin typeface="Times New Roman"/>
              </a:rPr>
              <a:t>闯关规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、参赛团队人员上场，一人主讲，其他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员补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、介绍时做到说话声音响亮，条理清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、每个团队要讲清楚你最喜欢的电视节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是什么？是属于哪一类的？为什么推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这个节目上“黄金档期”？和我们分享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彩内容或片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、选手发言的时候，其他选手要认真倾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、限时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分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7" descr="QQ截图20140324204717"/>
          <p:cNvPicPr/>
          <p:nvPr/>
        </p:nvPicPr>
        <p:blipFill>
          <a:blip r:embed="rId1"/>
          <a:stretch/>
        </p:blipFill>
        <p:spPr>
          <a:xfrm>
            <a:off x="0" y="5589720"/>
            <a:ext cx="1835280" cy="1268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8" descr="QQ截图20140324204717"/>
          <p:cNvPicPr/>
          <p:nvPr/>
        </p:nvPicPr>
        <p:blipFill>
          <a:blip r:embed="rId2"/>
          <a:stretch/>
        </p:blipFill>
        <p:spPr>
          <a:xfrm>
            <a:off x="7308720" y="5589720"/>
            <a:ext cx="183528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TextBox 5" descr=""/>
          <p:cNvPicPr/>
          <p:nvPr/>
        </p:nvPicPr>
        <p:blipFill>
          <a:blip r:embed="rId1"/>
          <a:stretch/>
        </p:blipFill>
        <p:spPr>
          <a:xfrm>
            <a:off x="50760" y="2500200"/>
            <a:ext cx="1440000" cy="462240"/>
          </a:xfrm>
          <a:prstGeom prst="rect">
            <a:avLst/>
          </a:prstGeom>
          <a:ln w="0">
            <a:noFill/>
          </a:ln>
        </p:spPr>
      </p:pic>
      <p:pic>
        <p:nvPicPr>
          <p:cNvPr id="485" name="TextBox 8" descr=""/>
          <p:cNvPicPr/>
          <p:nvPr/>
        </p:nvPicPr>
        <p:blipFill>
          <a:blip r:embed="rId2"/>
          <a:stretch/>
        </p:blipFill>
        <p:spPr>
          <a:xfrm>
            <a:off x="7832880" y="2500200"/>
            <a:ext cx="1311120" cy="462240"/>
          </a:xfrm>
          <a:prstGeom prst="rect">
            <a:avLst/>
          </a:prstGeom>
          <a:ln w="0">
            <a:noFill/>
          </a:ln>
        </p:spPr>
      </p:pic>
      <p:pic>
        <p:nvPicPr>
          <p:cNvPr id="486" name="TextBox 9" descr=""/>
          <p:cNvPicPr/>
          <p:nvPr/>
        </p:nvPicPr>
        <p:blipFill>
          <a:blip r:embed="rId3"/>
          <a:stretch/>
        </p:blipFill>
        <p:spPr>
          <a:xfrm>
            <a:off x="3940200" y="2500200"/>
            <a:ext cx="1326960" cy="462240"/>
          </a:xfrm>
          <a:prstGeom prst="rect">
            <a:avLst/>
          </a:prstGeom>
          <a:ln w="0">
            <a:noFill/>
          </a:ln>
        </p:spPr>
      </p:pic>
      <p:pic>
        <p:nvPicPr>
          <p:cNvPr id="487" name="TextBox 10" descr=""/>
          <p:cNvPicPr/>
          <p:nvPr/>
        </p:nvPicPr>
        <p:blipFill>
          <a:blip r:embed="rId4"/>
          <a:stretch/>
        </p:blipFill>
        <p:spPr>
          <a:xfrm>
            <a:off x="2732040" y="488880"/>
            <a:ext cx="3743280" cy="924120"/>
          </a:xfrm>
          <a:prstGeom prst="rect">
            <a:avLst/>
          </a:prstGeom>
          <a:ln w="0">
            <a:noFill/>
          </a:ln>
        </p:spPr>
      </p:pic>
      <p:grpSp>
        <p:nvGrpSpPr>
          <p:cNvPr id="488" name="组合 13"/>
          <p:cNvGrpSpPr/>
          <p:nvPr/>
        </p:nvGrpSpPr>
        <p:grpSpPr>
          <a:xfrm>
            <a:off x="1728720" y="3860640"/>
            <a:ext cx="6639120" cy="2592720"/>
            <a:chOff x="1728720" y="3860640"/>
            <a:chExt cx="6639120" cy="2592720"/>
          </a:xfrm>
        </p:grpSpPr>
        <p:sp>
          <p:nvSpPr>
            <p:cNvPr id="489" name="爆炸形 1 11"/>
            <p:cNvSpPr/>
            <p:nvPr/>
          </p:nvSpPr>
          <p:spPr>
            <a:xfrm>
              <a:off x="1728720" y="3860640"/>
              <a:ext cx="6639120" cy="2592720"/>
            </a:xfrm>
            <a:prstGeom prst="irregularSeal1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0" name="矩形 12" descr=""/>
            <p:cNvPicPr/>
            <p:nvPr/>
          </p:nvPicPr>
          <p:blipFill>
            <a:blip r:embed="rId5"/>
            <a:stretch/>
          </p:blipFill>
          <p:spPr>
            <a:xfrm>
              <a:off x="3134160" y="4580640"/>
              <a:ext cx="3834000" cy="97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1" name="组合 14"/>
          <p:cNvGrpSpPr/>
          <p:nvPr/>
        </p:nvGrpSpPr>
        <p:grpSpPr>
          <a:xfrm>
            <a:off x="1755720" y="3860640"/>
            <a:ext cx="6640560" cy="2592720"/>
            <a:chOff x="1755720" y="3860640"/>
            <a:chExt cx="6640560" cy="2592720"/>
          </a:xfrm>
        </p:grpSpPr>
        <p:sp>
          <p:nvSpPr>
            <p:cNvPr id="492" name="爆炸形 1 15"/>
            <p:cNvSpPr/>
            <p:nvPr/>
          </p:nvSpPr>
          <p:spPr>
            <a:xfrm>
              <a:off x="1755720" y="3860640"/>
              <a:ext cx="6640560" cy="2592720"/>
            </a:xfrm>
            <a:prstGeom prst="irregularSeal1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3" name="矩形 16" descr=""/>
            <p:cNvPicPr/>
            <p:nvPr/>
          </p:nvPicPr>
          <p:blipFill>
            <a:blip r:embed="rId6"/>
            <a:stretch/>
          </p:blipFill>
          <p:spPr>
            <a:xfrm>
              <a:off x="3161520" y="4580640"/>
              <a:ext cx="3834360" cy="94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下箭头 17"/>
          <p:cNvSpPr/>
          <p:nvPr/>
        </p:nvSpPr>
        <p:spPr>
          <a:xfrm flipV="1">
            <a:off x="490680" y="3397320"/>
            <a:ext cx="280800" cy="5047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ff000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2"/>
          <p:cNvSpPr/>
          <p:nvPr/>
        </p:nvSpPr>
        <p:spPr>
          <a:xfrm>
            <a:off x="608040" y="2970360"/>
            <a:ext cx="7923240" cy="387360"/>
          </a:xfrm>
          <a:custGeom>
            <a:avLst/>
            <a:gdLst/>
            <a:ahLst/>
            <a:rect l="l" t="t" r="r" b="b"/>
            <a:pathLst>
              <a:path w="7923906" h="386705">
                <a:moveTo>
                  <a:pt x="3916371" y="0"/>
                </a:moveTo>
                <a:lnTo>
                  <a:pt x="4075461" y="0"/>
                </a:lnTo>
                <a:lnTo>
                  <a:pt x="4075461" y="242689"/>
                </a:lnTo>
                <a:lnTo>
                  <a:pt x="7760349" y="242689"/>
                </a:lnTo>
                <a:lnTo>
                  <a:pt x="7760349" y="26665"/>
                </a:lnTo>
                <a:lnTo>
                  <a:pt x="7919439" y="26665"/>
                </a:lnTo>
                <a:lnTo>
                  <a:pt x="7919439" y="242689"/>
                </a:lnTo>
                <a:lnTo>
                  <a:pt x="7923906" y="242689"/>
                </a:lnTo>
                <a:lnTo>
                  <a:pt x="7923906" y="386705"/>
                </a:lnTo>
                <a:lnTo>
                  <a:pt x="7919439" y="386705"/>
                </a:lnTo>
                <a:lnTo>
                  <a:pt x="7760349" y="386705"/>
                </a:lnTo>
                <a:lnTo>
                  <a:pt x="159090" y="386705"/>
                </a:lnTo>
                <a:lnTo>
                  <a:pt x="3906" y="386705"/>
                </a:lnTo>
                <a:lnTo>
                  <a:pt x="0" y="386705"/>
                </a:lnTo>
                <a:lnTo>
                  <a:pt x="0" y="26665"/>
                </a:lnTo>
                <a:lnTo>
                  <a:pt x="159090" y="26665"/>
                </a:lnTo>
                <a:lnTo>
                  <a:pt x="159090" y="242689"/>
                </a:lnTo>
                <a:lnTo>
                  <a:pt x="3916371" y="242689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15" descr="QQ截图20140324204717"/>
          <p:cNvPicPr/>
          <p:nvPr/>
        </p:nvPicPr>
        <p:blipFill>
          <a:blip r:embed="rId7"/>
          <a:stretch/>
        </p:blipFill>
        <p:spPr>
          <a:xfrm>
            <a:off x="0" y="0"/>
            <a:ext cx="1332000" cy="10526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6" descr="QQ截图20140324204717"/>
          <p:cNvPicPr/>
          <p:nvPr/>
        </p:nvPicPr>
        <p:blipFill>
          <a:blip r:embed="rId8"/>
          <a:stretch/>
        </p:blipFill>
        <p:spPr>
          <a:xfrm>
            <a:off x="7812000" y="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7 L 0.86424 -0.00139 E">
                                      <p:cBhvr>
                                        <p:cTn id="54" dur="180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80000"/>
                            </p:stCondLst>
                            <p:childTnLst>
                              <p:par>
                                <p:cTn id="6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TextBox 5" descr=""/>
          <p:cNvPicPr/>
          <p:nvPr/>
        </p:nvPicPr>
        <p:blipFill>
          <a:blip r:embed="rId1"/>
          <a:stretch/>
        </p:blipFill>
        <p:spPr>
          <a:xfrm>
            <a:off x="50760" y="2500200"/>
            <a:ext cx="1440000" cy="462240"/>
          </a:xfrm>
          <a:prstGeom prst="rect">
            <a:avLst/>
          </a:prstGeom>
          <a:ln w="0">
            <a:noFill/>
          </a:ln>
        </p:spPr>
      </p:pic>
      <p:pic>
        <p:nvPicPr>
          <p:cNvPr id="499" name="TextBox 8" descr=""/>
          <p:cNvPicPr/>
          <p:nvPr/>
        </p:nvPicPr>
        <p:blipFill>
          <a:blip r:embed="rId2"/>
          <a:stretch/>
        </p:blipFill>
        <p:spPr>
          <a:xfrm>
            <a:off x="7832880" y="2500200"/>
            <a:ext cx="1311120" cy="462240"/>
          </a:xfrm>
          <a:prstGeom prst="rect">
            <a:avLst/>
          </a:prstGeom>
          <a:ln w="0">
            <a:noFill/>
          </a:ln>
        </p:spPr>
      </p:pic>
      <p:pic>
        <p:nvPicPr>
          <p:cNvPr id="500" name="TextBox 9" descr=""/>
          <p:cNvPicPr/>
          <p:nvPr/>
        </p:nvPicPr>
        <p:blipFill>
          <a:blip r:embed="rId3"/>
          <a:stretch/>
        </p:blipFill>
        <p:spPr>
          <a:xfrm>
            <a:off x="3940200" y="2500200"/>
            <a:ext cx="1326960" cy="462240"/>
          </a:xfrm>
          <a:prstGeom prst="rect">
            <a:avLst/>
          </a:prstGeom>
          <a:ln w="0">
            <a:noFill/>
          </a:ln>
        </p:spPr>
      </p:pic>
      <p:pic>
        <p:nvPicPr>
          <p:cNvPr id="501" name="TextBox 10" descr=""/>
          <p:cNvPicPr/>
          <p:nvPr/>
        </p:nvPicPr>
        <p:blipFill>
          <a:blip r:embed="rId4"/>
          <a:stretch/>
        </p:blipFill>
        <p:spPr>
          <a:xfrm>
            <a:off x="2732040" y="488880"/>
            <a:ext cx="3743280" cy="924120"/>
          </a:xfrm>
          <a:prstGeom prst="rect">
            <a:avLst/>
          </a:prstGeom>
          <a:ln w="0">
            <a:noFill/>
          </a:ln>
        </p:spPr>
      </p:pic>
      <p:grpSp>
        <p:nvGrpSpPr>
          <p:cNvPr id="502" name="组合 14"/>
          <p:cNvGrpSpPr/>
          <p:nvPr/>
        </p:nvGrpSpPr>
        <p:grpSpPr>
          <a:xfrm>
            <a:off x="1403280" y="3716280"/>
            <a:ext cx="6640560" cy="2592360"/>
            <a:chOff x="1403280" y="3716280"/>
            <a:chExt cx="6640560" cy="2592360"/>
          </a:xfrm>
        </p:grpSpPr>
        <p:sp>
          <p:nvSpPr>
            <p:cNvPr id="503" name="爆炸形 1 15"/>
            <p:cNvSpPr/>
            <p:nvPr/>
          </p:nvSpPr>
          <p:spPr>
            <a:xfrm>
              <a:off x="1403280" y="3716280"/>
              <a:ext cx="6640560" cy="2592360"/>
            </a:xfrm>
            <a:prstGeom prst="irregularSeal1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4" name="矩形 16" descr=""/>
            <p:cNvPicPr/>
            <p:nvPr/>
          </p:nvPicPr>
          <p:blipFill>
            <a:blip r:embed="rId5"/>
            <a:stretch/>
          </p:blipFill>
          <p:spPr>
            <a:xfrm>
              <a:off x="2809080" y="4436280"/>
              <a:ext cx="3834360" cy="94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5" name="下箭头 17"/>
          <p:cNvSpPr/>
          <p:nvPr/>
        </p:nvSpPr>
        <p:spPr>
          <a:xfrm flipV="1">
            <a:off x="8317080" y="3357720"/>
            <a:ext cx="280800" cy="50472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2"/>
          <p:cNvSpPr/>
          <p:nvPr/>
        </p:nvSpPr>
        <p:spPr>
          <a:xfrm>
            <a:off x="608040" y="2970360"/>
            <a:ext cx="7923240" cy="387360"/>
          </a:xfrm>
          <a:custGeom>
            <a:avLst/>
            <a:gdLst/>
            <a:ahLst/>
            <a:rect l="l" t="t" r="r" b="b"/>
            <a:pathLst>
              <a:path w="7923906" h="386705">
                <a:moveTo>
                  <a:pt x="3916371" y="0"/>
                </a:moveTo>
                <a:lnTo>
                  <a:pt x="4075461" y="0"/>
                </a:lnTo>
                <a:lnTo>
                  <a:pt x="4075461" y="242689"/>
                </a:lnTo>
                <a:lnTo>
                  <a:pt x="7760349" y="242689"/>
                </a:lnTo>
                <a:lnTo>
                  <a:pt x="7760349" y="26665"/>
                </a:lnTo>
                <a:lnTo>
                  <a:pt x="7919439" y="26665"/>
                </a:lnTo>
                <a:lnTo>
                  <a:pt x="7919439" y="242689"/>
                </a:lnTo>
                <a:lnTo>
                  <a:pt x="7923906" y="242689"/>
                </a:lnTo>
                <a:lnTo>
                  <a:pt x="7923906" y="386705"/>
                </a:lnTo>
                <a:lnTo>
                  <a:pt x="7919439" y="386705"/>
                </a:lnTo>
                <a:lnTo>
                  <a:pt x="7760349" y="386705"/>
                </a:lnTo>
                <a:lnTo>
                  <a:pt x="159090" y="386705"/>
                </a:lnTo>
                <a:lnTo>
                  <a:pt x="3906" y="386705"/>
                </a:lnTo>
                <a:lnTo>
                  <a:pt x="0" y="386705"/>
                </a:lnTo>
                <a:lnTo>
                  <a:pt x="0" y="26665"/>
                </a:lnTo>
                <a:lnTo>
                  <a:pt x="159090" y="26665"/>
                </a:lnTo>
                <a:lnTo>
                  <a:pt x="159090" y="242689"/>
                </a:lnTo>
                <a:lnTo>
                  <a:pt x="3916371" y="242689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4" descr="QQ截图20140324204717"/>
          <p:cNvPicPr/>
          <p:nvPr/>
        </p:nvPicPr>
        <p:blipFill>
          <a:blip r:embed="rId6"/>
          <a:stretch/>
        </p:blipFill>
        <p:spPr>
          <a:xfrm>
            <a:off x="0" y="0"/>
            <a:ext cx="1332000" cy="10526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5" descr="QQ截图20140324204717"/>
          <p:cNvPicPr/>
          <p:nvPr/>
        </p:nvPicPr>
        <p:blipFill>
          <a:blip r:embed="rId7"/>
          <a:stretch/>
        </p:blipFill>
        <p:spPr>
          <a:xfrm>
            <a:off x="7812000" y="0"/>
            <a:ext cx="1332000" cy="981000"/>
          </a:xfrm>
          <a:prstGeom prst="rect">
            <a:avLst/>
          </a:prstGeom>
          <a:ln w="0">
            <a:noFill/>
          </a:ln>
        </p:spPr>
      </p:pic>
      <p:pic>
        <p:nvPicPr>
          <p:cNvPr id="509" name="警报声 特效音效.mp3" descr=""/>
          <p:cNvPicPr/>
          <p:nvPr/>
        </p:nvPicPr>
        <p:blipFill>
          <a:blip r:embed="rId8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213" fill="hold"/>
                                        <p:tgtEl>
                                          <p:spTgt spid="5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TextBox 5" descr=""/>
          <p:cNvPicPr/>
          <p:nvPr/>
        </p:nvPicPr>
        <p:blipFill>
          <a:blip r:embed="rId1"/>
          <a:stretch/>
        </p:blipFill>
        <p:spPr>
          <a:xfrm>
            <a:off x="50760" y="2500200"/>
            <a:ext cx="1440000" cy="462240"/>
          </a:xfrm>
          <a:prstGeom prst="rect">
            <a:avLst/>
          </a:prstGeom>
          <a:ln w="0">
            <a:noFill/>
          </a:ln>
        </p:spPr>
      </p:pic>
      <p:pic>
        <p:nvPicPr>
          <p:cNvPr id="511" name="TextBox 8" descr=""/>
          <p:cNvPicPr/>
          <p:nvPr/>
        </p:nvPicPr>
        <p:blipFill>
          <a:blip r:embed="rId2"/>
          <a:stretch/>
        </p:blipFill>
        <p:spPr>
          <a:xfrm>
            <a:off x="7832880" y="2500200"/>
            <a:ext cx="1311120" cy="462240"/>
          </a:xfrm>
          <a:prstGeom prst="rect">
            <a:avLst/>
          </a:prstGeom>
          <a:ln w="0">
            <a:noFill/>
          </a:ln>
        </p:spPr>
      </p:pic>
      <p:pic>
        <p:nvPicPr>
          <p:cNvPr id="512" name="TextBox 9" descr=""/>
          <p:cNvPicPr/>
          <p:nvPr/>
        </p:nvPicPr>
        <p:blipFill>
          <a:blip r:embed="rId3"/>
          <a:stretch/>
        </p:blipFill>
        <p:spPr>
          <a:xfrm>
            <a:off x="3940200" y="2500200"/>
            <a:ext cx="1326960" cy="462240"/>
          </a:xfrm>
          <a:prstGeom prst="rect">
            <a:avLst/>
          </a:prstGeom>
          <a:ln w="0">
            <a:noFill/>
          </a:ln>
        </p:spPr>
      </p:pic>
      <p:pic>
        <p:nvPicPr>
          <p:cNvPr id="513" name="TextBox 10" descr=""/>
          <p:cNvPicPr/>
          <p:nvPr/>
        </p:nvPicPr>
        <p:blipFill>
          <a:blip r:embed="rId4"/>
          <a:stretch/>
        </p:blipFill>
        <p:spPr>
          <a:xfrm>
            <a:off x="2732040" y="488880"/>
            <a:ext cx="3743280" cy="924120"/>
          </a:xfrm>
          <a:prstGeom prst="rect">
            <a:avLst/>
          </a:prstGeom>
          <a:ln w="0">
            <a:noFill/>
          </a:ln>
        </p:spPr>
      </p:pic>
      <p:grpSp>
        <p:nvGrpSpPr>
          <p:cNvPr id="514" name="组合 13"/>
          <p:cNvGrpSpPr/>
          <p:nvPr/>
        </p:nvGrpSpPr>
        <p:grpSpPr>
          <a:xfrm>
            <a:off x="1728720" y="3860640"/>
            <a:ext cx="6639120" cy="2592720"/>
            <a:chOff x="1728720" y="3860640"/>
            <a:chExt cx="6639120" cy="2592720"/>
          </a:xfrm>
        </p:grpSpPr>
        <p:sp>
          <p:nvSpPr>
            <p:cNvPr id="515" name="爆炸形 1 11"/>
            <p:cNvSpPr/>
            <p:nvPr/>
          </p:nvSpPr>
          <p:spPr>
            <a:xfrm>
              <a:off x="1728720" y="3860640"/>
              <a:ext cx="6639120" cy="2592720"/>
            </a:xfrm>
            <a:prstGeom prst="irregularSeal1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6" name="矩形 12" descr=""/>
            <p:cNvPicPr/>
            <p:nvPr/>
          </p:nvPicPr>
          <p:blipFill>
            <a:blip r:embed="rId5"/>
            <a:stretch/>
          </p:blipFill>
          <p:spPr>
            <a:xfrm>
              <a:off x="3134160" y="4580640"/>
              <a:ext cx="3834000" cy="97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7" name="组合 14"/>
          <p:cNvGrpSpPr/>
          <p:nvPr/>
        </p:nvGrpSpPr>
        <p:grpSpPr>
          <a:xfrm>
            <a:off x="1755720" y="3860640"/>
            <a:ext cx="6640560" cy="2592720"/>
            <a:chOff x="1755720" y="3860640"/>
            <a:chExt cx="6640560" cy="2592720"/>
          </a:xfrm>
        </p:grpSpPr>
        <p:sp>
          <p:nvSpPr>
            <p:cNvPr id="518" name="爆炸形 1 15"/>
            <p:cNvSpPr/>
            <p:nvPr/>
          </p:nvSpPr>
          <p:spPr>
            <a:xfrm>
              <a:off x="1755720" y="3860640"/>
              <a:ext cx="6640560" cy="2592720"/>
            </a:xfrm>
            <a:prstGeom prst="irregularSeal1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矩形 16" descr=""/>
            <p:cNvPicPr/>
            <p:nvPr/>
          </p:nvPicPr>
          <p:blipFill>
            <a:blip r:embed="rId6"/>
            <a:stretch/>
          </p:blipFill>
          <p:spPr>
            <a:xfrm>
              <a:off x="3161520" y="4580640"/>
              <a:ext cx="3834360" cy="94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下箭头 17"/>
          <p:cNvSpPr/>
          <p:nvPr/>
        </p:nvSpPr>
        <p:spPr>
          <a:xfrm flipV="1">
            <a:off x="490680" y="3397320"/>
            <a:ext cx="280800" cy="5047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ff000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2"/>
          <p:cNvSpPr/>
          <p:nvPr/>
        </p:nvSpPr>
        <p:spPr>
          <a:xfrm>
            <a:off x="608040" y="2970360"/>
            <a:ext cx="7923240" cy="387360"/>
          </a:xfrm>
          <a:custGeom>
            <a:avLst/>
            <a:gdLst/>
            <a:ahLst/>
            <a:rect l="l" t="t" r="r" b="b"/>
            <a:pathLst>
              <a:path w="7923906" h="386705">
                <a:moveTo>
                  <a:pt x="3916371" y="0"/>
                </a:moveTo>
                <a:lnTo>
                  <a:pt x="4075461" y="0"/>
                </a:lnTo>
                <a:lnTo>
                  <a:pt x="4075461" y="242689"/>
                </a:lnTo>
                <a:lnTo>
                  <a:pt x="7760349" y="242689"/>
                </a:lnTo>
                <a:lnTo>
                  <a:pt x="7760349" y="26665"/>
                </a:lnTo>
                <a:lnTo>
                  <a:pt x="7919439" y="26665"/>
                </a:lnTo>
                <a:lnTo>
                  <a:pt x="7919439" y="242689"/>
                </a:lnTo>
                <a:lnTo>
                  <a:pt x="7923906" y="242689"/>
                </a:lnTo>
                <a:lnTo>
                  <a:pt x="7923906" y="386705"/>
                </a:lnTo>
                <a:lnTo>
                  <a:pt x="7919439" y="386705"/>
                </a:lnTo>
                <a:lnTo>
                  <a:pt x="7760349" y="386705"/>
                </a:lnTo>
                <a:lnTo>
                  <a:pt x="159090" y="386705"/>
                </a:lnTo>
                <a:lnTo>
                  <a:pt x="3906" y="386705"/>
                </a:lnTo>
                <a:lnTo>
                  <a:pt x="0" y="386705"/>
                </a:lnTo>
                <a:lnTo>
                  <a:pt x="0" y="26665"/>
                </a:lnTo>
                <a:lnTo>
                  <a:pt x="159090" y="26665"/>
                </a:lnTo>
                <a:lnTo>
                  <a:pt x="159090" y="242689"/>
                </a:lnTo>
                <a:lnTo>
                  <a:pt x="3916371" y="242689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5" descr="QQ截图20140324204717"/>
          <p:cNvPicPr/>
          <p:nvPr/>
        </p:nvPicPr>
        <p:blipFill>
          <a:blip r:embed="rId7"/>
          <a:stretch/>
        </p:blipFill>
        <p:spPr>
          <a:xfrm>
            <a:off x="0" y="0"/>
            <a:ext cx="1332000" cy="10526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6" descr="QQ截图20140324204717"/>
          <p:cNvPicPr/>
          <p:nvPr/>
        </p:nvPicPr>
        <p:blipFill>
          <a:blip r:embed="rId8"/>
          <a:stretch/>
        </p:blipFill>
        <p:spPr>
          <a:xfrm>
            <a:off x="7812000" y="0"/>
            <a:ext cx="133200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7 L 0.86424 -0.00139 E">
                                      <p:cBhvr>
                                        <p:cTn id="77" dur="180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80000"/>
                            </p:stCondLst>
                            <p:childTnLst>
                              <p:par>
                                <p:cTn id="8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07:32:1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0:10Z</dcterms:modified>
  <cp:revision>19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_TemplateID">
    <vt:lpwstr>TC011586452052</vt:lpwstr>
  </property>
</Properties>
</file>