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 Black"/>
              </a:rPr>
              <a:t>Click to move the slide</a:t>
            </a: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ECC3-E856-421A-8421-96E4D329C5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0FA2-D1F8-48EB-8B7A-69177565DAF8}" type="slidenum">
              <a:rPr b="0" lang="zh-CN" sz="1200" spc="-1" strike="noStrike">
                <a:solidFill>
                  <a:srgbClr val="3d3f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3D2-E3B2-4AA0-967F-E9939C26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1E9-1DC8-40DE-A171-7E56F2CE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793-1DC8-4D28-8E96-3CAC16E8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BB6-2854-433B-B7A9-1D68CF5E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82DB-C911-4C6E-8DDB-DA247780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43DE-9B38-4396-83D9-4BCDD2E6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E494-22FE-4459-9EFD-78A101D6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749F-8B79-4DAA-8C91-B12D32D4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D2FD-C8FF-4ACD-AC5A-2B82F1B7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7EFA-140B-4D71-83BC-B8D7F4D0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45AF-D1D2-45FE-A2F4-517084F2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DD0-E8A4-4EE5-BB7F-970E06B4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9B31-7501-4D70-809B-D64FAB71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C401-F54E-4BDC-9B76-D24542F4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ACE5-8C21-4236-B634-0C4C43F4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CA53-63C9-4725-94C6-E0EC001E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806E-5463-47FF-B42E-03AF091C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2A0-650A-46F1-9DF2-B6B75D0E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3F81-5AE3-4C23-9D5A-73D231E8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84A-9DF7-4092-9D8F-4EF23D24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7D9-9BD6-482D-8342-0E0DA353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A7D-52EC-4250-8A9A-08111C79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CE2-B5D6-421D-893B-EDF74961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F49-DFD4-4638-BF5C-84753E51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720720"/>
            <a:ext cx="9142560" cy="614988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矩形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1" marL="444600" indent="-444600" algn="just">
              <a:lnSpc>
                <a:spcPct val="110000"/>
              </a:lnSpc>
              <a:spcBef>
                <a:spcPts val="1800"/>
              </a:spcBef>
              <a:buClr>
                <a:srgbClr val="b1d19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FD56-D142-46E2-8C63-99C475B56FB0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D32E-CC15-4CBC-B14C-248E56549A6C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1" marL="444600" indent="-444600" algn="just">
              <a:lnSpc>
                <a:spcPct val="110000"/>
              </a:lnSpc>
              <a:spcBef>
                <a:spcPts val="1800"/>
              </a:spcBef>
              <a:buClr>
                <a:srgbClr val="b1d19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b8e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5F0A-60F7-4DC4-B57D-F6131A1D56FF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0899-D42C-455D-9F2F-FF321B8A697A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19080" y="2008080"/>
            <a:ext cx="663876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5d5f1f"/>
                </a:solidFill>
                <a:latin typeface="Arial Black"/>
              </a:rPr>
              <a:t>我最喜欢的汉字</a:t>
            </a:r>
            <a:endParaRPr b="1" lang="en-US" sz="72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2344320" y="4468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d5f1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5d5f1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" descr=""/>
          <p:cNvPicPr/>
          <p:nvPr/>
        </p:nvPicPr>
        <p:blipFill>
          <a:blip r:embed="rId4"/>
          <a:stretch/>
        </p:blipFill>
        <p:spPr>
          <a:xfrm>
            <a:off x="128520" y="0"/>
            <a:ext cx="888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124" name="图片 1" descr=""/>
          <p:cNvPicPr/>
          <p:nvPr/>
        </p:nvPicPr>
        <p:blipFill>
          <a:blip r:embed="rId2"/>
          <a:stretch/>
        </p:blipFill>
        <p:spPr>
          <a:xfrm>
            <a:off x="219240" y="0"/>
            <a:ext cx="87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d5f1f"/>
                </a:solidFill>
                <a:latin typeface="Arial Black"/>
              </a:rPr>
              <a:t>使用规范说明</a:t>
            </a:r>
            <a:endParaRPr b="1" lang="en-US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9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8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b0f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d3f4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7EFF-86DB-445F-8881-33D83ABF31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8e2e"/>
                </a:solidFill>
                <a:latin typeface="Arial"/>
              </a:rPr>
              <a:t>从一年级到现在，我们已经学过了两千多个汉字了。如果让你从众多的汉字中挑选出一个你最喜欢的，你会选哪一个呢？</a:t>
            </a:r>
            <a:endParaRPr b="0" lang="en-US" sz="32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8e2e"/>
                </a:solidFill>
                <a:latin typeface="Arial"/>
              </a:rPr>
              <a:t>把你喜欢它的原因写清楚，别忘了把字写工整，让人一看就愿意读下去。</a:t>
            </a:r>
            <a:endParaRPr b="0" lang="en-US" sz="3200" spc="-1" strike="noStrike">
              <a:solidFill>
                <a:srgbClr val="8b8e2e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1486080" y="5032440"/>
            <a:ext cx="617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d5f1f"/>
                </a:solidFill>
                <a:latin typeface="Arial Black"/>
              </a:rPr>
              <a:t>写作要求：</a:t>
            </a:r>
            <a:endParaRPr b="1" lang="en-US" sz="24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、选择</a:t>
            </a:r>
            <a:r>
              <a:rPr b="0" lang="zh-CN" sz="2800" spc="-1" strike="noStrike">
                <a:solidFill>
                  <a:srgbClr val="791204"/>
                </a:solidFill>
                <a:latin typeface="Arial"/>
              </a:rPr>
              <a:t>一个</a:t>
            </a: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你最喜欢的汉字，写一篇习作。</a:t>
            </a:r>
            <a:endParaRPr b="0" lang="en-US" sz="28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、把喜欢的</a:t>
            </a:r>
            <a:r>
              <a:rPr b="0" lang="zh-CN" sz="2800" spc="-1" strike="noStrike">
                <a:solidFill>
                  <a:srgbClr val="791204"/>
                </a:solidFill>
                <a:latin typeface="Arial"/>
              </a:rPr>
              <a:t>原因</a:t>
            </a: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写清楚。</a:t>
            </a:r>
            <a:endParaRPr b="0" lang="en-US" sz="28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为什么喜欢它？它是什么意思，有什么寓意，或者发生过什么故事？</a:t>
            </a:r>
            <a:endParaRPr b="0" lang="en-US" sz="28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开头和结尾一定要写好，结尾可以稍微总结一下，也可以与开头相互照应。</a:t>
            </a:r>
            <a:endParaRPr b="0" lang="en-US" sz="2800" spc="-1" strike="noStrike">
              <a:solidFill>
                <a:srgbClr val="8b8e2e"/>
              </a:solidFill>
              <a:latin typeface="Arial"/>
            </a:endParaRPr>
          </a:p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8b8e2e"/>
                </a:solidFill>
                <a:latin typeface="Arial"/>
              </a:rPr>
              <a:t>、字迹工整。 </a:t>
            </a:r>
            <a:endParaRPr b="0" lang="en-US" sz="2800" spc="-1" strike="noStrike">
              <a:solidFill>
                <a:srgbClr val="8b8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104" name="图片 1" descr=""/>
          <p:cNvPicPr/>
          <p:nvPr/>
        </p:nvPicPr>
        <p:blipFill>
          <a:blip r:embed="rId2"/>
          <a:stretch/>
        </p:blipFill>
        <p:spPr>
          <a:xfrm>
            <a:off x="353880" y="0"/>
            <a:ext cx="843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107" name="图片 1" descr=""/>
          <p:cNvPicPr/>
          <p:nvPr/>
        </p:nvPicPr>
        <p:blipFill>
          <a:blip r:embed="rId2"/>
          <a:stretch/>
        </p:blipFill>
        <p:spPr>
          <a:xfrm>
            <a:off x="84240" y="0"/>
            <a:ext cx="897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110" name="图片 1" descr=""/>
          <p:cNvPicPr/>
          <p:nvPr/>
        </p:nvPicPr>
        <p:blipFill>
          <a:blip r:embed="rId2"/>
          <a:stretch/>
        </p:blipFill>
        <p:spPr>
          <a:xfrm>
            <a:off x="695160" y="228600"/>
            <a:ext cx="7753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2"/>
          <a:stretch/>
        </p:blipFill>
        <p:spPr>
          <a:xfrm>
            <a:off x="138240" y="133200"/>
            <a:ext cx="886752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d5f1f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b8e2e"/>
              </a:solidFill>
              <a:latin typeface="Arial"/>
            </a:endParaRPr>
          </a:p>
        </p:txBody>
      </p:sp>
      <p:pic>
        <p:nvPicPr>
          <p:cNvPr id="116" name="图片 1" descr=""/>
          <p:cNvPicPr/>
          <p:nvPr/>
        </p:nvPicPr>
        <p:blipFill>
          <a:blip r:embed="rId2"/>
          <a:stretch/>
        </p:blipFill>
        <p:spPr>
          <a:xfrm>
            <a:off x="152280" y="0"/>
            <a:ext cx="88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0:05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