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D535-4036-48A7-BC39-F93B008850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7927-D4E9-48F7-A47A-F1FDE0825F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DEA-A22E-48E6-B659-19157692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06A-D2EF-4DA9-9B78-EF86A95F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B0D-EADC-4290-AD49-628E1452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F06-B184-4111-AA96-A88CC70D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8A6-66AA-455B-A6A9-C3C76B4F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8B9-91D1-482B-B611-A0A1FFCC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A56-19E4-4130-8D32-0D41223A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FD5-B1DC-49EA-A0BD-CF565E89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B6D-DCF2-475F-A429-741B472C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53C-D757-4ED0-9FED-ACDAAC2D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6B8-7BDB-4DC3-8C89-7BC30C1B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191-F76B-4C6D-9AC7-AD0C1DD7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0AAA-3551-4D5A-9809-53AB8B25F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00200" y="45720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丑的眼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4" descr=""/>
          <p:cNvPicPr/>
          <p:nvPr/>
        </p:nvPicPr>
        <p:blipFill>
          <a:blip r:embed="rId2"/>
          <a:stretch/>
        </p:blipFill>
        <p:spPr>
          <a:xfrm>
            <a:off x="2819520" y="5715000"/>
            <a:ext cx="59436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549360" y="2362320"/>
            <a:ext cx="78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部分（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段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小丑发现自己的表演没有让小姑娘笑，问明情况后决定去小姑娘家表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33520" y="4495680"/>
            <a:ext cx="786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部分（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小丑来到小姑娘家中，经过小丑的努力和耐心表演，小女孩终于笑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7"/>
          <p:cNvSpPr txBox="1"/>
          <p:nvPr/>
        </p:nvSpPr>
        <p:spPr>
          <a:xfrm>
            <a:off x="733320" y="990720"/>
            <a:ext cx="4191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划分文章段落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95360" y="136224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跑马道上，小丑跌跌绊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绊地出场了！孩子们欢快地扯开嗓门尖叫起来。他们笑得那么开心，以至泪水蒙住了视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小丑根本不说话，他用不着说话就妙趣横生。他在孩子们面前表演着哑剧，一会儿装小猪，一会儿装鳄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鱼，一会儿装跳舞的熊，滑稽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突然，年迈的小丑发现一个小姑娘没有笑。她头上扎着红蝴蝶结，身上穿着节日的蓝衣服，和父母一起坐在紧挨跑马道的第一排。她的父亲在笑，母亲也在笑，几百个孩子都在笑，只有她一个人不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057400" y="3962520"/>
            <a:ext cx="48006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32040" y="1523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  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023480" y="2733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姑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24136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4160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滑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332800" y="2743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324600" y="27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没有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AutoShape 14"/>
          <p:cNvCxnSpPr>
            <a:stCxn id="81" idx="2"/>
            <a:endCxn id="83" idx="0"/>
          </p:cNvCxnSpPr>
          <p:nvPr/>
        </p:nvCxnSpPr>
        <p:spPr>
          <a:xfrm>
            <a:off x="2514240" y="1980720"/>
            <a:ext cx="1080" cy="762840"/>
          </a:xfrm>
          <a:prstGeom prst="straightConnector1">
            <a:avLst/>
          </a:prstGeom>
          <a:ln w="28440">
            <a:solidFill>
              <a:srgbClr val="ff9900"/>
            </a:solidFill>
            <a:round/>
            <a:tailEnd len="med" type="triangle" w="med"/>
          </a:ln>
        </p:spPr>
      </p:cxnSp>
      <p:cxnSp>
        <p:nvCxnSpPr>
          <p:cNvPr id="86" name="AutoShape 15"/>
          <p:cNvCxnSpPr>
            <a:stCxn id="82" idx="2"/>
            <a:endCxn id="84" idx="0"/>
          </p:cNvCxnSpPr>
          <p:nvPr/>
        </p:nvCxnSpPr>
        <p:spPr>
          <a:xfrm>
            <a:off x="3688920" y="1980720"/>
            <a:ext cx="1080" cy="762840"/>
          </a:xfrm>
          <a:prstGeom prst="straightConnector1">
            <a:avLst/>
          </a:prstGeom>
          <a:ln w="28440">
            <a:solidFill>
              <a:srgbClr val="ff99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5720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的父亲在笑，母亲也在笑，几百个孩子都在笑，只有她一个人不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57200" y="2286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女孩是怎样被小丑关注到的？作者为什么要一一描写周边人的反应，而后再写只有一个人不笑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57200" y="34290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丑的精彩表演逗笑了观众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唯有一个小姑娘没有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她与众不同的神情引起了小丑的关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周边的人都在笑，唯独小女孩不笑，更加突出了小女孩的可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46040" y="1333440"/>
            <a:ext cx="825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于是，小丑走到小姑娘面前，有礼貌地问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诉我，你不喜欢我的表演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姑娘友好地回答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我很喜欢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，请告诉我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丑问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的孩子都在笑，你为什么不笑呢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我看不见您。我是一个盲孩子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丑不知道说什么好，他呆呆地站了很久。小丑像要作出重大决定似的，鞠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了一个躬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ō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说道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姑娘，方便的话，明天下午６点钟，我到你家里去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我家里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姑娘激动地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的。我将表演给你看，同意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姑娘高兴得拍着双手喊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好啊！爸爸、妈妈，他会到我们家来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1143000" y="1676520"/>
            <a:ext cx="74674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609480" y="2095560"/>
            <a:ext cx="28958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1143000" y="3924360"/>
            <a:ext cx="74674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09480" y="4305240"/>
            <a:ext cx="80010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33520" y="4686480"/>
            <a:ext cx="69339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4572000" y="304920"/>
            <a:ext cx="4267080" cy="685800"/>
          </a:xfrm>
          <a:prstGeom prst="wedgeRectCallout">
            <a:avLst>
              <a:gd name="adj1" fmla="val 3870"/>
              <a:gd name="adj2" fmla="val 9143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体会描写小丑的句子，感受其伟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63828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丑不知道说什么好，他呆呆地站了很久。小丑像要作出重大决定似的，鞠了一个躬说道：“小姑娘，方便的话，明天下午６点钟，我到你家里去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33520" y="3124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小丑的一系列动作描写，你体会到了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85800" y="4419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小丑的“呆呆地站”“鞠躬”“说”等动作可以看出，小丑被眼前的这个盲孩子深深地触动了，他希望通过自己的表演给所有人带来快乐，包括这个盲孩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5438880" y="14479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5438880" y="1905120"/>
            <a:ext cx="213336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495360" y="9334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当夜大雪纷飞，第二天仍然下个不停。下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半钟的时候，小姑娘家里的圣诞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树上烛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h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光闪闪。小姑娘摸遍了桌子上摆的精美礼物，不停地问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真的会来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然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说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亲口答应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准时到达，起居室的座钟正在打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姑娘握着他的手，激动得结结巴巴地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太好了。您真的来了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丑向小姑娘的父母致意，然后把礼物送给小姑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是三本盲文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给我一杯香槟酒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丑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喝完香槟，牵着小姑娘的手，把她安顿在圣诞树前的沙发上，自己在她的面前蹲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ū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1143000" y="3181320"/>
            <a:ext cx="51814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1143000" y="3486240"/>
            <a:ext cx="74674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609480" y="3867120"/>
            <a:ext cx="32767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2680" y="213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  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74120" y="3343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姑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69200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86668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滑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97944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准时到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783440" y="335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775240" y="3352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没有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161960" y="3352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激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14"/>
          <p:cNvCxnSpPr>
            <a:stCxn id="108" idx="2"/>
            <a:endCxn id="111" idx="0"/>
          </p:cNvCxnSpPr>
          <p:nvPr/>
        </p:nvCxnSpPr>
        <p:spPr>
          <a:xfrm>
            <a:off x="1964880" y="2590920"/>
            <a:ext cx="1080" cy="762480"/>
          </a:xfrm>
          <a:prstGeom prst="straightConnector1">
            <a:avLst/>
          </a:prstGeom>
          <a:ln w="28440">
            <a:solidFill>
              <a:srgbClr val="ff9900"/>
            </a:solidFill>
            <a:round/>
            <a:tailEnd len="med" type="triangle" w="med"/>
          </a:ln>
        </p:spPr>
      </p:cxnSp>
      <p:cxnSp>
        <p:nvCxnSpPr>
          <p:cNvPr id="115" name="AutoShape 15"/>
          <p:cNvCxnSpPr>
            <a:stCxn id="109" idx="2"/>
            <a:endCxn id="112" idx="0"/>
          </p:cNvCxnSpPr>
          <p:nvPr/>
        </p:nvCxnSpPr>
        <p:spPr>
          <a:xfrm>
            <a:off x="3139560" y="2590920"/>
            <a:ext cx="1080" cy="762480"/>
          </a:xfrm>
          <a:prstGeom prst="straightConnector1">
            <a:avLst/>
          </a:prstGeom>
          <a:ln w="28440">
            <a:solidFill>
              <a:srgbClr val="ff9900"/>
            </a:solidFill>
            <a:round/>
            <a:tailEnd len="med" type="triangle" w="med"/>
          </a:ln>
        </p:spPr>
      </p:cxnSp>
      <p:cxnSp>
        <p:nvCxnSpPr>
          <p:cNvPr id="116" name="AutoShape 16"/>
          <p:cNvCxnSpPr>
            <a:stCxn id="110" idx="2"/>
            <a:endCxn id="113" idx="0"/>
          </p:cNvCxnSpPr>
          <p:nvPr/>
        </p:nvCxnSpPr>
        <p:spPr>
          <a:xfrm>
            <a:off x="4435200" y="2590920"/>
            <a:ext cx="1080" cy="762480"/>
          </a:xfrm>
          <a:prstGeom prst="straightConnector1">
            <a:avLst/>
          </a:prstGeom>
          <a:ln w="28440">
            <a:solidFill>
              <a:srgbClr val="ff99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80880" y="1066680"/>
            <a:ext cx="838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开始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丑说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摸摸我的脸、脖子、肩膀，还有手臂和腿，不要让手离开我。你要不停地摸着我，这样你才能知道我在干什么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姑娘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丑开始表演，他把全套节目从头做起。小姑娘的父母相互紧握着对方的手，站在门旁看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小熊在跳舞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迈的小丑说。当他模仿小熊跳舞时，小姑娘细嫩的小手抚摸着他，但是她的面容仍然呆滞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h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虽然这是他              ，但是小丑一点也不畏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wè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缩。他又开始学鳄鱼，然后学小猪。渐渐地，小姑娘的手指从他的脸上滑到了肩上，她的呼吸急促起来，嘴巴也张开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1143000" y="1447920"/>
            <a:ext cx="74674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457200" y="1828800"/>
            <a:ext cx="82296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457200" y="2209680"/>
            <a:ext cx="35812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1143000" y="4800600"/>
            <a:ext cx="76201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457200" y="5181480"/>
            <a:ext cx="48006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143000" y="2971800"/>
            <a:ext cx="55627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2590920" y="44038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毕生最困难的表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914400" y="9144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说是“毕生最困难的表演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在以往的表演经历中，从来没有出现过为盲人演出，所以这是一次“毕生最困难的表演”。然而从小丑的“一点也不畏缩”，可以感受到，这是一位专业的、并且表演经验非常丰富的资深演员，可以感受到小丑的敬业精神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3320946_210615404981_2"/>
          <p:cNvPicPr/>
          <p:nvPr/>
        </p:nvPicPr>
        <p:blipFill>
          <a:blip r:embed="rId1"/>
          <a:stretch/>
        </p:blipFill>
        <p:spPr>
          <a:xfrm>
            <a:off x="2362320" y="1066680"/>
            <a:ext cx="457200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28600" y="80028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姑娘用她的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其他孩子用眼睛看到的东西。她在小丑装小猪的时候哧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哧地笑起来，笑得短促而轻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丑更有信心地表演起来，小姑娘开始欢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是兔子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丑开始表演他的拿手好戏。小姑娘大笑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来一遍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兴奋地喊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再来一遍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年迈的小丑又装了一遍兔子，一遍又一遍。小姑娘还是没个够。她的父母面面相觑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小姑娘从来没有这么快活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她笑得气喘吁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吁，大喊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！爸爸！现在我知道小丑是怎么回事了！现在我什么都知道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小的手指仍在老人脸上摸来摸去。突然，小姑娘吃了一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发现，这个伟大的小丑哭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952560" y="1905120"/>
            <a:ext cx="62863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914400" y="4114800"/>
            <a:ext cx="79246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380880" y="4495680"/>
            <a:ext cx="55627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533520" y="4952880"/>
            <a:ext cx="40384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457200" y="4572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真是世界上最美的小丑啊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533520" y="9428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真是世界上最美的小丑啊！”这句话矛盾吗？该怎么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8580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04920" y="220968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小姑娘最纯洁的童真的评价，她的世界是黑暗的，在她的脑海里没有小丑的模样，但是她通过触摸感知到小丑就是能带给她快乐的东西，而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她的意识里能带给她快乐的就是最美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因此在这一特定情况下，这句话看似有毛病却是符合情理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28600" y="80028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姑娘用她的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其他孩子用眼睛看到的东西。她在小丑装小猪的时候哧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哧地笑起来，笑得短促而轻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丑更有信心地表演起来，小姑娘开始欢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是兔子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丑开始表演他的拿手好戏。小姑娘大笑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来一遍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兴奋地喊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再来一遍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年迈的小丑又装了一遍兔子，一遍又一遍。小姑娘还是没个够。她的父母面面相觑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小姑娘从来没有这么快活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她笑得气喘吁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吁，大喊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！爸爸！现在我知道小丑是怎么回事了！现在我什么都知道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小的手指仍在老人脸上摸来摸去。突然，小姑娘吃了一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发现，这个伟大的小丑哭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952560" y="1905120"/>
            <a:ext cx="62863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914400" y="4114800"/>
            <a:ext cx="79246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80880" y="4495680"/>
            <a:ext cx="55627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533520" y="4952880"/>
            <a:ext cx="40384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57200" y="4572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真是世界上最美的小丑啊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382680" y="213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  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74120" y="3343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姑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69200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86668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滑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97944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准时到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593320" y="2133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信心的表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7819560" y="2157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哭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1783440" y="335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2775240" y="3352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没有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4161960" y="3352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激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5776200" y="3352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笑起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7454160" y="3352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笑得气喘吁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AutoShape 16"/>
          <p:cNvCxnSpPr>
            <a:stCxn id="144" idx="2"/>
            <a:endCxn id="149" idx="0"/>
          </p:cNvCxnSpPr>
          <p:nvPr/>
        </p:nvCxnSpPr>
        <p:spPr>
          <a:xfrm>
            <a:off x="1964880" y="2590920"/>
            <a:ext cx="1080" cy="762480"/>
          </a:xfrm>
          <a:prstGeom prst="straightConnector1">
            <a:avLst/>
          </a:prstGeom>
          <a:ln w="28440">
            <a:solidFill>
              <a:srgbClr val="ff9900"/>
            </a:solidFill>
            <a:round/>
            <a:tailEnd len="med" type="triangle" w="med"/>
          </a:ln>
        </p:spPr>
      </p:cxnSp>
      <p:cxnSp>
        <p:nvCxnSpPr>
          <p:cNvPr id="155" name="AutoShape 17"/>
          <p:cNvCxnSpPr>
            <a:stCxn id="145" idx="2"/>
            <a:endCxn id="150" idx="0"/>
          </p:cNvCxnSpPr>
          <p:nvPr/>
        </p:nvCxnSpPr>
        <p:spPr>
          <a:xfrm>
            <a:off x="3139560" y="2590920"/>
            <a:ext cx="1080" cy="762480"/>
          </a:xfrm>
          <a:prstGeom prst="straightConnector1">
            <a:avLst/>
          </a:prstGeom>
          <a:ln w="28440">
            <a:solidFill>
              <a:srgbClr val="ff9900"/>
            </a:solidFill>
            <a:round/>
            <a:tailEnd len="med" type="triangle" w="med"/>
          </a:ln>
        </p:spPr>
      </p:cxnSp>
      <p:cxnSp>
        <p:nvCxnSpPr>
          <p:cNvPr id="156" name="AutoShape 18"/>
          <p:cNvCxnSpPr>
            <a:stCxn id="146" idx="2"/>
            <a:endCxn id="151" idx="0"/>
          </p:cNvCxnSpPr>
          <p:nvPr/>
        </p:nvCxnSpPr>
        <p:spPr>
          <a:xfrm>
            <a:off x="4435200" y="2590920"/>
            <a:ext cx="1080" cy="762480"/>
          </a:xfrm>
          <a:prstGeom prst="straightConnector1">
            <a:avLst/>
          </a:prstGeom>
          <a:ln w="28440">
            <a:solidFill>
              <a:srgbClr val="ff9900"/>
            </a:solidFill>
            <a:round/>
            <a:tailEnd len="med" type="triangle" w="med"/>
          </a:ln>
        </p:spPr>
      </p:cxnSp>
      <p:cxnSp>
        <p:nvCxnSpPr>
          <p:cNvPr id="157" name="AutoShape 19"/>
          <p:cNvCxnSpPr>
            <a:stCxn id="147" idx="2"/>
            <a:endCxn id="152" idx="0"/>
          </p:cNvCxnSpPr>
          <p:nvPr/>
        </p:nvCxnSpPr>
        <p:spPr>
          <a:xfrm>
            <a:off x="6232320" y="2590920"/>
            <a:ext cx="1080" cy="762480"/>
          </a:xfrm>
          <a:prstGeom prst="straightConnector1">
            <a:avLst/>
          </a:prstGeom>
          <a:ln w="28440">
            <a:solidFill>
              <a:srgbClr val="ff9900"/>
            </a:solidFill>
            <a:round/>
            <a:tailEnd len="med" type="triangle" w="med"/>
          </a:ln>
        </p:spPr>
      </p:cxnSp>
      <p:cxnSp>
        <p:nvCxnSpPr>
          <p:cNvPr id="158" name="AutoShape 20"/>
          <p:cNvCxnSpPr>
            <a:stCxn id="148" idx="2"/>
            <a:endCxn id="153" idx="0"/>
          </p:cNvCxnSpPr>
          <p:nvPr/>
        </p:nvCxnSpPr>
        <p:spPr>
          <a:xfrm>
            <a:off x="8092800" y="2614680"/>
            <a:ext cx="1080" cy="738720"/>
          </a:xfrm>
          <a:prstGeom prst="straightConnector1">
            <a:avLst/>
          </a:prstGeom>
          <a:ln w="28440">
            <a:solidFill>
              <a:srgbClr val="ff9900"/>
            </a:solidFill>
            <a:round/>
            <a:tailEnd len="med" type="triangle" w="med"/>
          </a:ln>
        </p:spPr>
      </p:cxnSp>
      <p:sp>
        <p:nvSpPr>
          <p:cNvPr id="159" name="Line 21"/>
          <p:cNvSpPr/>
          <p:nvPr/>
        </p:nvSpPr>
        <p:spPr>
          <a:xfrm>
            <a:off x="2590920" y="3886200"/>
            <a:ext cx="64008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2743200" y="41148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姑娘情绪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685800" y="1066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小女孩的情绪变化中你感受到了什么？小姑娘笑得那么欢，为什么小丑却哭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80880" y="297180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姑娘“看”懂了小丑的表演，因而她很快乐。小丑的努力没有白费， 他凭借自己的努力使一个盲孩子获得了同其他正常孩子一样的快乐，他为此十分激动，也十分高兴，所以哭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838080" y="60948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85640" y="94464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丑这样做是为了什么？你从这些句子中感受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57200" y="23623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丑这样做是为了打开小姑娘的心灵之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从句子中感受到小丑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伟大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因为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爱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耐心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退缩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所以成功地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让小姑娘感受到了爱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914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一两个词语概括小丑的形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丑为什么要到小女孩家为她一人表演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丑是怎样让小女孩知道小丑是怎么回事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158920" y="3886200"/>
            <a:ext cx="49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丑的表演没有赢得小姑娘的笑声（原来她是个盲孩子）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5334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丑的不懈努力和耐心表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22096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有爱心，伟大，有耐心，不畏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"/>
          <p:cNvSpPr/>
          <p:nvPr/>
        </p:nvSpPr>
        <p:spPr>
          <a:xfrm>
            <a:off x="1230480" y="2570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117680" y="114228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总结全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311120" y="1753560"/>
            <a:ext cx="6854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盲女孩的表情：始终（        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仍然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始（        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）起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喘吁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伟大的小丑：他是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以下词汇中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失败、成功、滑稽、可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小丑，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打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灵之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小丑那里，你得到了什么人生启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473720" y="22086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7365960" y="2269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呆滞不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523240" y="26658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笑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6483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7823880" y="26658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笑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47242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成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7044840" y="3960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盲女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808200" y="53341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给别人带去欢乐，自己就能收获更大的欢乐。能给别人带去欢乐的人生，是最成功的人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2295-AC7A-45BA-94D7-F088662449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kaixinxiaochou2_042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5416560" y="5753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28440" y="5811840"/>
            <a:ext cx="32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的小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57200" y="1143000"/>
            <a:ext cx="8381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京剧的行当分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、旦、净、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大类。 其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丑行又叫小花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包括文丑：伶俐风趣或阴险狡黠的角色。武丑：精明干练而风趣幽默的豪杰义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所表演的人物往往在鼻子上勾画一块小白粉，便具有风趣、诙谐、幽默、滑稽或者阴险、狡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代小丑是指耍杂技，一些常人做不到的让人迷惑的表演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1"/>
          <p:cNvSpPr/>
          <p:nvPr/>
        </p:nvSpPr>
        <p:spPr>
          <a:xfrm flipH="1">
            <a:off x="2743200" y="5334120"/>
            <a:ext cx="4495680" cy="1143000"/>
          </a:xfrm>
          <a:prstGeom prst="borderCallout2">
            <a:avLst>
              <a:gd name="adj1" fmla="val 18750"/>
              <a:gd name="adj2" fmla="val -8333"/>
              <a:gd name="adj3" fmla="val 10000"/>
              <a:gd name="adj4" fmla="val -1699"/>
              <a:gd name="adj5" fmla="val -224166"/>
              <a:gd name="adj6" fmla="val -35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妙趣横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横生：层出不穷地表露。洋溢着美妙的意趣（多指语言、文章或美术作品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19040" y="12193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跑马道上，小丑跌跌绊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绊地出场了！孩子们欢快地扯开嗓门尖叫起来。他们笑得那么开心，以至泪水蒙住了视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小丑根本不说话，他用不着说话就妙趣横生。他在孩子们面前表演着哑剧，一会儿装小猪，一会儿装鳄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鱼，一会儿装跳舞的熊，滑稽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突然，年迈的小丑发现一个小姑娘没有笑。她头上扎着红蝴蝶结，身上穿着节日的蓝衣服，和父母一起坐在紧挨跑马道的第一排。她的父亲在笑，母亲也在笑，几百个孩子都在笑，只有她一个人不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1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886200" y="342900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 flipH="1">
            <a:off x="0" y="4951440"/>
            <a:ext cx="419112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1819"/>
              <a:gd name="adj5" fmla="val -170078"/>
              <a:gd name="adj6" fmla="val -268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滑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形容一个人语言、动作等幽默诙谐，引人发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3390840" y="1676520"/>
            <a:ext cx="23623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 flipH="1">
            <a:off x="4571280" y="304920"/>
            <a:ext cx="441972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01722"/>
              <a:gd name="adj5" fmla="val 115208"/>
              <a:gd name="adj6" fmla="val 10625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跌跌绊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因被别的东西挡住或缠住而行走不稳，连续地摔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6095880" y="2712960"/>
            <a:ext cx="12956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1676520"/>
            <a:ext cx="838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开始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丑说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摸摸我的脸、脖子、肩膀，还有手臂和腿，不要让手离开我。你要不停地摸着我，这样你才能知道我在干什么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姑娘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丑开始表演，他把全套节目从头做起。小姑娘的父母相互紧握着对方的手，站在门旁看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小熊在跳舞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迈的小丑说。当他模仿小熊跳舞时，小姑娘细嫩的小手抚摸着他，但是她的面容仍然呆滞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h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虽然这是他毕生最困难的表演，但是小丑一点也不畏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wè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缩。他又开始学鳄鱼，然后学小猪。渐渐地，小姑娘的手指从他的脸上滑到了肩上，她的呼吸急促起来，嘴巴也张开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8077320" y="464832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 flipH="1">
            <a:off x="4114800" y="2514600"/>
            <a:ext cx="4191120" cy="60948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819"/>
              <a:gd name="adj5" fmla="val 280208"/>
              <a:gd name="adj6" fmla="val -231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呆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因震惊、恐惧而引发的发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" y="952560"/>
            <a:ext cx="876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姑娘用她的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其他孩子用眼睛看到的东西。她在小丑装小猪的时候哧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哧地笑起来，笑得短促而轻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丑更有信心地表演起来，小姑娘开始欢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是兔子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丑开始表演他的拿手好戏。小姑娘大笑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来一遍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兴奋地喊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再来一遍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年迈的小丑又装了一遍兔子，一遍又一遍。小姑娘还是没个够。她的父母面面相觑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小姑娘从来没有这么快活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她笑得气喘吁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吁，大喊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！爸爸！现在我知道小丑是怎么回事了！现在我什么都知道了！这真是世界上最美的小丑啊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细小的手指仍在老人脸上摸来摸去。突然，小姑娘吃了一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发现，这个伟大的小丑哭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>
            <a:off x="1981080" y="4267080"/>
            <a:ext cx="22100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 flipH="1">
            <a:off x="3733920" y="6095880"/>
            <a:ext cx="4572000" cy="60984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101666"/>
              <a:gd name="adj5" fmla="val -279166"/>
              <a:gd name="adj6" fmla="val 1057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气喘吁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形容呼吸急促，大声喘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2209680" y="3886200"/>
            <a:ext cx="19814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 flipH="1">
            <a:off x="2666160" y="228600"/>
            <a:ext cx="6402600" cy="60948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101189"/>
              <a:gd name="adj5" fmla="val 545050"/>
              <a:gd name="adj6" fmla="val 1070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面面相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你看我，我看你，不知道如何是好。形容人们因惊恐或无可奈何而互相望着，都不说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838080" y="129528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课文主要讲了一件什么事？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23960" y="32004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丑单独为盲女孩表演的感人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6:07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5:12Z</dcterms:modified>
  <cp:revision>6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