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4744-517A-4C78-9237-5548B4FF85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3DAC-BA7F-427D-AE10-27D035E860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571D-603C-43C3-88A8-AE9B4EB4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2924-EEDE-49C7-B8E8-C85DC08E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617-4D5A-4D12-8B42-0AA0FA22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501-C79F-4E52-8E78-8D196F8E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70D-5BFD-44D1-888B-600856BA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099-BEE5-4A7E-B07A-917905B4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481F-5538-4198-A452-4E3D5127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02E7-0EEA-4E7B-B4BA-1AEA5B88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63BC-8C52-4723-81CB-15044EEE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513-2C3E-4253-A937-257D0F1D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997-9E6D-4EAA-BDA7-1DED5490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CAC4-9A89-40B9-8984-6C8D707E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507C-4813-47B0-BBAB-517B0A2E77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e151778e167baa13f020f7e08c8_404_519"/>
          <p:cNvPicPr/>
          <p:nvPr/>
        </p:nvPicPr>
        <p:blipFill>
          <a:blip r:embed="rId1"/>
          <a:stretch/>
        </p:blipFill>
        <p:spPr>
          <a:xfrm>
            <a:off x="4621320" y="476280"/>
            <a:ext cx="4522680" cy="63831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201240" y="325440"/>
            <a:ext cx="2618280" cy="58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小丑的眼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33200" y="5954760"/>
            <a:ext cx="48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图片2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539640" y="476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小丑是怎样表演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79280" y="170028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完成句子：当小丑模仿小熊跳舞时，小姑娘（       　     ）；当他装小猪时，小姑娘（    　　　　　　　　　     ）；当他更有信心的表演时，小姑娘（　　　　　）；当他表演他的拿手好戏————小兔时，小姑娘（           ），当他一遍又一遍装小兔时，小姑娘（             　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971640" y="2276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仍然呆滞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044720" y="285264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呼吸急促起来，嘴巴也张开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364000" y="3429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开始欢笑起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979640" y="4508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大笑起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348000" y="508464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笑得气喘吁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小姑娘情绪有哪些变化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539640" y="240516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真是世界上最美的小丑啊！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句话有矛盾吗？你怎样理解这句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图片3"/>
          <p:cNvPicPr/>
          <p:nvPr/>
        </p:nvPicPr>
        <p:blipFill>
          <a:blip r:embed="rId1"/>
          <a:stretch/>
        </p:blipFill>
        <p:spPr>
          <a:xfrm>
            <a:off x="395280" y="0"/>
            <a:ext cx="24670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1773360"/>
            <a:ext cx="54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姑娘笑得那么开心，小丑的目的达到了，小丑本应高兴才对，为什么小丑哭了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图片3"/>
          <p:cNvPicPr/>
          <p:nvPr/>
        </p:nvPicPr>
        <p:blipFill>
          <a:blip r:embed="rId1"/>
          <a:stretch/>
        </p:blipFill>
        <p:spPr>
          <a:xfrm>
            <a:off x="0" y="0"/>
            <a:ext cx="2467080" cy="176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fe151778e167baa13f020f7e08c8_404_519"/>
          <p:cNvPicPr/>
          <p:nvPr/>
        </p:nvPicPr>
        <p:blipFill>
          <a:blip r:embed="rId2"/>
          <a:stretch/>
        </p:blipFill>
        <p:spPr>
          <a:xfrm>
            <a:off x="5295960" y="1268280"/>
            <a:ext cx="3848040" cy="5589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611280" y="4653000"/>
            <a:ext cx="446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小丑流下了（           ）的眼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42920" y="537372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激动＼幸福＼辛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50920" y="26028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总结全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0" y="1268280"/>
            <a:ext cx="89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学完这篇课文，你觉得这是一个什么样的小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的小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50920" y="3429000"/>
            <a:ext cx="82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从小丑那里，你得到了什么人生启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893960" y="3421080"/>
            <a:ext cx="15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226960" y="26370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伟大、有爱心、有耐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747440" y="508464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给别人带来快乐，自己将会收获更多的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拓展延伸"/>
          <p:cNvPicPr/>
          <p:nvPr/>
        </p:nvPicPr>
        <p:blipFill>
          <a:blip r:embed="rId1"/>
          <a:stretch/>
        </p:blipFill>
        <p:spPr>
          <a:xfrm>
            <a:off x="324000" y="260280"/>
            <a:ext cx="2535120" cy="1670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042920" y="256536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丑给盲女孩带去快乐，那我们在生活中遇到残疾人应该怎样去做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"/>
          <p:cNvSpPr/>
          <p:nvPr/>
        </p:nvSpPr>
        <p:spPr>
          <a:xfrm>
            <a:off x="407880" y="4917960"/>
            <a:ext cx="55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900000" y="1052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播种爱心，让我们共同创造属于盲人的缤纷世界。  给别人带去欢乐，自己就能收获更大的欢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9280" y="0"/>
            <a:ext cx="27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Arial"/>
                <a:ea typeface="黑体"/>
              </a:rPr>
              <a:t>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24000" y="119700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课文写到小丑哭了就戛然而止，但故事肯定没有终止。沉浸在快乐中的小姑娘发现小丑哭了时她会怎么说，怎么做呢？最后小丑又怎么样了呢？请你做个好编导，把这个故事编完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1B9A-01FC-4949-9990-042A07DD83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1600200"/>
            <a:ext cx="71625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课文生字，有感情地朗读课文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懂课文，体会小丑为失明的小女孩表演成功后的激动之情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初读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快速阅读课文，说说课文讲一件什么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067640" y="35053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小丑单独为盲女孩表演的感人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7"/>
          <p:cNvSpPr/>
          <p:nvPr/>
        </p:nvSpPr>
        <p:spPr>
          <a:xfrm>
            <a:off x="2340000" y="2421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914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丑为什么要到小女孩家为她一人表演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丑是怎样让小女孩知道小丑是怎么回事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215440" y="3124080"/>
            <a:ext cx="49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丑的表演没有赢得小姑娘的笑声（原来她是个盲孩子）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990720" y="51055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丑的不懈努力和耐心表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990720" y="342900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小姑娘的家中，经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丑的不懈努力和耐心表演，小女孩终于笑了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143000" y="28645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丑的表演没有赢得小姑娘的笑声，原来她是个盲孩子，于是小丑决定去她家单独为她表演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539640" y="1690560"/>
            <a:ext cx="79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三） 划分文章段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760400" y="2437560"/>
            <a:ext cx="6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部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604600" y="243756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586520" y="380916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部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39880" y="3885480"/>
            <a:ext cx="20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44360" y="476280"/>
            <a:ext cx="36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跑马道上，小丑跌跌绊绊地出场了！孩子们欢快地扯开嗓门尖叫起来。他们笑得那么开心，以至泪水蒙住了视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1211240_165023250451_2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1472400" y="609300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小丑表演得好不好？从哪句话可以体现出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900000" y="62064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这小丑根本不说话，他用不着说话就妙趣横生。他在孩子们面前表演着哑剧，一会儿装小猪，一会儿装鳄鱼，一会儿装跳舞的小熊，滑稽极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9640" y="335772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这里采用了什么样的修辞手法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11280" y="494172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哪个词语体现他演技精湛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783880" y="58053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妙趣横生、滑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94920" y="42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排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2457331_184949091378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195640" y="333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她的父亲在笑，母亲也在笑，几百个孩子在笑，只有她一个人不笑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11709342528491"/>
          <p:cNvPicPr/>
          <p:nvPr/>
        </p:nvPicPr>
        <p:blipFill>
          <a:blip r:embed="rId2"/>
          <a:stretch/>
        </p:blipFill>
        <p:spPr>
          <a:xfrm>
            <a:off x="3203640" y="2133720"/>
            <a:ext cx="3313080" cy="3095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473720" y="162864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为什么？小丑是怎样做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2467080" cy="1762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395280" y="1773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小丑提出要到小姑娘家去时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像要做出重大决定似的，鞠了一个躬，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他为什么要这样做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68360" y="400536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小丑是怎样让盲女孩知道小丑是怎么回事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1:32:1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5:07Z</dcterms:modified>
  <cp:revision>3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