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BE72-EEEB-462E-A142-758671684D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9B3C-37F4-4430-84EF-9AE18A304EF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F06-4A50-4FF0-AD02-97E8E219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B9E-BA31-4CF6-B9E2-3F7ED79C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18C80-10B3-46B7-8CA2-05D5201B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7EF35-6507-4158-8BD9-EE73BE7F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A5B06-FAB9-4A9C-868D-548891F7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75735-BD7E-4709-BD6B-CD29E46A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1CE82-F60A-46EC-92CF-AD86AB6D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71AC2-9A06-4FA0-979B-F850F62F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02544-371A-463A-93DF-2532839F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719A5-D435-4771-9C23-5D212F68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9D4CD-4925-47A8-A00F-CFE0FCD1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28452-0F97-466C-BC8B-45E17147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EE1-5FEC-42CC-BCBA-C63905D3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59709-2D6E-49C2-97A8-2C0E1C08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BB4FE-13BA-4C18-86D9-6DD80F81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EDB2B-9EE2-47BD-9C65-B71E9361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41125-0981-4363-B03F-349A0C41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12F43-8DCA-4799-BD62-9F8E238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E5104-58FA-4557-8039-708CB1ED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B1009-2B58-4C6D-B8D6-C8EF9B2F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7E4BD-786A-459B-949D-7925283D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7679C-A6E2-4243-8F7E-7CB56F0C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FA7DD-0267-4042-93E0-C2AEF7D0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9B7-5B44-43AE-AA58-1A785C98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5757A-062C-4482-B43B-8C23D12D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30619-0F69-4B0B-91C1-98363DA8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37237-7C7C-44F4-8320-68DF4D39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7B41F-0447-490F-B56B-CD5D5B63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DEAEB-E7BD-414B-B35E-41F392F5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7D1F5-6E07-49DB-8856-C1AD83B8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0116A-B21C-4CBB-8B2B-C0A67E6F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3A5CB-201D-43C8-AAF8-A669A8FB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E00A3-89A2-46AC-A49B-F99BA93D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002CA-C12A-4E12-82CA-C2A6D254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0CF2-01BB-4297-9694-7C7D764D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2EE10-E364-4CF1-B819-C653909B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4596C-1E59-4B30-8FE0-4262039E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85FB2-8630-4432-A418-BB551981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9CBB-BCFF-41F8-87A8-A894B272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FE6D-E441-4D35-AFD1-890C31EB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EE33-667B-42D2-9B33-9E35080C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2B48-01EE-435C-A17E-2AB6DF98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477D-E68B-483E-B19E-D1F056A7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5BEE-EAE3-4814-BBAF-D37D4644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859-2C24-4734-8B21-62B099FF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04C3-D782-4A5C-9EA0-5C5FD3E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C6AC-5FBF-4044-8892-4FEA9152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CB32-E29F-464C-9440-FFBA46C3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B2F4-B145-4E2F-BF23-CB97B67B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5BC9-8B4D-4B0B-937D-8DE315B7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B63A-EE01-42B5-B7AF-F4B14C2F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43698-C7B8-4253-BD32-B8C96AB2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AC60-D310-4ECB-902B-D9B77C33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B7162-6CA7-45D8-96A2-B6291478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0FC6-D4C6-40F8-8021-6C9F1297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2CB-F935-4E0B-8E8C-78C5AC9C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BDA4-A6DB-4FB7-B0F4-DB9B48B2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42EE-B9EE-4F87-97AD-1777D381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D354-D10B-4E64-A31A-2C8D181E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A8D6A-8517-45F0-BA44-58BCB083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3489C-3B08-4EEB-A33B-A5044F8A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8856E-6D13-44E8-A71F-9A2E0D1A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BCF2-152F-4F27-8170-A5621247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AB98-2AF7-4CA1-8D25-39D26056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B0A3-3FCF-42CA-B670-D0A86B5C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E34F0-C804-447F-876C-D9B049E5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6F5-0E73-4698-A346-3FC31FFA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76C85-9C08-45C7-AB5B-2B8516D5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D108-C0F8-4A05-B8AA-DC073A39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26F4-3F7F-4DA7-8238-945AEC7B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BE71E-DC2F-4AFC-8F66-85E81C40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ADC1F-1C8C-4176-8EAB-E3C036C8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DAC97-3EC7-48C1-B77C-5F70C49F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D2B2B-5919-4DF3-ABFE-11CDD18B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334D7-5AD1-4FB2-845B-DDC73C5E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E50F8-C751-4572-A783-4FC13F51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3B026-5607-4A1E-84B4-51BBE06B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4B8-C40C-4458-AE93-4F1004C7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ADD8-7162-453E-B51D-AA999FB0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79699-0AE4-4C14-92B4-2FE80B38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BEBDF-4839-4F5C-83EA-944B6DB8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7924-49AA-4647-902F-E6E73C84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0FD1-71EC-4FFE-8077-354C9EAE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7CEAC-06B0-40E6-9777-680F4889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DECB7-051F-4E1B-A89E-3CE312F6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1F4A8-A631-462A-B4B1-CCF54B7A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E97F3-C9A4-4431-B47E-BDFEBE7C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23DC-98C2-4DDB-89F0-0FF11AB7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4A2-4369-4895-9DC5-1FC95182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5D16E-E479-4D40-A55F-CEDA9464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B7995-F711-4D13-B9A0-093083CC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75585-15D2-47BA-B857-6CCD3B82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91502-7F68-47E0-9311-4F9C3559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160FE-D999-452F-8557-0862BD41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FD4BA-3159-470A-A6F3-6AED25CE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F0CF5-A868-4F5F-A306-A45CD13A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CBD5F-D2C2-4D27-B180-5E0AA630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ADCD-1C26-4A23-AC49-5776430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DD7AD-DF12-42F5-99BE-C87F0807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7AA-19BF-4FB4-9A53-700CDF46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98EDF-C411-4F83-8B7A-13BB5240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71DFE-3DE5-42B7-B6E6-8B09A308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DDD8B-9F4C-4BC1-8C86-97240369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DE403-B5D5-4E19-8440-BFCF9F38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C5D09-D11E-4A49-986B-0A24A6EF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57DDB-E2AD-4177-82DD-623EF986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1678F-F20C-42C6-B450-1AB3F7EF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56BD8-0E30-4BB0-93C9-10C514D3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5F262-CEE4-4CBB-A882-E6943EB8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6C791-8219-428B-BC82-AEA039F2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6A1-75F9-4241-A4D8-075CC4DF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1E289-722C-4FAA-8F86-69745F68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0CF95-9BB3-47E8-8529-D812382B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1E160-BC09-4081-AF7D-4588CAAE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546F4-FAD2-4A3D-9FD5-657E6A25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F002F-67E8-403D-A082-76275080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8AFA6-9B42-4DFB-9389-1161E72B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85E45-B416-4452-A2BE-45DBF83A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5E0E9-B700-4E9C-A8AE-E9D27B38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9AD92-FA32-4D9C-9DBE-F8A07AED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551C4-E6E4-42F4-BDE8-567A79C5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3D7-04C7-488C-8E6B-B3B7FDF1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7EC11-605E-45BA-87F4-9EAC3E38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7E7A3-2664-4BD9-BF54-2F86A316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B6AC8-9C36-4817-B98C-A1A65311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7321A-07DA-44B1-9668-DAB3544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E9E3E-3C2F-4B8B-83ED-E96376A7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36F6A-428F-4456-A506-6B8AB24F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666B3-5D57-4676-B678-97D01A0B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12DF1-4B16-4D6A-A8C2-EE77A256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621C3-8E46-41DE-A465-18BCC2A4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8F358-1745-4610-88A4-523BC06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85F0-9177-4BE5-969B-F279DFAC973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6946-6FE1-4198-B50A-05B255E2C7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EA95-0545-444C-B8CC-F9291CF6DB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CEBE-839C-44B1-BDB6-B155521A47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E442-6B88-4D85-97C2-B559FC7E50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B20B-238C-41B4-B6DA-81BF3D6EA1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122D-D919-45AE-8AC8-66D2563590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B19F-A9D9-4511-A2EB-C095143CB2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98B3-1D83-4BFA-AF71-527442CBA8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FB0F-1316-4444-A873-53029DF23C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FD40-9FA7-435C-80E5-1FCEC90B9A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0FED-9B80-4227-8448-9FE9D02AFC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image" Target="../media/image17.jpeg"/><Relationship Id="rId4" Type="http://schemas.openxmlformats.org/officeDocument/2006/relationships/slide" Target="slide9.xm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" Target="slide9.xm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image" Target="../media/image8.jpe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4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image" Target="../media/image5.jpeg"/><Relationship Id="rId4" Type="http://schemas.openxmlformats.org/officeDocument/2006/relationships/slide" Target="slide16.xml"/><Relationship Id="rId5" Type="http://schemas.openxmlformats.org/officeDocument/2006/relationships/image" Target="../media/image6.jpeg"/><Relationship Id="rId6" Type="http://schemas.openxmlformats.org/officeDocument/2006/relationships/slide" Target="slide5.xml"/><Relationship Id="rId7" Type="http://schemas.openxmlformats.org/officeDocument/2006/relationships/image" Target="../media/image7.jpeg"/><Relationship Id="rId8" Type="http://schemas.openxmlformats.org/officeDocument/2006/relationships/slide" Target="slide20.xm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image" Target="../media/image14.jpeg"/><Relationship Id="rId4" Type="http://schemas.openxmlformats.org/officeDocument/2006/relationships/slide" Target="slide5.xm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4.xml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:\Users\Administrator\Desktop\新建文件夹 - 副本\h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9" name="矩形 6" descr=""/>
          <p:cNvPicPr/>
          <p:nvPr/>
        </p:nvPicPr>
        <p:blipFill>
          <a:blip r:embed="rId2"/>
          <a:stretch/>
        </p:blipFill>
        <p:spPr>
          <a:xfrm>
            <a:off x="663480" y="2565360"/>
            <a:ext cx="7755120" cy="2011320"/>
          </a:xfrm>
          <a:prstGeom prst="rect">
            <a:avLst/>
          </a:prstGeom>
          <a:ln w="0">
            <a:noFill/>
          </a:ln>
        </p:spPr>
      </p:pic>
      <p:sp>
        <p:nvSpPr>
          <p:cNvPr id="460" name="矩形 4"/>
          <p:cNvSpPr/>
          <p:nvPr/>
        </p:nvSpPr>
        <p:spPr>
          <a:xfrm>
            <a:off x="182700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3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TextBox 3"/>
          <p:cNvSpPr/>
          <p:nvPr/>
        </p:nvSpPr>
        <p:spPr>
          <a:xfrm>
            <a:off x="571680" y="77004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来到第二展室，一进屋就闻到了淡淡的花香。这里的梅花开得正旺，红的如火，白的似雪。我眼前这一棵梅树，花朵不同一般，花瓣里外两层，外层粉红，里层雪白，花蕊呈黄色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人们从旁经过，气流使它微微颤动，看上去那么娇嫩可爱，怪不得有那么多游客为它拍照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3168000" y="1773360"/>
            <a:ext cx="58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557280" y="2405160"/>
            <a:ext cx="44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5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6"/>
          <p:cNvSpPr/>
          <p:nvPr/>
        </p:nvSpPr>
        <p:spPr>
          <a:xfrm>
            <a:off x="642960" y="285840"/>
            <a:ext cx="8501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这里的梅花开得正旺，红的</a:t>
            </a:r>
            <a:r>
              <a:rPr b="1" lang="zh-CN" sz="4800" spc="-1" strike="noStrike">
                <a:solidFill>
                  <a:srgbClr val="ff0066"/>
                </a:solidFill>
                <a:latin typeface="Calibri"/>
              </a:rPr>
              <a:t>如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火，白的</a:t>
            </a:r>
            <a:r>
              <a:rPr b="1" lang="zh-CN" sz="4800" spc="-1" strike="noStrike">
                <a:solidFill>
                  <a:srgbClr val="ff0066"/>
                </a:solidFill>
                <a:latin typeface="Calibri"/>
              </a:rPr>
              <a:t>似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雪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C:\Users\Administrator\Desktop\新建文件夹\getCA2V7ADE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2593800"/>
            <a:ext cx="4392720" cy="3605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6" descr="c:\users\administrator\appdata\roaming\360se6\User Data\temp\u=2662778352,367487483&amp;fm=23&amp;gp=0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88000" y="2620800"/>
            <a:ext cx="410508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3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3"/>
          <p:cNvSpPr/>
          <p:nvPr/>
        </p:nvSpPr>
        <p:spPr>
          <a:xfrm>
            <a:off x="571680" y="77004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来到第二展室，一进屋就闻到了淡淡的花香。这里的梅花开得正旺，红的如火，白的似雪。我眼前这一棵梅树，花朵不同一般，花瓣里外两层，外层粉红，里层雪白，花蕊呈黄色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人们从旁经过，气流使它微微颤动，看上去那么娇嫩可爱，怪不得有那么多游客为它拍照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675360" y="2981160"/>
            <a:ext cx="79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5223600" y="2405160"/>
            <a:ext cx="37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691560" y="3573360"/>
            <a:ext cx="79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5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矩形 4"/>
          <p:cNvSpPr/>
          <p:nvPr/>
        </p:nvSpPr>
        <p:spPr>
          <a:xfrm>
            <a:off x="500040" y="449100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我眼前这一棵梅树，花朵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不同一般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，花瓣里外两层，外层粉红，里层雪白，花蕊呈黄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C:\Users\Administrator\Desktop\新建文件夹 - 副本\getCA98M8X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280" y="77760"/>
            <a:ext cx="89298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3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Box 3"/>
          <p:cNvSpPr/>
          <p:nvPr/>
        </p:nvSpPr>
        <p:spPr>
          <a:xfrm>
            <a:off x="571680" y="770040"/>
            <a:ext cx="835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来到第二展室，一进屋就闻到了淡淡的花香。这里的梅花开得正旺，红的如火，白的似雪。我眼前这一棵梅树，花朵不同一般，花瓣里外两层，外层粉红，里层雪白，花蕊呈黄色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人们从旁经过，气流使它微微颤动，看上去那么娇嫩可爱，怪不得有那么多的游客为它拍照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464760" y="4205160"/>
            <a:ext cx="83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576000" y="4854600"/>
            <a:ext cx="83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16320" y="5502240"/>
            <a:ext cx="51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TextBox 2"/>
          <p:cNvSpPr/>
          <p:nvPr/>
        </p:nvSpPr>
        <p:spPr>
          <a:xfrm>
            <a:off x="179280" y="214200"/>
            <a:ext cx="87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人们从旁经过，气流使它微微颤动，看上去那么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娇嫩可爱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怪不得有那么多的游客为它拍照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c:\users\administrator\appdata\roaming\360se6\User Data\temp\u=3135663503,1231845748&amp;fm=90&amp;gp=0.jpg"/>
          <p:cNvPicPr/>
          <p:nvPr/>
        </p:nvPicPr>
        <p:blipFill>
          <a:blip r:embed="rId2"/>
          <a:stretch/>
        </p:blipFill>
        <p:spPr>
          <a:xfrm>
            <a:off x="828720" y="4879800"/>
            <a:ext cx="2951280" cy="16448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C:\Users\Administrator\Documents\Tencent Files\1243383194\FileRecv\游人拍照图2(1).jpg"/>
          <p:cNvPicPr/>
          <p:nvPr/>
        </p:nvPicPr>
        <p:blipFill>
          <a:blip r:embed="rId3"/>
          <a:stretch/>
        </p:blipFill>
        <p:spPr>
          <a:xfrm>
            <a:off x="4489560" y="3429000"/>
            <a:ext cx="3970080" cy="27716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图片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8720" y="3068640"/>
            <a:ext cx="2951280" cy="17193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8"/>
          <p:cNvSpPr/>
          <p:nvPr/>
        </p:nvSpPr>
        <p:spPr>
          <a:xfrm>
            <a:off x="1647720" y="184464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﹏﹏﹏﹏﹏﹏﹏﹏﹏﹏﹏﹏﹏﹏﹏﹏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7422840" y="112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﹏﹏﹏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8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5"/>
          <p:cNvSpPr/>
          <p:nvPr/>
        </p:nvSpPr>
        <p:spPr>
          <a:xfrm>
            <a:off x="285840" y="571680"/>
            <a:ext cx="8719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展室是蜡梅的天地。蜡梅的花朵全身金黄，像是黄蜡雕刻的一般，只有浓郁的香味，才能证明他们是长在树上的真花。棵棵蜡梅形态各异，有的像猿猴跳舞；有的像喝醉的猪八戒，拿着耙子靠在树上养神。看到这些活灵活现的艺术造型，游人无不交口称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梅花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5905440"/>
            <a:ext cx="884160" cy="54468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11">
            <a:hlinkClick r:id="rId4" action="ppaction://hlinksldjump"/>
          </p:cNvPr>
          <p:cNvSpPr/>
          <p:nvPr/>
        </p:nvSpPr>
        <p:spPr>
          <a:xfrm>
            <a:off x="611280" y="1490760"/>
            <a:ext cx="792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423720" y="1000080"/>
            <a:ext cx="8720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展室是蜡梅的天地。蜡梅的花朵全身金黄，像是黄蜡雕刻的一般，只有浓郁的香味，才能证明他们是长在树上的真花。棵棵蜡梅形态各异，有的像猿猴跳舞；有的像喝醉的猪八戒，拿着耙子靠在树上养神。看到这些活灵活现的艺术造型，游人无不交口称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433080" y="5141880"/>
            <a:ext cx="16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464760" y="4422600"/>
            <a:ext cx="83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1321200" y="370188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TextBox 5"/>
          <p:cNvSpPr/>
          <p:nvPr/>
        </p:nvSpPr>
        <p:spPr>
          <a:xfrm>
            <a:off x="2786040" y="314316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"/>
          <p:cNvSpPr/>
          <p:nvPr/>
        </p:nvSpPr>
        <p:spPr>
          <a:xfrm>
            <a:off x="428760" y="1251360"/>
            <a:ext cx="85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棵棵蜡梅形态各异，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有的像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猿猴跳舞；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有的像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喝醉的猪八戒，拿着耙子靠在树上养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4" descr="c:\users\administrator\appdata\roaming\360se6\User Data\temp\u=2767251359,2936787211&amp;fm=23&amp;gp=0.jpg"/>
          <p:cNvPicPr/>
          <p:nvPr/>
        </p:nvPicPr>
        <p:blipFill>
          <a:blip r:embed="rId2"/>
          <a:stretch/>
        </p:blipFill>
        <p:spPr>
          <a:xfrm>
            <a:off x="428760" y="3357720"/>
            <a:ext cx="3786120" cy="31431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6" descr="c:\users\administrator\appdata\roaming\360se6\User Data\temp\u=3220363493,2020021416&amp;fm=23&amp;gp=0.jpg"/>
          <p:cNvPicPr/>
          <p:nvPr/>
        </p:nvPicPr>
        <p:blipFill>
          <a:blip r:embed="rId3"/>
          <a:stretch/>
        </p:blipFill>
        <p:spPr>
          <a:xfrm>
            <a:off x="4500720" y="3357720"/>
            <a:ext cx="4143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6"/>
          <p:cNvSpPr/>
          <p:nvPr/>
        </p:nvSpPr>
        <p:spPr>
          <a:xfrm>
            <a:off x="2269080" y="558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﹏﹏﹏﹏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>
            <a:hlinkClick r:id="rId1" action="ppaction://hlinksldjump"/>
          </p:cNvPr>
          <p:cNvSpPr/>
          <p:nvPr/>
        </p:nvSpPr>
        <p:spPr>
          <a:xfrm>
            <a:off x="423720" y="1143000"/>
            <a:ext cx="8720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展室是蜡梅的天地。蜡梅的花朵全身金黄，像是黄蜡雕刻的一般，只有浓郁的香味，才能证明他们是长在树上的真花。棵棵蜡梅形态各异，有的像猿猴跳舞；有的像喝醉的猪八戒，拿着耙子靠在树上养神。看到这些活灵活现的艺术造型，游人无不交口称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6" descr="梅花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5905440"/>
            <a:ext cx="884160" cy="5446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10"/>
          <p:cNvSpPr/>
          <p:nvPr/>
        </p:nvSpPr>
        <p:spPr>
          <a:xfrm>
            <a:off x="1640520" y="370188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464760" y="4422600"/>
            <a:ext cx="83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433080" y="5141880"/>
            <a:ext cx="16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5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TextBox 4"/>
          <p:cNvSpPr/>
          <p:nvPr/>
        </p:nvSpPr>
        <p:spPr>
          <a:xfrm>
            <a:off x="500040" y="1214280"/>
            <a:ext cx="80326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间展室主要展示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5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"/>
          <p:cNvSpPr/>
          <p:nvPr/>
        </p:nvSpPr>
        <p:spPr>
          <a:xfrm>
            <a:off x="468360" y="37476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整个梅展一派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生机勃勃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景象，使人们流连忘返。   我爱这绚丽多姿的梅花，更感激那辛勤的园丁，    他们精心培育的梅花，给人们带来了新春的欢乐，艺术的享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5" descr="C:\Users\Administrator\Desktop\新建文件夹 - 副本\gf.jpg"/>
          <p:cNvPicPr/>
          <p:nvPr/>
        </p:nvPicPr>
        <p:blipFill>
          <a:blip r:embed="rId2"/>
          <a:stretch/>
        </p:blipFill>
        <p:spPr>
          <a:xfrm>
            <a:off x="2392200" y="3092400"/>
            <a:ext cx="5708880" cy="3073320"/>
          </a:xfrm>
          <a:prstGeom prst="rect">
            <a:avLst/>
          </a:prstGeom>
          <a:ln w="0">
            <a:noFill/>
          </a:ln>
        </p:spPr>
      </p:pic>
      <p:sp>
        <p:nvSpPr>
          <p:cNvPr id="577" name="TextBox 4"/>
          <p:cNvSpPr/>
          <p:nvPr/>
        </p:nvSpPr>
        <p:spPr>
          <a:xfrm>
            <a:off x="430200" y="404640"/>
            <a:ext cx="846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整个梅展一派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生机勃勃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景象，使人们流连忘返。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他们精心培育的梅花，给人们带来了新春的欢乐，艺术的享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4"/>
          <p:cNvSpPr/>
          <p:nvPr/>
        </p:nvSpPr>
        <p:spPr>
          <a:xfrm>
            <a:off x="214200" y="952560"/>
            <a:ext cx="8785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我爱这绚丽多姿的梅花，更感激那辛勤的园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矩形 4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5724360" cy="1476360"/>
          </a:xfrm>
          <a:prstGeom prst="rect">
            <a:avLst/>
          </a:prstGeom>
          <a:ln w="0">
            <a:noFill/>
          </a:ln>
        </p:spPr>
      </p:pic>
      <p:sp>
        <p:nvSpPr>
          <p:cNvPr id="580" name="TextBox 3"/>
          <p:cNvSpPr/>
          <p:nvPr/>
        </p:nvSpPr>
        <p:spPr>
          <a:xfrm>
            <a:off x="214200" y="2997360"/>
            <a:ext cx="892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课外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把你想对园丁说的话写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搜集并欣赏有关梅花的名诗、名句、名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"/>
          <p:cNvSpPr/>
          <p:nvPr/>
        </p:nvSpPr>
        <p:spPr>
          <a:xfrm>
            <a:off x="1413000" y="363600"/>
            <a:ext cx="52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10" descr="c:\users\administrator\appdata\roaming\360se6\User Data\temp\u=2604113576,584655474&amp;fm=23&amp;gp=0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7800" y="1052640"/>
            <a:ext cx="85726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3203-EE21-4C69-9E97-5FF29EDA07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4" name="组合 10"/>
          <p:cNvGrpSpPr/>
          <p:nvPr/>
        </p:nvGrpSpPr>
        <p:grpSpPr>
          <a:xfrm>
            <a:off x="0" y="714240"/>
            <a:ext cx="8858160" cy="3669840"/>
            <a:chOff x="0" y="714240"/>
            <a:chExt cx="8858160" cy="3669840"/>
          </a:xfrm>
        </p:grpSpPr>
        <p:grpSp>
          <p:nvGrpSpPr>
            <p:cNvPr id="465" name="组合 4"/>
            <p:cNvGrpSpPr/>
            <p:nvPr/>
          </p:nvGrpSpPr>
          <p:grpSpPr>
            <a:xfrm>
              <a:off x="0" y="714240"/>
              <a:ext cx="8858160" cy="3669840"/>
              <a:chOff x="0" y="714240"/>
              <a:chExt cx="8858160" cy="3669840"/>
            </a:xfrm>
          </p:grpSpPr>
          <p:sp>
            <p:nvSpPr>
              <p:cNvPr id="466" name="TextBox 7"/>
              <p:cNvSpPr/>
              <p:nvPr/>
            </p:nvSpPr>
            <p:spPr>
              <a:xfrm>
                <a:off x="2714400" y="714240"/>
                <a:ext cx="3071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Arial"/>
                  </a:rPr>
                  <a:t>学习要求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Box 3"/>
              <p:cNvSpPr/>
              <p:nvPr/>
            </p:nvSpPr>
            <p:spPr>
              <a:xfrm>
                <a:off x="0" y="1486080"/>
                <a:ext cx="8858160" cy="28980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</a:rPr>
                  <a:t>读一读：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自由朗读课文第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自然段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</a:rPr>
                  <a:t>画一画：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用“</a:t>
                </a:r>
                <a:r>
                  <a:rPr b="0" lang="zh-CN" sz="4400" spc="-1" strike="noStrike">
                    <a:solidFill>
                      <a:srgbClr val="000000"/>
                    </a:solidFill>
                    <a:latin typeface="Arial"/>
                  </a:rPr>
                  <a:t>—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”画出描写梅花美的句    子，用“      ”画出描写游人感受的句子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</a:rPr>
                  <a:t>谈一谈：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在组内读一读画出的句子，并谈谈自己的感受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矩形 9"/>
            <p:cNvSpPr/>
            <p:nvPr/>
          </p:nvSpPr>
          <p:spPr>
            <a:xfrm>
              <a:off x="1985400" y="321444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5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2" descr="C:\Users\Administrator\Documents\Tencent Files\1243383194\FileRecv\红白梅图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270828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c:\users\administrator\appdata\roaming\360se6\User Data\temp\u=2604113576,584655474&amp;fm=23&amp;gp=0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71640" y="4753080"/>
            <a:ext cx="2592360" cy="1844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C:\Users\Administrator\Desktop\新建文件夹 - 副本\getCAZG89WS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971640" y="404640"/>
            <a:ext cx="2592360" cy="209880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1"/>
          <p:cNvSpPr/>
          <p:nvPr/>
        </p:nvSpPr>
        <p:spPr>
          <a:xfrm>
            <a:off x="4284720" y="105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展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4356000" y="3141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展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4500720" y="5300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展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梅花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956720" y="5905440"/>
            <a:ext cx="88416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14"/>
          <p:cNvSpPr/>
          <p:nvPr/>
        </p:nvSpPr>
        <p:spPr>
          <a:xfrm>
            <a:off x="1843200" y="234936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1"/>
          <p:cNvSpPr/>
          <p:nvPr/>
        </p:nvSpPr>
        <p:spPr>
          <a:xfrm>
            <a:off x="357120" y="785880"/>
            <a:ext cx="850104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沿着弯曲的小路，走到梅展的第一展室。这里陈列着许多梅花盆景，梅树姿态十分优美，梅花大都含苞欲放。古朴的花盆上刻写着诗词，多与赞赏梅花有关。每个梅花盆景都有一个很雅的名称。“三友图”是由梅花、翠竹和青松组成的；“踏雪寻梅”是说人们冒雪去赏梅。看到这些有生命力的艺术品，让人赞叹不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"/>
          <p:cNvGrpSpPr/>
          <p:nvPr/>
        </p:nvGrpSpPr>
        <p:grpSpPr>
          <a:xfrm>
            <a:off x="1071720" y="4572000"/>
            <a:ext cx="1000080" cy="142920"/>
            <a:chOff x="1071720" y="4572000"/>
            <a:chExt cx="1000080" cy="142920"/>
          </a:xfrm>
        </p:grpSpPr>
        <p:sp>
          <p:nvSpPr>
            <p:cNvPr id="480" name="流程图: 联系 5"/>
            <p:cNvSpPr/>
            <p:nvPr/>
          </p:nvSpPr>
          <p:spPr>
            <a:xfrm>
              <a:off x="1071720" y="457200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流程图: 联系 6"/>
            <p:cNvSpPr/>
            <p:nvPr/>
          </p:nvSpPr>
          <p:spPr>
            <a:xfrm>
              <a:off x="1500120" y="457200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流程图: 联系 7"/>
            <p:cNvSpPr/>
            <p:nvPr/>
          </p:nvSpPr>
          <p:spPr>
            <a:xfrm>
              <a:off x="1857600" y="457200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组合 18"/>
          <p:cNvGrpSpPr/>
          <p:nvPr/>
        </p:nvGrpSpPr>
        <p:grpSpPr>
          <a:xfrm>
            <a:off x="1071720" y="5214960"/>
            <a:ext cx="1571400" cy="142920"/>
            <a:chOff x="1071720" y="5214960"/>
            <a:chExt cx="1571400" cy="142920"/>
          </a:xfrm>
        </p:grpSpPr>
        <p:sp>
          <p:nvSpPr>
            <p:cNvPr id="484" name="流程图: 联系 10"/>
            <p:cNvSpPr/>
            <p:nvPr/>
          </p:nvSpPr>
          <p:spPr>
            <a:xfrm>
              <a:off x="1071720" y="521496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流程图: 联系 11"/>
            <p:cNvSpPr/>
            <p:nvPr/>
          </p:nvSpPr>
          <p:spPr>
            <a:xfrm>
              <a:off x="1500120" y="521496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流程图: 联系 12"/>
            <p:cNvSpPr/>
            <p:nvPr/>
          </p:nvSpPr>
          <p:spPr>
            <a:xfrm>
              <a:off x="2000160" y="521496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流程图: 联系 17"/>
            <p:cNvSpPr/>
            <p:nvPr/>
          </p:nvSpPr>
          <p:spPr>
            <a:xfrm>
              <a:off x="2428920" y="521496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7" descr="C:\Users\Administrator\Desktop\新建文件夹 - 副本\getCA6J19S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盆景4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8005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6" descr="盆景"/>
          <p:cNvPicPr/>
          <p:nvPr/>
        </p:nvPicPr>
        <p:blipFill>
          <a:blip r:embed="rId3"/>
          <a:stretch/>
        </p:blipFill>
        <p:spPr>
          <a:xfrm>
            <a:off x="0" y="3143160"/>
            <a:ext cx="4572000" cy="3714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0" descr="C:\Users\Administrator\Desktop\新建文件夹 - 副本\getCAZG89WS.jpg"/>
          <p:cNvPicPr/>
          <p:nvPr/>
        </p:nvPicPr>
        <p:blipFill>
          <a:blip r:embed="rId4"/>
          <a:stretch/>
        </p:blipFill>
        <p:spPr>
          <a:xfrm>
            <a:off x="0" y="0"/>
            <a:ext cx="4500720" cy="364320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38"/>
          <p:cNvGrpSpPr/>
          <p:nvPr/>
        </p:nvGrpSpPr>
        <p:grpSpPr>
          <a:xfrm>
            <a:off x="4500720" y="3643200"/>
            <a:ext cx="4643280" cy="3214800"/>
            <a:chOff x="4500720" y="3643200"/>
            <a:chExt cx="4643280" cy="3214800"/>
          </a:xfrm>
        </p:grpSpPr>
        <p:pic>
          <p:nvPicPr>
            <p:cNvPr id="493" name="Picture 22" descr="4701_1"/>
            <p:cNvPicPr/>
            <p:nvPr/>
          </p:nvPicPr>
          <p:blipFill>
            <a:blip r:embed="rId5"/>
            <a:stretch/>
          </p:blipFill>
          <p:spPr>
            <a:xfrm>
              <a:off x="4500720" y="3643200"/>
              <a:ext cx="464328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TextBox 40"/>
            <p:cNvSpPr/>
            <p:nvPr/>
          </p:nvSpPr>
          <p:spPr>
            <a:xfrm rot="187200">
              <a:off x="5743440" y="6067800"/>
              <a:ext cx="1886400" cy="459720"/>
            </a:xfrm>
            <a:prstGeom prst="rect">
              <a:avLst/>
            </a:prstGeom>
            <a:solidFill>
              <a:srgbClr val="823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踏 雪 寻 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5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4"/>
          <p:cNvSpPr/>
          <p:nvPr/>
        </p:nvSpPr>
        <p:spPr>
          <a:xfrm>
            <a:off x="6108840" y="551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﹏﹏﹏﹏﹏﹏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1"/>
          <p:cNvSpPr/>
          <p:nvPr/>
        </p:nvSpPr>
        <p:spPr>
          <a:xfrm>
            <a:off x="357120" y="817560"/>
            <a:ext cx="850104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沿着弯曲的小路，走到梅展的第一展室。这里陈列着许多梅花盆景，梅树姿态十分优美，梅花大都含苞欲放。古朴的花盆上刻写着诗词，多与赞赏梅花有关。每个梅花盆景都有一个很雅的名称。“三友图”是由梅花、翠竹和青松组成的；“踏雪寻梅”是说人们冒雪去赏梅。看到这些有生命力的艺术品，让人赞叹不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2714760" y="177336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968760" y="242892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———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8"/>
          <p:cNvGrpSpPr/>
          <p:nvPr/>
        </p:nvGrpSpPr>
        <p:grpSpPr>
          <a:xfrm>
            <a:off x="1000080" y="4572000"/>
            <a:ext cx="1000080" cy="142920"/>
            <a:chOff x="1000080" y="4572000"/>
            <a:chExt cx="1000080" cy="142920"/>
          </a:xfrm>
        </p:grpSpPr>
        <p:sp>
          <p:nvSpPr>
            <p:cNvPr id="501" name="流程图: 联系 9"/>
            <p:cNvSpPr/>
            <p:nvPr/>
          </p:nvSpPr>
          <p:spPr>
            <a:xfrm>
              <a:off x="1000080" y="457200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流程图: 联系 10"/>
            <p:cNvSpPr/>
            <p:nvPr/>
          </p:nvSpPr>
          <p:spPr>
            <a:xfrm>
              <a:off x="1428480" y="457200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流程图: 联系 11"/>
            <p:cNvSpPr/>
            <p:nvPr/>
          </p:nvSpPr>
          <p:spPr>
            <a:xfrm>
              <a:off x="1785960" y="457200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12"/>
          <p:cNvGrpSpPr/>
          <p:nvPr/>
        </p:nvGrpSpPr>
        <p:grpSpPr>
          <a:xfrm>
            <a:off x="1000080" y="5214960"/>
            <a:ext cx="1571760" cy="142920"/>
            <a:chOff x="1000080" y="5214960"/>
            <a:chExt cx="1571760" cy="142920"/>
          </a:xfrm>
        </p:grpSpPr>
        <p:sp>
          <p:nvSpPr>
            <p:cNvPr id="505" name="流程图: 联系 13"/>
            <p:cNvSpPr/>
            <p:nvPr/>
          </p:nvSpPr>
          <p:spPr>
            <a:xfrm>
              <a:off x="1000080" y="521496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联系 14"/>
            <p:cNvSpPr/>
            <p:nvPr/>
          </p:nvSpPr>
          <p:spPr>
            <a:xfrm>
              <a:off x="1428480" y="521496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联系 15"/>
            <p:cNvSpPr/>
            <p:nvPr/>
          </p:nvSpPr>
          <p:spPr>
            <a:xfrm>
              <a:off x="1928880" y="521496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流程图: 联系 16"/>
            <p:cNvSpPr/>
            <p:nvPr/>
          </p:nvSpPr>
          <p:spPr>
            <a:xfrm>
              <a:off x="2357640" y="5214960"/>
              <a:ext cx="214200" cy="142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6" descr="梅花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6143760"/>
            <a:ext cx="884160" cy="5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4"/>
          <p:cNvSpPr/>
          <p:nvPr/>
        </p:nvSpPr>
        <p:spPr>
          <a:xfrm>
            <a:off x="0" y="5716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里陈列着许多梅花盆景，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梅树姿态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十分优美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，梅花大都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含苞欲放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C:\Users\Administrator\Desktop\新建文件夹 - 副本\getCACW270J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14920" y="3143160"/>
            <a:ext cx="4429080" cy="3714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1568792194_fdd3b0142e1bd261a1c6d7fa4077982e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3143160"/>
            <a:ext cx="4786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3" descr="c:\users\administrator\appdata\roaming\360se6\User Data\temp\u=2989624271,28482415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TextBox 3"/>
          <p:cNvSpPr/>
          <p:nvPr/>
        </p:nvSpPr>
        <p:spPr>
          <a:xfrm>
            <a:off x="571680" y="770040"/>
            <a:ext cx="835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来到第二展室，一进屋就闻到了淡淡的花香。这里的梅花开得正旺，红的如火，白的似雪。我眼前这一棵梅树，花朵不同一般，花瓣里外两层，外层粉红，里层雪白，花蕊呈黄色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人们从旁经过，气流使它微微颤动，看上去那么娇嫩可爱，怪不得有那么多游客为它拍照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6">
            <a:hlinkClick r:id="rId2" action="ppaction://hlinksldjump"/>
          </p:cNvPr>
          <p:cNvSpPr/>
          <p:nvPr/>
        </p:nvSpPr>
        <p:spPr>
          <a:xfrm>
            <a:off x="3857760" y="4071960"/>
            <a:ext cx="2000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1">
            <a:hlinkClick r:id="rId3" action="ppaction://hlinksldjump"/>
          </p:cNvPr>
          <p:cNvSpPr/>
          <p:nvPr/>
        </p:nvSpPr>
        <p:spPr>
          <a:xfrm>
            <a:off x="611280" y="2708280"/>
            <a:ext cx="792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">
            <a:hlinkClick r:id="rId4" action="ppaction://hlinksldjump"/>
          </p:cNvPr>
          <p:cNvSpPr/>
          <p:nvPr/>
        </p:nvSpPr>
        <p:spPr>
          <a:xfrm>
            <a:off x="684360" y="3933720"/>
            <a:ext cx="79610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7">
            <a:hlinkClick r:id="rId5" action="ppaction://hlinksldjump"/>
          </p:cNvPr>
          <p:cNvSpPr/>
          <p:nvPr/>
        </p:nvSpPr>
        <p:spPr>
          <a:xfrm>
            <a:off x="3419640" y="1484280"/>
            <a:ext cx="540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7">
            <a:hlinkClick r:id="rId6" action="ppaction://hlinksldjump"/>
          </p:cNvPr>
          <p:cNvSpPr/>
          <p:nvPr/>
        </p:nvSpPr>
        <p:spPr>
          <a:xfrm>
            <a:off x="539640" y="2133720"/>
            <a:ext cx="4589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1">
            <a:hlinkClick r:id="rId7" action="ppaction://hlinksldjump"/>
          </p:cNvPr>
          <p:cNvSpPr/>
          <p:nvPr/>
        </p:nvSpPr>
        <p:spPr>
          <a:xfrm>
            <a:off x="5364000" y="213372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5" descr="图片1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885080" y="5900760"/>
            <a:ext cx="1079640" cy="716040"/>
          </a:xfrm>
          <a:prstGeom prst="rect">
            <a:avLst/>
          </a:prstGeom>
          <a:ln w="0">
            <a:noFill/>
          </a:ln>
        </p:spPr>
      </p:pic>
      <p:sp>
        <p:nvSpPr>
          <p:cNvPr id="523" name="Line 11"/>
          <p:cNvSpPr/>
          <p:nvPr/>
        </p:nvSpPr>
        <p:spPr>
          <a:xfrm>
            <a:off x="3419640" y="2060640"/>
            <a:ext cx="5257800" cy="144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2"/>
          <p:cNvSpPr/>
          <p:nvPr/>
        </p:nvSpPr>
        <p:spPr>
          <a:xfrm>
            <a:off x="654120" y="2619360"/>
            <a:ext cx="8023320" cy="17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3"/>
          <p:cNvSpPr/>
          <p:nvPr/>
        </p:nvSpPr>
        <p:spPr>
          <a:xfrm>
            <a:off x="641520" y="3191040"/>
            <a:ext cx="8035920" cy="219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4"/>
          <p:cNvSpPr/>
          <p:nvPr/>
        </p:nvSpPr>
        <p:spPr>
          <a:xfrm flipV="1">
            <a:off x="654120" y="3789000"/>
            <a:ext cx="7878600" cy="255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23:22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6:10Z</dcterms:modified>
  <cp:revision>26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