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64FA-72EB-42BC-8436-C43EDAC4B8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B5E1-4055-4948-B6CF-95E509990E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0D55-2BE2-4361-A7C3-39D0998B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FCDB-C194-4B5F-A2E0-FCE7DCAA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F550C-512C-4382-B9E9-87CE8999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EDC1-1F29-4587-B0BE-F7017D47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5464-1FBF-4B3F-8DEA-6F5C7DE2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9E0D-45D4-4FF1-B944-214541D5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FD24-79C2-4E79-B3D4-FFDC09F6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12A2-DED6-47C1-9319-7AF398B9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7828-15F7-4EAA-9CAF-0E7166B2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369B-1313-4A87-9C0F-26305A3A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D506-FCCA-4DC7-90BC-08C261FE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C1CC5-DC54-4554-AE29-978E36E6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7D03-6BE4-439B-861E-E4977C9B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1846-4C80-43CE-98F3-24E8D9D1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31DB-FC42-438B-A0CD-1EEAAB69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E10C-4ED2-4709-B594-B16CB48C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99F2-188D-49E3-A5FD-A3CBB81C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E9D89-0220-44AF-A3F3-8B88C21A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516E0-F7EA-40B4-866E-70DB2D25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85E42-7EEE-4A88-AB68-63456F2F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733F-7E20-4DBF-B662-9A52AABE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C96E0-F2B1-4E54-9C91-CE7C2341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2892E-6AF4-44A0-930D-2667FD58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632EA-7539-46C5-83B6-505EA276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F2F0-99E0-4943-8DBD-C8A1B08D08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637B-6CD5-422F-BB0E-57A4342BC2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721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2"/>
          <p:cNvSpPr txBox="1"/>
          <p:nvPr/>
        </p:nvSpPr>
        <p:spPr>
          <a:xfrm rot="5400000">
            <a:off x="3982680" y="2284560"/>
            <a:ext cx="5184720" cy="113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ffff00"/>
                </a:solidFill>
                <a:latin typeface="华文行楷"/>
              </a:rPr>
              <a:t>小抄写员</a:t>
            </a:r>
            <a:endParaRPr b="1" lang="en-US" sz="9600" spc="-1" strike="noStrike">
              <a:ln w="0">
                <a:noFill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093160" y="3645000"/>
            <a:ext cx="458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305120" y="2565360"/>
            <a:ext cx="9118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意大利） 亚米契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5091840" y="6159600"/>
            <a:ext cx="43336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20070305040937921"/>
          <p:cNvPicPr/>
          <p:nvPr/>
        </p:nvPicPr>
        <p:blipFill>
          <a:blip r:embed="rId1"/>
          <a:stretch/>
        </p:blipFill>
        <p:spPr>
          <a:xfrm>
            <a:off x="0" y="81000"/>
            <a:ext cx="9036000" cy="6777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1619280" y="2349360"/>
            <a:ext cx="60483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  <a:ea typeface="华文隶书"/>
              </a:rPr>
              <a:t>      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华文隶书"/>
              </a:rPr>
              <a:t>爱人者，人恒爱之；敬人者，人恒敬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华文隶书"/>
              </a:rPr>
              <a:t>                 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华文隶书"/>
              </a:rPr>
              <a:t>—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孟子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离娄下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8380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-36360" y="1214280"/>
            <a:ext cx="8839080" cy="39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、推荐阅读：</a:t>
            </a:r>
            <a:r>
              <a:rPr b="1" lang="en-US" sz="4400" spc="-1" strike="noStrike">
                <a:solidFill>
                  <a:srgbClr val="000099"/>
                </a:solidFill>
                <a:latin typeface="隶书"/>
                <a:ea typeface="隶书"/>
              </a:rPr>
              <a:t>《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爱的教育</a:t>
            </a:r>
            <a:r>
              <a:rPr b="1" lang="en-US" sz="4400" spc="-1" strike="noStrike">
                <a:solidFill>
                  <a:srgbClr val="000099"/>
                </a:solidFill>
                <a:latin typeface="隶书"/>
                <a:ea typeface="隶书"/>
              </a:rPr>
              <a:t>》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、</a:t>
            </a:r>
            <a:r>
              <a:rPr b="1" lang="en-US" sz="4400" spc="-1" strike="noStrike">
                <a:solidFill>
                  <a:srgbClr val="000099"/>
                </a:solidFill>
                <a:latin typeface="隶书"/>
                <a:ea typeface="隶书"/>
              </a:rPr>
              <a:t>《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小王子</a:t>
            </a:r>
            <a:r>
              <a:rPr b="1" lang="en-US" sz="4400" spc="-1" strike="noStrike">
                <a:solidFill>
                  <a:srgbClr val="000099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（ 法国儿童文学短篇小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、片段练习：抓住人物心理活动描写生活中的一个小场景，表现人物思想冲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826920" y="836640"/>
            <a:ext cx="28576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后作业：</a:t>
            </a:r>
            <a:endParaRPr b="1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8" name="文本框 1"/>
          <p:cNvSpPr/>
          <p:nvPr/>
        </p:nvSpPr>
        <p:spPr>
          <a:xfrm>
            <a:off x="60480" y="610092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                   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心理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9120" y="1980720"/>
            <a:ext cx="8426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心理状态描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叙利奥出世以来第一次挨骂，心里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难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心理活动描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他想：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的，这样的事不能长久做下去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停止不可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1966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更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深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责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责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冷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1"/>
          <p:cNvSpPr/>
          <p:nvPr/>
        </p:nvSpPr>
        <p:spPr>
          <a:xfrm>
            <a:off x="971640" y="2265480"/>
            <a:ext cx="7272360" cy="2603520"/>
          </a:xfrm>
          <a:custGeom>
            <a:avLst/>
            <a:gdLst/>
            <a:ahLst/>
            <a:rect l="l" t="t" r="r" b="b"/>
            <a:pathLst>
              <a:path w="4581" h="1640">
                <a:moveTo>
                  <a:pt x="0" y="317"/>
                </a:moveTo>
                <a:cubicBezTo>
                  <a:pt x="1365" y="978"/>
                  <a:pt x="2730" y="1640"/>
                  <a:pt x="3493" y="1587"/>
                </a:cubicBezTo>
                <a:cubicBezTo>
                  <a:pt x="4256" y="1534"/>
                  <a:pt x="4418" y="767"/>
                  <a:pt x="4581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2843280" y="69228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父亲情感发展曲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49EF-188F-4E86-A38B-9A7F1B949D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64944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亲看到这种情形，屡次提醒他，最后甚至动怒了，虽然他是一向不责骂孩子的。一天早上，父亲对他说：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亲接着说：“多挣六元四角钱很好，只是这孩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到这里指着叙利奥：“他实在使我伤心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样过了两个月，父亲仍旧责骂他，对他的态度更加不好了。晚上，父亲把叙利奥叫到身边，更严厉地对他说：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亲见了儿子仍旧动怒。最伤心的是父亲对儿子渐渐冷淡了。他好像认为这孩子太不听话，是没有什么希望的了，于是不跟他多说话，甚至不愿看见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亲瞟了叙利奥一眼，说：“那是他自作自受。以前用功的时候，并不是这样的。”“我早已不管他了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322200" y="692280"/>
            <a:ext cx="289080" cy="28872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22200" y="1844640"/>
            <a:ext cx="289080" cy="2890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22200" y="4437000"/>
            <a:ext cx="289080" cy="2890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22200" y="2924280"/>
            <a:ext cx="289080" cy="28872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22200" y="5877000"/>
            <a:ext cx="289080" cy="28872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46040" y="649440"/>
            <a:ext cx="822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亲看到这种情形，屡次提醒他，最后甚至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动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了，虽然他是一向不责骂孩子的。一天早上，父亲对他说：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亲接着说：“多挣六元四角钱很好，只是这孩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到这里指着叙利奥：“他实在使我伤心！”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责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样过了两个月，父亲仍旧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责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，对他的态度更加不好了。晚上，父亲把叙利奥叫到身边，更严厉地对他说：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亲见了儿子仍旧动怒。最伤心的是父亲对儿子渐渐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冷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了。他好像认为这孩子太不听话，是没有什么希望的了，于是不跟他多说话，甚至不愿看见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亲瞟了叙利奥一眼，说：“那是他自作自受。以前用功的时候，并不是这样的。”“我早已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不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了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9"/>
          <p:cNvSpPr/>
          <p:nvPr/>
        </p:nvSpPr>
        <p:spPr>
          <a:xfrm>
            <a:off x="324000" y="4005360"/>
            <a:ext cx="7920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叙利奥出世以来第一次挨骂，心里很难受。他想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的，这样的事不能长久做下去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停止不可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79640" y="836640"/>
            <a:ext cx="208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1187280" y="1413000"/>
            <a:ext cx="6913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539640" y="692280"/>
            <a:ext cx="80647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父亲看到这种情形，屡次提醒他，最后甚至动怒了，虽然他是一向不责骂孩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天早上，父亲对他说：“叙利奥！你怎么了？你和从前相比，不是变了个样子吗？注意呀！一家人的希望都在你身上呢，你知道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324000" y="4005360"/>
            <a:ext cx="7920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叙利奥出世以来第一次挨骂，心里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难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他想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的，这样的事不能长久做下去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停止不可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324000" y="4005360"/>
            <a:ext cx="7920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叙利奥出世以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一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挨骂，心里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难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他想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的，这样的事不能长久做下去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停止不可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324000" y="4005360"/>
            <a:ext cx="7920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叙利奥出世以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一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挨骂，心里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难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他想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的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样的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能长久做下去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停止不可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179280" y="3645000"/>
            <a:ext cx="84250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叙利奥一声不响地受着责备，忍住了就要流出来的眼泪，心里却很高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179280" y="3645000"/>
            <a:ext cx="84250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叙利奥一声不响地受着责备，忍住了就要流出来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眼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心里却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高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179280" y="3645000"/>
            <a:ext cx="8425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叙利奥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声不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受着责备，忍住了就要流出来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眼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心里却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高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539640" y="1268280"/>
            <a:ext cx="777744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父亲接着说：“多挣六元四角钱很好，只是这孩子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说到这里指着叙利奥：“他实在使我伤心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576360" y="1052640"/>
            <a:ext cx="78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啊，不是这样！您不要这样说，爸爸！叙利奥含着眼泪恳求说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真想把一切说个明白，可是话到了嘴边又咽了下去，心里反复说：“哎呀，不能说，还是一直瞒下去，帮爸爸做事吧。学校的功课是非学好不可的，但是更重要的是帮助父亲养活一家人，稍微减轻父亲的疲劳。对，这样做对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684360" y="1052640"/>
            <a:ext cx="78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5"/>
          <p:cNvSpPr/>
          <p:nvPr/>
        </p:nvSpPr>
        <p:spPr>
          <a:xfrm>
            <a:off x="576360" y="1057320"/>
            <a:ext cx="78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啊，不是这样！您不要这样说，爸爸！叙利奥含着眼泪恳求说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真想把一切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说个明白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可是话到了嘴边又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咽了下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心里反复说：“哎呀，不能说，还是一直瞒下去，帮爸爸做事吧。学校的功课是非学好不可的，但是更重要的是帮助父亲养活一家人，稍微减轻父亲的疲劳。对，这样做对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6"/>
          <p:cNvSpPr/>
          <p:nvPr/>
        </p:nvSpPr>
        <p:spPr>
          <a:xfrm>
            <a:off x="576360" y="1052640"/>
            <a:ext cx="78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啊，不是这样！您不要这样说，爸爸！叙利奥含着眼泪恳求说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真想把一切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说个明白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可是话到了嘴边又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咽了下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心里反复说：“哎呀，不能说，还是一直瞒下去，帮爸爸做事吧。学校的功课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是非学好不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，但是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更重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是帮助父亲养活一家人，稍微减轻父亲的疲劳。对，这样做对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7"/>
          <p:cNvSpPr/>
          <p:nvPr/>
        </p:nvSpPr>
        <p:spPr>
          <a:xfrm>
            <a:off x="576360" y="1052640"/>
            <a:ext cx="78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啊，不是这样！您不要这样说，爸爸！叙利奥含着眼泪恳求说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真想把一切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说个明白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可是话到了嘴边又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咽了下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心里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反复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说：“哎呀，不能说，还是一直瞒下去，帮爸爸做事吧。学校的功课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是非学好不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，但是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更重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是帮助父亲养活一家人，稍微减轻父亲的疲劳。对，这样做对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324000" y="1557360"/>
            <a:ext cx="813564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天晚上上床的时候，他常常对自己说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今夜起，真的不再起来了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是一到十二点钟，这个决心不知不觉又动摇了，好像睡着不起来，就是逃避了自己的责任，偷用了家里的两角钱一样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24000" y="1557360"/>
            <a:ext cx="813564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天晚上上床的时候，他常常对自己说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今夜起，真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不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起来了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是一到十二点钟，这个决心不知不觉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动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，好像睡着不起来，就是逃避了自己的责任，偷用了家里的两角钱一样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324000" y="1557360"/>
            <a:ext cx="813564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天晚上上床的时候，他常常对自己说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今夜起，真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不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起来了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是一到十二点钟，这个决心不知不觉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动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好像睡着不起来，就是逃避了自己的责任，偷用了家里的两角钱一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7"/>
          <p:cNvSpPr/>
          <p:nvPr/>
        </p:nvSpPr>
        <p:spPr>
          <a:xfrm>
            <a:off x="826920" y="220500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叙利奥听了心里像刀割一样。父亲竟不管他了！就是这个过去连他咳嗽一声都要担心得了不得的父亲。父亲确实不爱他了，眼里已经没有他这个人了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“啊，爸爸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！没有您的爱，我是活不下去的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无论怎样，请您不要这样说。我全说出来吧，不再瞒您了。只要您仍旧爱我，无论怎样，我一定像从前一样地用功。啊，这一次我真下了决心了！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755640" y="54936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父亲瞟了叙利奥一眼，说：“那是他自作自受。以前用功的时候，并不是这样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早已不管他了！”父亲接着母亲的话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826920" y="220500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叙利奥听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心里像刀割一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父亲竟不管他了！就是这个过去连他咳嗽一声都要担心得了不得的父亲。父亲确实不爱他了，眼里已经没有他这个人了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“啊，爸爸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！没有您的爱，我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活不下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的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无论怎样，请您不要这样说。我全说出来吧，不再瞒您了。只要您仍旧爱我，无论怎样，我一定像从前一样地用功。啊，这一次我真下了决心了！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5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" descr="20071128193238737_2"/>
          <p:cNvPicPr/>
          <p:nvPr/>
        </p:nvPicPr>
        <p:blipFill>
          <a:blip r:embed="rId1"/>
          <a:stretch/>
        </p:blipFill>
        <p:spPr>
          <a:xfrm>
            <a:off x="-304920" y="-471600"/>
            <a:ext cx="9753840" cy="7801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1619280" y="115920"/>
            <a:ext cx="5761080" cy="6715080"/>
          </a:xfrm>
          <a:prstGeom prst="rect">
            <a:avLst/>
          </a:prstGeom>
          <a:ln w="0">
            <a:noFill/>
          </a:ln>
        </p:spPr>
      </p:pic>
      <p:pic>
        <p:nvPicPr>
          <p:cNvPr id="150" name="童年.mp3" descr=""/>
          <p:cNvPicPr/>
          <p:nvPr/>
        </p:nvPicPr>
        <p:blipFill>
          <a:blip r:embed="rId3"/>
          <a:stretch/>
        </p:blipFill>
        <p:spPr>
          <a:xfrm>
            <a:off x="8515440" y="63644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16882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900000" y="1197000"/>
            <a:ext cx="35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476280"/>
          <a:ext cx="8785080" cy="6343560"/>
        </p:xfrm>
        <a:graphic>
          <a:graphicData uri="http://schemas.openxmlformats.org/drawingml/2006/table">
            <a:tbl>
              <a:tblPr/>
              <a:tblGrid>
                <a:gridCol w="4105440"/>
                <a:gridCol w="46796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     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父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叙利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父亲看到这种情形，屡次提醒他，最后甚至动怒了，虽然他是一向不责骂孩子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叙利奥出世以来第一次挨骂，心里很难受。他想：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是的，这样的事不能长久做下去，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非停止不可。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父亲指着叙利奥：“他实在使我伤心！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叙利奥一声不响地受着责备，忍住了就要流出来的眼泪，心里却很高兴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这样过了两个月，父亲仍旧责骂他，对他的态度更加不好了。晚上，父亲把叙利奥叫到身边，更严厉地对他说：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啊，不是这样！您不要这样说，爸爸！叙利奥含着眼泪恳求说。他真想把一切说个明白，可是话到嘴边又咽了下去，心里反复说：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更重要的是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，这样做对！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父亲见了儿子仍旧动怒。最伤心的是父亲对儿子渐渐冷淡了。他好像认为这孩子太不听话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甚至不愿看见他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叙利奥看到这样，伤心得不得了。他自己也知道，夜晚的工作非停止不可。每天晚上上床的时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于是他忍不住仍旧爬起来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父亲瞟了叙利奥一眼，说：“那是他自作自受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”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早已不管他了！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叙利奥听了心里像刀割一样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叙利奥的决心仍旧没有用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07:24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2:32Z</dcterms:modified>
  <cp:revision>24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