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1.jpeg" ContentType="image/jpeg"/>
  <Override PartName="/ppt/media/image19.gif" ContentType="image/gif"/>
  <Override PartName="/ppt/media/image1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10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wmf" ContentType="image/x-wmf"/>
  <Override PartName="/ppt/media/image38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  <p:custShowLst>
    <p:custShow name="自定义放映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2F13-052D-44BC-9298-4EB654C52B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D3C1-983D-485F-8BA3-DC02157295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0C3-4A21-47E6-8496-A2B16193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679-11E1-444A-BB46-4570F6F3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459-7885-4473-A640-D05DDDC2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CFF-6911-406F-9665-52335196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7F0-CE34-44F2-AF79-79B92EB1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CC6-D3BA-4561-B98D-A30028D4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303-A3D4-4ECB-AE4F-9C43827D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B24-2CD4-4E29-AEE4-B285D346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DAE-739B-4F32-9733-8B17DE5B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278-B190-4E8F-A335-2B8461A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86F-A2FF-43B0-9F73-2120A71C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BF3-C227-4EA5-8C22-4904F9EB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9505-3C63-495A-8D0D-0AC11F720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5.xml"/><Relationship Id="rId3" Type="http://schemas.openxmlformats.org/officeDocument/2006/relationships/image" Target="../media/image16.jpeg"/><Relationship Id="rId4" Type="http://schemas.openxmlformats.org/officeDocument/2006/relationships/slide" Target="slide38.xml"/><Relationship Id="rId5" Type="http://schemas.openxmlformats.org/officeDocument/2006/relationships/image" Target="../media/image16.jpeg"/><Relationship Id="rId6" Type="http://schemas.openxmlformats.org/officeDocument/2006/relationships/slide" Target="slide37.xml"/><Relationship Id="rId7" Type="http://schemas.openxmlformats.org/officeDocument/2006/relationships/image" Target="../media/image16.jpeg"/><Relationship Id="rId8" Type="http://schemas.openxmlformats.org/officeDocument/2006/relationships/slide" Target="slide36.xml"/><Relationship Id="rId9" Type="http://schemas.openxmlformats.org/officeDocument/2006/relationships/image" Target="../media/image16.jpeg"/><Relationship Id="rId10" Type="http://schemas.openxmlformats.org/officeDocument/2006/relationships/slide" Target="slide11.xml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4.xml"/><Relationship Id="rId3" Type="http://schemas.openxmlformats.org/officeDocument/2006/relationships/image" Target="../media/image18.jpeg"/><Relationship Id="rId4" Type="http://schemas.openxmlformats.org/officeDocument/2006/relationships/slide" Target="slide34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" Target="slide34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34.xml"/><Relationship Id="rId3" Type="http://schemas.openxmlformats.org/officeDocument/2006/relationships/image" Target="../media/image8.jpeg"/><Relationship Id="rId4" Type="http://schemas.openxmlformats.org/officeDocument/2006/relationships/slide" Target="slide34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34.xml"/><Relationship Id="rId3" Type="http://schemas.openxmlformats.org/officeDocument/2006/relationships/image" Target="../media/image23.jpeg"/><Relationship Id="rId4" Type="http://schemas.openxmlformats.org/officeDocument/2006/relationships/slide" Target="slide34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../Temporary%20Internet%20Files/Content.IE5/8FP41OXB/&#28436;&#31034;&#25991;&#31295;1.ppt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8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1116000" y="170028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116000" y="18842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华文隶书"/>
                <a:ea typeface="华文隶书"/>
              </a:rPr>
              <a:t>雪地里的小画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83880" y="5425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3500280" y="271476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b050"/>
                </a:solidFill>
                <a:latin typeface="楷体"/>
                <a:ea typeface="楷体"/>
              </a:rPr>
              <a:t>梅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429000" y="28576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楷体"/>
                <a:ea typeface="楷体"/>
              </a:rPr>
              <a:t>用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500280" y="28576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ff"/>
                </a:solidFill>
                <a:latin typeface="楷体"/>
                <a:ea typeface="楷体"/>
              </a:rPr>
              <a:t>几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492360" y="278136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96051"/>
                </a:solidFill>
                <a:latin typeface="楷体"/>
                <a:ea typeface="楷体"/>
              </a:rPr>
              <a:t>山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916360" y="27082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7030a0"/>
                </a:solidFill>
                <a:latin typeface="楷体"/>
                <a:ea typeface="楷体"/>
              </a:rPr>
              <a:t>为什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429000" y="28576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0000"/>
                </a:solidFill>
                <a:latin typeface="楷体"/>
                <a:ea typeface="楷体"/>
              </a:rPr>
              <a:t>青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429000" y="28576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2060"/>
                </a:solidFill>
                <a:latin typeface="楷体"/>
                <a:ea typeface="楷体"/>
              </a:rPr>
              <a:t>参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500280" y="278604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2060"/>
                </a:solidFill>
                <a:latin typeface="楷体"/>
                <a:ea typeface="楷体"/>
              </a:rPr>
              <a:t>睡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286080" y="278604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用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3500280" y="28576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7030a0"/>
                </a:solidFill>
                <a:latin typeface="楷体"/>
                <a:ea typeface="楷体"/>
              </a:rPr>
              <a:t>睡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内容占位符 3" descr="6_8YYwRqVvu5s2[2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3429000" y="278604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楷体"/>
                <a:ea typeface="楷体"/>
              </a:rPr>
              <a:t>成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3643200" y="271476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60093"/>
                </a:solidFill>
                <a:latin typeface="楷体"/>
                <a:ea typeface="楷体"/>
              </a:rPr>
              <a:t>参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429000" y="278604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9933"/>
                </a:solidFill>
                <a:latin typeface="楷体"/>
                <a:ea typeface="楷体"/>
              </a:rPr>
              <a:t>山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3357720" y="2714760"/>
            <a:ext cx="43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cc33"/>
                </a:solidFill>
                <a:latin typeface="楷体"/>
                <a:ea typeface="楷体"/>
              </a:rPr>
              <a:t>竹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3357720" y="2786040"/>
            <a:ext cx="43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枫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500280" y="28576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楷体"/>
                <a:ea typeface="楷体"/>
              </a:rPr>
              <a:t>月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631800" y="324000"/>
            <a:ext cx="62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429000" y="278604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d0d0d"/>
                </a:solidFill>
                <a:latin typeface="楷体"/>
                <a:ea typeface="楷体"/>
              </a:rPr>
              <a:t>几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2916360" y="27082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60093"/>
                </a:solidFill>
                <a:latin typeface="楷体"/>
                <a:ea typeface="楷体"/>
              </a:rPr>
              <a:t>下雪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SHOUZHIBAN"/>
          <p:cNvPicPr/>
          <p:nvPr/>
        </p:nvPicPr>
        <p:blipFill>
          <a:blip r:embed="rId1"/>
          <a:stretch/>
        </p:blipFill>
        <p:spPr>
          <a:xfrm>
            <a:off x="4859280" y="83664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SHOUZHIBAN"/>
          <p:cNvPicPr/>
          <p:nvPr/>
        </p:nvPicPr>
        <p:blipFill>
          <a:blip r:embed="rId2"/>
          <a:stretch/>
        </p:blipFill>
        <p:spPr>
          <a:xfrm>
            <a:off x="3635280" y="1341360"/>
            <a:ext cx="1314720" cy="131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SHOUZHIBAN"/>
          <p:cNvPicPr/>
          <p:nvPr/>
        </p:nvPicPr>
        <p:blipFill>
          <a:blip r:embed="rId3"/>
          <a:stretch/>
        </p:blipFill>
        <p:spPr>
          <a:xfrm>
            <a:off x="2819520" y="236232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HOUZHIBAN"/>
          <p:cNvPicPr/>
          <p:nvPr/>
        </p:nvPicPr>
        <p:blipFill>
          <a:blip r:embed="rId4"/>
          <a:stretch/>
        </p:blipFill>
        <p:spPr>
          <a:xfrm>
            <a:off x="2057400" y="31240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HOUZHIBAN"/>
          <p:cNvPicPr/>
          <p:nvPr/>
        </p:nvPicPr>
        <p:blipFill>
          <a:blip r:embed="rId5"/>
          <a:stretch/>
        </p:blipFill>
        <p:spPr>
          <a:xfrm>
            <a:off x="1447920" y="38862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SHOUZHIBAN"/>
          <p:cNvPicPr/>
          <p:nvPr/>
        </p:nvPicPr>
        <p:blipFill>
          <a:blip r:embed="rId6"/>
          <a:stretch/>
        </p:blipFill>
        <p:spPr>
          <a:xfrm>
            <a:off x="685800" y="47242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SHOUZHIBAN"/>
          <p:cNvPicPr/>
          <p:nvPr/>
        </p:nvPicPr>
        <p:blipFill>
          <a:blip r:embed="rId7"/>
          <a:stretch/>
        </p:blipFill>
        <p:spPr>
          <a:xfrm>
            <a:off x="0" y="554364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SHOUZHIBAN"/>
          <p:cNvPicPr/>
          <p:nvPr/>
        </p:nvPicPr>
        <p:blipFill>
          <a:blip r:embed="rId8"/>
          <a:stretch/>
        </p:blipFill>
        <p:spPr>
          <a:xfrm>
            <a:off x="5214960" y="38862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1"/>
          <p:cNvSpPr/>
          <p:nvPr/>
        </p:nvSpPr>
        <p:spPr>
          <a:xfrm>
            <a:off x="189360" y="578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714240" y="49291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4859280" y="1052640"/>
            <a:ext cx="14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梅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780000" y="1413000"/>
            <a:ext cx="761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1690920" y="4071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睡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2214720" y="321480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用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3128760" y="256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为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9" descr="SHOUZHIBAN"/>
          <p:cNvPicPr/>
          <p:nvPr/>
        </p:nvPicPr>
        <p:blipFill>
          <a:blip r:embed="rId9"/>
          <a:stretch/>
        </p:blipFill>
        <p:spPr>
          <a:xfrm>
            <a:off x="6172200" y="6094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SHOUZHIBAN"/>
          <p:cNvPicPr/>
          <p:nvPr/>
        </p:nvPicPr>
        <p:blipFill>
          <a:blip r:embed="rId10"/>
          <a:stretch/>
        </p:blipFill>
        <p:spPr>
          <a:xfrm>
            <a:off x="7315200" y="533520"/>
            <a:ext cx="1314360" cy="1314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1"/>
          <p:cNvSpPr/>
          <p:nvPr/>
        </p:nvSpPr>
        <p:spPr>
          <a:xfrm>
            <a:off x="5562720" y="838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6456240" y="7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参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7721640" y="685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下雪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6016320" y="4581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"/>
                <a:ea typeface="楷体"/>
              </a:rPr>
              <a:t>我真棒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3635280" y="14130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几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3aaad526f39a4a188644f9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1403280" y="1484280"/>
            <a:ext cx="7129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啦   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梅   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用   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几   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成 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蛙   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为   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参   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9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加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洞  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11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内容占位符 3" descr="848764_090855095408_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3aaad526f39a4a188644f9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1285920" y="1214280"/>
            <a:ext cx="738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成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梅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加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洞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睡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蛙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332000" y="227664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熟字加部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428840" y="407196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熟字减部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3929040" y="22860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478620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5715000" y="228600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429080" y="40719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6215040" y="4000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7"/>
          <p:cNvSpPr/>
          <p:nvPr/>
        </p:nvSpPr>
        <p:spPr>
          <a:xfrm>
            <a:off x="3714840" y="40719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5292720" y="400536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朗诵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tnpic079[1]"/>
          <p:cNvPicPr/>
          <p:nvPr/>
        </p:nvPicPr>
        <p:blipFill>
          <a:blip r:embed="rId1"/>
          <a:stretch/>
        </p:blipFill>
        <p:spPr>
          <a:xfrm>
            <a:off x="6516720" y="4149720"/>
            <a:ext cx="2286000" cy="2438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539640" y="1461960"/>
            <a:ext cx="803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边听边思考：小鸡、小狗、小鸭、小马都画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857160" y="47628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读书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内容占位符 3" descr="200791793651317_2[1]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357120" y="4429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下雪啦，下雪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6929280" y="3929040"/>
            <a:ext cx="17859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00b050"/>
                </a:solidFill>
                <a:latin typeface="Arial"/>
              </a:rPr>
              <a:t>！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6786720" y="3643200"/>
            <a:ext cx="2071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6786720" y="3643200"/>
            <a:ext cx="2071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6786720" y="3643200"/>
            <a:ext cx="2071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66cc"/>
                </a:solidFill>
                <a:latin typeface="Arial"/>
              </a:rPr>
              <a:t>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6786720" y="3643200"/>
            <a:ext cx="2071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cc"/>
                </a:solidFill>
                <a:latin typeface="Arial"/>
              </a:rPr>
              <a:t>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6786720" y="3643200"/>
            <a:ext cx="2071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660066"/>
                </a:solidFill>
                <a:latin typeface="Arial"/>
              </a:rPr>
              <a:t>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6786720" y="3643200"/>
            <a:ext cx="2143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6600"/>
                </a:solidFill>
                <a:latin typeface="Arial"/>
              </a:rPr>
              <a:t>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6786720" y="3643200"/>
            <a:ext cx="2143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6600"/>
                </a:solidFill>
                <a:latin typeface="Arial"/>
              </a:rPr>
              <a:t>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图片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6308640"/>
            <a:ext cx="498600" cy="549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雪地里来了一群小画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图片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0720" y="6308640"/>
            <a:ext cx="498600" cy="549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图片5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03640" y="6308640"/>
            <a:ext cx="498600" cy="5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图片5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780000" y="6308640"/>
            <a:ext cx="498240" cy="5493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7380360" y="65865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图片5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451640" y="6308640"/>
            <a:ext cx="498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755640" y="4508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鸡画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竹叶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20060624181224130_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356000" y="333360"/>
            <a:ext cx="2665440" cy="2187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UNDER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56720" y="5805360"/>
            <a:ext cx="819000" cy="590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11280" y="4365720"/>
            <a:ext cx="518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狗画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梅花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W02007072337108583780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03640" y="549360"/>
            <a:ext cx="2881440" cy="214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UNDER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56720" y="5805360"/>
            <a:ext cx="819000" cy="590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84360" y="46530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鸭画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枫叶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W02007072337108583534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64000" y="189000"/>
            <a:ext cx="2468880" cy="2681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UNDER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28000" y="5950080"/>
            <a:ext cx="819000" cy="59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4500720" y="184464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84360" y="4941720"/>
            <a:ext cx="58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马画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月牙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W02007072337108583529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92720" y="333360"/>
            <a:ext cx="2879640" cy="2239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UNDER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1080" y="6093000"/>
            <a:ext cx="819000" cy="590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2">
            <a:hlinkClick r:id="rId1"/>
          </p:cNvPr>
          <p:cNvSpPr/>
          <p:nvPr/>
        </p:nvSpPr>
        <p:spPr>
          <a:xfrm>
            <a:off x="2971800" y="41148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899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899"/>
                </a:lnTo>
                <a:lnTo>
                  <a:pt x="20200" y="22899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9"/>
                </a:lnTo>
                <a:close/>
              </a:path>
              <a:path fill="darken" w="21600" h="24299">
                <a:moveTo>
                  <a:pt x="3794" y="12150"/>
                </a:moveTo>
                <a:lnTo>
                  <a:pt x="17806" y="5143"/>
                </a:lnTo>
                <a:lnTo>
                  <a:pt x="17806" y="1915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295280" y="1600200"/>
            <a:ext cx="6858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c1dba"/>
                </a:solidFill>
                <a:latin typeface="楷体"/>
                <a:ea typeface="楷体"/>
              </a:rPr>
              <a:t>小鸡画</a:t>
            </a:r>
            <a:r>
              <a:rPr b="1" lang="zh-CN" sz="5400" spc="-1" strike="noStrike" u="sng">
                <a:solidFill>
                  <a:srgbClr val="0c1dba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5400" spc="-1" strike="noStrike">
                <a:solidFill>
                  <a:srgbClr val="0c1dba"/>
                </a:solidFill>
                <a:latin typeface="楷体"/>
                <a:ea typeface="楷体"/>
              </a:rPr>
              <a:t> 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c1dba"/>
                </a:solidFill>
                <a:latin typeface="楷体"/>
                <a:ea typeface="楷体"/>
              </a:rPr>
              <a:t>小狗画</a:t>
            </a:r>
            <a:r>
              <a:rPr b="1" lang="en-US" sz="5400" spc="-1" strike="noStrike" u="sng">
                <a:solidFill>
                  <a:srgbClr val="0c1dba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5400" spc="-1" strike="noStrike">
                <a:solidFill>
                  <a:srgbClr val="0c1dba"/>
                </a:solidFill>
                <a:latin typeface="楷体"/>
                <a:ea typeface="楷体"/>
              </a:rPr>
              <a:t> 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c1dba"/>
                </a:solidFill>
                <a:latin typeface="楷体"/>
                <a:ea typeface="楷体"/>
              </a:rPr>
              <a:t>小鸭画</a:t>
            </a:r>
            <a:r>
              <a:rPr b="1" lang="en-US" sz="5400" spc="-1" strike="noStrike" u="sng">
                <a:solidFill>
                  <a:srgbClr val="0c1dba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5400" spc="-1" strike="noStrike">
                <a:solidFill>
                  <a:srgbClr val="0c1dba"/>
                </a:solidFill>
                <a:latin typeface="楷体"/>
                <a:ea typeface="楷体"/>
              </a:rPr>
              <a:t> 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c1dba"/>
                </a:solidFill>
                <a:latin typeface="楷体"/>
                <a:ea typeface="楷体"/>
              </a:rPr>
              <a:t>小马画</a:t>
            </a:r>
            <a:r>
              <a:rPr b="1" lang="zh-CN" sz="5400" spc="-1" strike="noStrike" u="sng">
                <a:solidFill>
                  <a:srgbClr val="0c1dba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5400" spc="-1" strike="noStrike">
                <a:solidFill>
                  <a:srgbClr val="0c1dba"/>
                </a:solidFill>
                <a:latin typeface="楷体"/>
                <a:ea typeface="楷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"/>
          <p:cNvSpPr/>
          <p:nvPr/>
        </p:nvSpPr>
        <p:spPr>
          <a:xfrm>
            <a:off x="2209680" y="0"/>
            <a:ext cx="3505320" cy="1066680"/>
          </a:xfrm>
          <a:prstGeom prst="cloudCallout">
            <a:avLst>
              <a:gd name="adj1" fmla="val -77037"/>
              <a:gd name="adj2" fmla="val 30953"/>
            </a:avLst>
          </a:prstGeom>
          <a:solidFill>
            <a:srgbClr val="ff99cc"/>
          </a:solidFill>
          <a:ln w="9360">
            <a:solidFill>
              <a:srgbClr val="f5f8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743200" y="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1e93f"/>
                </a:solidFill>
                <a:latin typeface="Times New Roman"/>
                <a:ea typeface="楷体_GB2312"/>
              </a:rPr>
              <a:t>说一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348000" y="141300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95847"/>
                </a:solidFill>
                <a:latin typeface="楷体"/>
                <a:ea typeface="楷体"/>
              </a:rPr>
              <a:t>竹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419640" y="263700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95847"/>
                </a:solidFill>
                <a:latin typeface="楷体"/>
                <a:ea typeface="楷体"/>
              </a:rPr>
              <a:t>梅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492360" y="386064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95847"/>
                </a:solidFill>
                <a:latin typeface="楷体"/>
                <a:ea typeface="楷体"/>
              </a:rPr>
              <a:t>枫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35280" y="51577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95847"/>
                </a:solidFill>
                <a:latin typeface="楷体"/>
                <a:ea typeface="楷体"/>
              </a:rPr>
              <a:t>月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内容占位符 3" descr="566414_004323345_2[1]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28600" y="137160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1dba"/>
                </a:solidFill>
                <a:latin typeface="Times New Roman"/>
                <a:ea typeface="楷体_GB2312"/>
              </a:rPr>
              <a:t>叽叽叽，我是 （      ）， 我的脚印像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1dba"/>
                </a:solidFill>
                <a:latin typeface="Times New Roman"/>
                <a:ea typeface="楷体_GB2312"/>
              </a:rPr>
              <a:t>汪汪汪，我是（       ）， 我的脚印像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1dba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1dba"/>
                </a:solidFill>
                <a:latin typeface="Times New Roman"/>
                <a:ea typeface="楷体_GB2312"/>
              </a:rPr>
              <a:t>嘎嘎嘎，我是（       ）， 我的脚印像（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1dba"/>
                </a:solidFill>
                <a:latin typeface="Times New Roman"/>
                <a:ea typeface="楷体_GB2312"/>
              </a:rPr>
              <a:t>哒哒哒，我是（       ），我的脚印像 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2209680" y="0"/>
            <a:ext cx="3353040" cy="1143000"/>
          </a:xfrm>
          <a:prstGeom prst="cloudCallout">
            <a:avLst>
              <a:gd name="adj1" fmla="val -73009"/>
              <a:gd name="adj2" fmla="val 1500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895480" y="2286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1dba"/>
                </a:solidFill>
                <a:latin typeface="Times New Roman"/>
                <a:ea typeface="楷体_GB2312"/>
              </a:rPr>
              <a:t>我会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3071880" y="1428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7215120" y="1357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竹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3000240" y="28576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7215120" y="28576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梅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307188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4"/>
          <p:cNvSpPr/>
          <p:nvPr/>
        </p:nvSpPr>
        <p:spPr>
          <a:xfrm>
            <a:off x="7143840" y="43578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枫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3071880" y="578628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7072200" y="57862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不用颜料不用笔，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几步就成一幅画</a:t>
            </a:r>
            <a:r>
              <a:rPr b="0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286000" y="5929200"/>
            <a:ext cx="25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脚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冬眠青蛙1"/>
          <p:cNvPicPr/>
          <p:nvPr/>
        </p:nvPicPr>
        <p:blipFill>
          <a:blip r:embed="rId1"/>
          <a:stretch/>
        </p:blipFill>
        <p:spPr>
          <a:xfrm>
            <a:off x="0" y="0"/>
            <a:ext cx="9207360" cy="68612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2143080" y="928800"/>
            <a:ext cx="4786200" cy="764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青蛙为什么没参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28920" y="1714680"/>
            <a:ext cx="42480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他在洞里睡着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b05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cc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030a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7000920" y="71424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0404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500"/>
                            </p:stCondLst>
                            <p:childTnLst>
                              <p:par>
                                <p:cTn id="39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500"/>
                            </p:stCondLst>
                            <p:childTnLst>
                              <p:par>
                                <p:cTn id="39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9500"/>
                            </p:stCondLst>
                            <p:childTnLst>
                              <p:par>
                                <p:cTn id="3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2104920" y="907920"/>
            <a:ext cx="47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楷体"/>
                <a:ea typeface="楷体"/>
              </a:rPr>
              <a:t>聪明的小朋友你知道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楷体"/>
                <a:ea typeface="楷体"/>
              </a:rPr>
              <a:t>百科知识</a:t>
            </a:r>
            <a:r>
              <a:rPr b="1" lang="en-US" sz="5400" spc="-1" strike="noStrike">
                <a:solidFill>
                  <a:srgbClr val="009900"/>
                </a:solidFill>
                <a:latin typeface="楷体"/>
                <a:ea typeface="楷体"/>
              </a:rPr>
              <a:t>——</a:t>
            </a:r>
            <a:r>
              <a:rPr b="1" lang="zh-CN" sz="5400" spc="-1" strike="noStrike">
                <a:solidFill>
                  <a:srgbClr val="009900"/>
                </a:solidFill>
                <a:latin typeface="楷体"/>
                <a:ea typeface="楷体"/>
              </a:rPr>
              <a:t>冬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023840" y="155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324000" y="3284640"/>
            <a:ext cx="82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冬天来临的时候，一部分小动物会藏在地下，不吃不喝也不动，身体温度很低，好像睡着了一样，来度过寒冷的冬天，整整一个冬天它们不会饿死，直到春天来临的时候，温度升高，它们就会苏醒过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1" descr="20071211115433886_2[1].jpg"/>
          <p:cNvPicPr/>
          <p:nvPr/>
        </p:nvPicPr>
        <p:blipFill>
          <a:blip r:embed="rId1"/>
          <a:stretch/>
        </p:blipFill>
        <p:spPr>
          <a:xfrm>
            <a:off x="0" y="0"/>
            <a:ext cx="3851280" cy="407844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" descr="01300000164425121043149996342_s[1].jpg"/>
          <p:cNvPicPr/>
          <p:nvPr/>
        </p:nvPicPr>
        <p:blipFill>
          <a:blip r:embed="rId2"/>
          <a:stretch/>
        </p:blipFill>
        <p:spPr>
          <a:xfrm>
            <a:off x="0" y="4076640"/>
            <a:ext cx="3828960" cy="278136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" descr="2006122965548193[1].jpg"/>
          <p:cNvPicPr/>
          <p:nvPr/>
        </p:nvPicPr>
        <p:blipFill>
          <a:blip r:embed="rId3"/>
          <a:stretch/>
        </p:blipFill>
        <p:spPr>
          <a:xfrm>
            <a:off x="3851280" y="3500280"/>
            <a:ext cx="4548240" cy="335772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5" descr="lanmu_34769[1].jpg"/>
          <p:cNvPicPr/>
          <p:nvPr/>
        </p:nvPicPr>
        <p:blipFill>
          <a:blip r:embed="rId4"/>
          <a:stretch/>
        </p:blipFill>
        <p:spPr>
          <a:xfrm>
            <a:off x="3851280" y="0"/>
            <a:ext cx="45370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1" descr="20071211115433886_2[1].jpg"/>
          <p:cNvPicPr/>
          <p:nvPr/>
        </p:nvPicPr>
        <p:blipFill>
          <a:blip r:embed="rId1"/>
          <a:stretch/>
        </p:blipFill>
        <p:spPr>
          <a:xfrm>
            <a:off x="6730920" y="2643120"/>
            <a:ext cx="2413080" cy="314316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" descr="01300000164425121043149996342_s[1].jpg"/>
          <p:cNvPicPr/>
          <p:nvPr/>
        </p:nvPicPr>
        <p:blipFill>
          <a:blip r:embed="rId2"/>
          <a:stretch/>
        </p:blipFill>
        <p:spPr>
          <a:xfrm>
            <a:off x="2709720" y="0"/>
            <a:ext cx="3362400" cy="264312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" descr="2006122965548193[1].jpg"/>
          <p:cNvPicPr/>
          <p:nvPr/>
        </p:nvPicPr>
        <p:blipFill>
          <a:blip r:embed="rId3"/>
          <a:stretch/>
        </p:blipFill>
        <p:spPr>
          <a:xfrm>
            <a:off x="6046920" y="0"/>
            <a:ext cx="3097080" cy="26431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285840" y="3571920"/>
            <a:ext cx="82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400" spc="-1" strike="noStrike">
                <a:solidFill>
                  <a:srgbClr val="002060"/>
                </a:solidFill>
                <a:latin typeface="楷体"/>
                <a:ea typeface="楷体"/>
              </a:rPr>
              <a:t>为什么没参加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楷体"/>
                <a:ea typeface="楷体"/>
              </a:rPr>
              <a:t>他在</a:t>
            </a:r>
            <a:r>
              <a:rPr b="1" lang="zh-CN" sz="44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2060"/>
                </a:solidFill>
                <a:latin typeface="楷体"/>
                <a:ea typeface="楷体"/>
              </a:rPr>
              <a:t>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5" descr="lanmu_34769[1].jpg"/>
          <p:cNvPicPr/>
          <p:nvPr/>
        </p:nvPicPr>
        <p:blipFill>
          <a:blip r:embed="rId4"/>
          <a:stretch/>
        </p:blipFill>
        <p:spPr>
          <a:xfrm>
            <a:off x="0" y="0"/>
            <a:ext cx="2714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内容占位符 3" descr="848764_090855095408_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56" name="班得瑞 - Snow 静静的雪.mp3" descr=""/>
          <p:cNvPicPr/>
          <p:nvPr/>
        </p:nvPicPr>
        <p:blipFill>
          <a:blip r:embed="rId2"/>
          <a:stretch/>
        </p:blipFill>
        <p:spPr>
          <a:xfrm>
            <a:off x="860436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班得瑞 - 雪之梦（Snowdreams）.mp3" descr=""/>
          <p:cNvPicPr/>
          <p:nvPr/>
        </p:nvPicPr>
        <p:blipFill>
          <a:blip r:embed="rId3"/>
          <a:stretch/>
        </p:blipFill>
        <p:spPr>
          <a:xfrm>
            <a:off x="860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304032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8" dur="32103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7772400" cy="19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楷体"/>
                <a:ea typeface="楷体"/>
              </a:rPr>
              <a:t>17.</a:t>
            </a:r>
            <a:r>
              <a:rPr b="0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雪地里的小画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500040" y="1499760"/>
            <a:ext cx="88977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下雪啦，下雪啦</a:t>
            </a:r>
            <a:r>
              <a:rPr b="1" lang="en-US" sz="3600" spc="-1" strike="noStrike">
                <a:solidFill>
                  <a:srgbClr val="0099ff"/>
                </a:solidFill>
                <a:latin typeface="楷体"/>
                <a:ea typeface="楷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雪地里来了一群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        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画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画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         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画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， 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画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不用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不用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几步就成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为什么没参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他在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睡着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5960" cy="101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MCj02949730000[1]"/>
          <p:cNvPicPr/>
          <p:nvPr/>
        </p:nvPicPr>
        <p:blipFill>
          <a:blip r:embed="rId2"/>
          <a:stretch/>
        </p:blipFill>
        <p:spPr>
          <a:xfrm>
            <a:off x="0" y="0"/>
            <a:ext cx="1450800" cy="1836720"/>
          </a:xfrm>
          <a:prstGeom prst="rect">
            <a:avLst/>
          </a:prstGeom>
          <a:ln w="0">
            <a:noFill/>
          </a:ln>
        </p:spPr>
      </p:pic>
      <p:sp>
        <p:nvSpPr>
          <p:cNvPr id="262" name="Line 9"/>
          <p:cNvSpPr/>
          <p:nvPr/>
        </p:nvSpPr>
        <p:spPr>
          <a:xfrm>
            <a:off x="363528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4920" y="3141360"/>
            <a:ext cx="82803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9933"/>
                </a:solidFill>
                <a:latin typeface="楷体"/>
                <a:ea typeface="楷体"/>
              </a:rPr>
              <a:t>编一编</a:t>
            </a:r>
            <a:r>
              <a:rPr b="0" lang="zh-CN" sz="3200" spc="-1" strike="noStrike">
                <a:solidFill>
                  <a:srgbClr val="ff9933"/>
                </a:solidFill>
                <a:latin typeface="楷体"/>
                <a:ea typeface="楷体"/>
              </a:rPr>
              <a:t>：</a:t>
            </a:r>
            <a:r>
              <a:rPr b="0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还有哪些小动物也会来画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          </a:t>
            </a:r>
            <a:r>
              <a:rPr b="0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它们又会画些什么？把它编进诗歌吧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090440" y="1031760"/>
            <a:ext cx="68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楷体"/>
                <a:ea typeface="楷体"/>
              </a:rPr>
              <a:t>请把你喜欢的作业带回家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9" descr="line069"/>
          <p:cNvPicPr/>
          <p:nvPr/>
        </p:nvPicPr>
        <p:blipFill>
          <a:blip r:embed="rId1"/>
          <a:stretch/>
        </p:blipFill>
        <p:spPr>
          <a:xfrm>
            <a:off x="-76320" y="6045120"/>
            <a:ext cx="9144000" cy="432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u=697035760,2639183945&amp;gp=0"/>
          <p:cNvPicPr/>
          <p:nvPr/>
        </p:nvPicPr>
        <p:blipFill>
          <a:blip r:embed="rId2"/>
          <a:stretch/>
        </p:blipFill>
        <p:spPr>
          <a:xfrm>
            <a:off x="7488360" y="5278320"/>
            <a:ext cx="1655640" cy="15796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1"/>
          <p:cNvSpPr/>
          <p:nvPr/>
        </p:nvSpPr>
        <p:spPr>
          <a:xfrm>
            <a:off x="611280" y="235728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楷体"/>
                <a:ea typeface="楷体"/>
              </a:rPr>
              <a:t>背一背</a:t>
            </a:r>
            <a:r>
              <a:rPr b="0" lang="zh-CN" sz="3600" spc="-1" strike="noStrike">
                <a:solidFill>
                  <a:srgbClr val="ff9933"/>
                </a:solidFill>
                <a:latin typeface="楷体"/>
                <a:ea typeface="楷体"/>
              </a:rPr>
              <a:t>：</a:t>
            </a:r>
            <a:r>
              <a:rPr b="0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把这首诗歌背给爸爸妈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68D4-BA0E-4245-942B-BA039ACB87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内容占位符 3" descr="200791793651317_2[1]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雪地里的小画家8"/>
          <p:cNvPicPr/>
          <p:nvPr/>
        </p:nvPicPr>
        <p:blipFill>
          <a:blip r:embed="rId1"/>
          <a:stretch/>
        </p:blipFill>
        <p:spPr>
          <a:xfrm>
            <a:off x="900000" y="765000"/>
            <a:ext cx="2592360" cy="237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雪地里的小画家6"/>
          <p:cNvPicPr/>
          <p:nvPr/>
        </p:nvPicPr>
        <p:blipFill>
          <a:blip r:embed="rId2"/>
          <a:stretch/>
        </p:blipFill>
        <p:spPr>
          <a:xfrm>
            <a:off x="5364000" y="765000"/>
            <a:ext cx="2635560" cy="237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雪地里的小画家7"/>
          <p:cNvPicPr/>
          <p:nvPr/>
        </p:nvPicPr>
        <p:blipFill>
          <a:blip r:embed="rId3"/>
          <a:stretch/>
        </p:blipFill>
        <p:spPr>
          <a:xfrm>
            <a:off x="971640" y="4005360"/>
            <a:ext cx="2411280" cy="20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雪地里的小画家5"/>
          <p:cNvPicPr/>
          <p:nvPr/>
        </p:nvPicPr>
        <p:blipFill>
          <a:blip r:embed="rId4"/>
          <a:stretch/>
        </p:blipFill>
        <p:spPr>
          <a:xfrm>
            <a:off x="5580000" y="3933720"/>
            <a:ext cx="2303640" cy="2162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900000" y="3141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508720" y="3141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900000" y="608796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5651640" y="60879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44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533520" y="53341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会读</a:t>
            </a:r>
            <a:endParaRPr b="0" lang="en-US" sz="4400" spc="1" strike="noStrike">
              <a:ln w="12600">
                <a:solidFill>
                  <a:srgbClr val="ff0000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57120" y="785880"/>
            <a:ext cx="8286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楷体"/>
                <a:ea typeface="楷体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下雪啦    </a:t>
            </a: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梅花    </a:t>
            </a: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用心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4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几个      </a:t>
            </a: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5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成功    </a:t>
            </a: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6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山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7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为什么    </a:t>
            </a: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8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青蛙    </a:t>
            </a: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9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参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           </a:t>
            </a:r>
            <a:r>
              <a:rPr b="1" lang="en-US" sz="4400" spc="-1" strike="noStrike">
                <a:solidFill>
                  <a:srgbClr val="0000cc"/>
                </a:solidFill>
                <a:latin typeface="楷体"/>
                <a:ea typeface="楷体"/>
              </a:rPr>
              <a:t>10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睡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楷体"/>
                <a:ea typeface="楷体"/>
              </a:rPr>
              <a:t>小火车开动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024041001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椭圆 2"/>
          <p:cNvSpPr/>
          <p:nvPr/>
        </p:nvSpPr>
        <p:spPr>
          <a:xfrm>
            <a:off x="3348000" y="2492280"/>
            <a:ext cx="2519280" cy="20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2916360" y="27082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下雪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2T01:21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2:01:01Z</dcterms:modified>
  <cp:revision>2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