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F8E-B6E7-4B09-A788-35BFA6BF57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403-4AC1-4540-96D0-55F244A8D8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8972-7896-4852-AD81-09A849DFC1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379-8D8B-440D-95C5-D67AD879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09E-A8EC-493C-902B-5239CC4F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872-C80C-4FA6-8EF6-390A3DB6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CEB-90CB-4A62-B93F-64BBFE7D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D7B-0729-41F2-95ED-08BB5338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343-8FC5-4908-B029-ECF433A0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8FC-A190-4BCA-BFDE-9D3DAB6F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945-6C0D-4DAB-9B71-E8EDC3A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A16-E07F-4B08-9809-6ABA430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932-305D-42FE-8BB5-484A8AD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910-D37A-49BD-B40E-721862D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7CB-7FB5-4D44-9C63-30B1682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625-22E2-42D5-9089-35BD18F1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00000" y="773280"/>
            <a:ext cx="40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湘教版二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2016360" y="2057400"/>
            <a:ext cx="490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 </a:t>
            </a:r>
            <a:r>
              <a:rPr b="1" i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的朋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74736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方正楷体_GBK"/>
                <a:ea typeface="方正楷体_GBK"/>
              </a:rPr>
              <a:t>探究交流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有一个小姑娘，她第一个好朋友，就是大公鸡。她跟她的好朋友相处得怎样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0" y="99820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公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16080" y="2666880"/>
            <a:ext cx="8511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喔，喔，喔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早安，小姑娘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公鸡是小姑娘的好朋友。一大早，它跟小姑娘在院子里玩，啄她手里的馒头吃。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62520" y="685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的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-152280" y="533520"/>
            <a:ext cx="3886200" cy="1523880"/>
          </a:xfrm>
          <a:prstGeom prst="wedgeEllipseCallout">
            <a:avLst>
              <a:gd name="adj1" fmla="val -4166"/>
              <a:gd name="adj2" fmla="val 3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姑娘和谁是朋友？他们的关系好吗？从哪里可以看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读法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应该有精神、带着欢快语气去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5556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的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70044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公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876400" y="14479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2960 h 3962160"/>
              <a:gd name="textAreaBottom" fmla="*/ 38592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6080" y="2895480"/>
            <a:ext cx="8511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有一天，邻居家的小男孩带着一只鸭子来玩。小姑娘看上了鸭子，她对男孩说：“我跟你换吧，鸭子给我，公鸡给你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公鸡听了，伤心地垂下翅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143000" y="1447920"/>
            <a:ext cx="3352680" cy="838080"/>
          </a:xfrm>
          <a:prstGeom prst="wedgeRoundRectCallout">
            <a:avLst>
              <a:gd name="adj1" fmla="val -63069"/>
              <a:gd name="adj2" fmla="val 86365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姑娘为什么要把自己的朋友换给别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638680" y="4572000"/>
            <a:ext cx="1905120" cy="533520"/>
          </a:xfrm>
          <a:prstGeom prst="wedgeRoundRectCallout">
            <a:avLst>
              <a:gd name="adj1" fmla="val 92666"/>
              <a:gd name="adj2" fmla="val 9762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结果大公鸡怎么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读法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第四段应该带着伤心、难过语气去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公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5556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的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70044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公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1648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伤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044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鸭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2876400" y="14479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2960 h 3962160"/>
              <a:gd name="textAreaBottom" fmla="*/ 38592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40194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5562720" y="2971800"/>
            <a:ext cx="3200400" cy="1905120"/>
          </a:xfrm>
          <a:prstGeom prst="cloudCallout">
            <a:avLst>
              <a:gd name="adj1" fmla="val 58828"/>
              <a:gd name="adj2" fmla="val 58666"/>
            </a:avLst>
          </a:prstGeom>
          <a:solidFill>
            <a:srgbClr val="8bff8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姑娘是不是从此以后就和鸭子成了好朋友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鸭子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54120" y="45720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447136_200904271113531"/>
          <p:cNvPicPr/>
          <p:nvPr/>
        </p:nvPicPr>
        <p:blipFill>
          <a:blip r:embed="rId1"/>
          <a:stretch/>
        </p:blipFill>
        <p:spPr>
          <a:xfrm>
            <a:off x="-762120" y="0"/>
            <a:ext cx="5410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1130229484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4253040" y="6080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好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1508040"/>
            <a:ext cx="8534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姑娘跟鸭子成了朋友，他们一起到小河里洗澡，在草地上做游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了几天，邻居家的大哥哥来了，牵着一只带项</a:t>
            </a:r>
            <a:r>
              <a:rPr b="1" i="1" lang="zh-CN" sz="2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的小狗。小姑娘盯着小狗，说：“哎呀，多漂亮的小狗！把它给我吧，我给你鸭子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鸭子听了，伸着脖子，生气地叫了起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380880" y="228600"/>
            <a:ext cx="4572000" cy="380880"/>
          </a:xfrm>
          <a:prstGeom prst="wedgeRoundRectCallout">
            <a:avLst>
              <a:gd name="adj1" fmla="val -36527"/>
              <a:gd name="adj2" fmla="val 256666"/>
              <a:gd name="adj3" fmla="val 16667"/>
            </a:avLst>
          </a:prstGeom>
          <a:solidFill>
            <a:srgbClr val="dcb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是怎样与鸭子一起玩耍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914400" y="5029200"/>
            <a:ext cx="4648320" cy="838080"/>
          </a:xfrm>
          <a:prstGeom prst="wedgeRoundRectCallout">
            <a:avLst>
              <a:gd name="adj1" fmla="val 64106"/>
              <a:gd name="adj2" fmla="val 33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把鸭子朋友换给邻居的大哥哥？结果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读法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第七段应该语调稍高、带着生气语气去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鸭子为什么生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鸭子为什么生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姑娘不珍惜他们之间友谊，结交新朋友，忘了老朋友，鸭子的叫声是对小姑娘的指责，好像在对主人说：“你不能就这样抛弃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5556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的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70044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公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1648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伤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70044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鸭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164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生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700440" y="4952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781680" y="3124080"/>
            <a:ext cx="170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876400" y="14479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2960 h 3962160"/>
              <a:gd name="textAreaBottom" fmla="*/ 38592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6458040" y="1371600"/>
            <a:ext cx="228600" cy="4114800"/>
          </a:xfrm>
          <a:custGeom>
            <a:avLst/>
            <a:gdLst>
              <a:gd name="textAreaLeft" fmla="*/ 0 w 228600"/>
              <a:gd name="textAreaRight" fmla="*/ 8244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0194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01940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68280" y="1981080"/>
            <a:ext cx="8470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姑娘摸着小狗，对</a:t>
            </a:r>
            <a:r>
              <a:rPr b="1" i="1" lang="zh-CN" sz="2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它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以前，我有一个公鸡朋友，后来用</a:t>
            </a:r>
            <a:r>
              <a:rPr b="1" i="1" lang="zh-CN" sz="2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它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换了鸭子，现在又用鸭子换了你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狗听了，</a:t>
            </a:r>
            <a:r>
              <a:rPr b="1" i="1" lang="zh-CN" sz="2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着尾巴，一声不吭地躲到板凳底下。夜里，</a:t>
            </a:r>
            <a:r>
              <a:rPr b="1" i="1" lang="zh-CN" sz="2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它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爪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子打开门，跑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523880" y="914400"/>
            <a:ext cx="3429000" cy="762120"/>
          </a:xfrm>
          <a:prstGeom prst="wedgeRoundRectCallout">
            <a:avLst>
              <a:gd name="adj1" fmla="val -51203"/>
              <a:gd name="adj2" fmla="val 84791"/>
              <a:gd name="adj3" fmla="val 16667"/>
            </a:avLst>
          </a:prstGeom>
          <a:solidFill>
            <a:srgbClr val="e0a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狗为什么跑了？小狗的心情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狗为什么跑了？小狗的心情怎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小姑娘不懂得珍惜朋友间的友谊，见了新朋友，就不要老朋友，喜新厌旧，见异思迁。小狗觉得过不了几天自己也会被换掉，所以它就偷偷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气、伤心、痛苦、难过的心情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8280" y="1508040"/>
            <a:ext cx="8470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姑娘摸着小狗，对它说：“以前，我有一个公鸡朋友，后来用它换了鸭子，现在又用鸭子换了你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狗听了，夹着尾巴，一声不吭地躲到板凳底下。夜里，它用爪子打开门，跑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5029200" y="274320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57200" y="3124080"/>
            <a:ext cx="6324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5029200" y="2666880"/>
            <a:ext cx="6094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1143000" y="304812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3962520" y="3048120"/>
            <a:ext cx="6094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191120" y="914400"/>
            <a:ext cx="3886200" cy="457200"/>
          </a:xfrm>
          <a:prstGeom prst="wedgeRoundRectCallout">
            <a:avLst>
              <a:gd name="adj1" fmla="val -38726"/>
              <a:gd name="adj2" fmla="val 108333"/>
              <a:gd name="adj3" fmla="val 16667"/>
            </a:avLst>
          </a:prstGeom>
          <a:solidFill>
            <a:srgbClr val="9dd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以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后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现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造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319560" y="1508040"/>
            <a:ext cx="246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以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我有一个公鸡朋友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后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它换了鸭子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现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又用鸭子换了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54280" y="3733920"/>
            <a:ext cx="5514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仿写句子：　　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以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＿＿＿＿＿＿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后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现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＿＿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造句：以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后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以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我对香港不怎么了解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后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通过爸爸的讲解，我对香港有了一定了解，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现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自己能看书，对香港就有了更多的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以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没有朋友，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后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结交了两个朋友，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现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有许多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556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的朋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70044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公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16480" y="1009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伤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735360" y="304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鸭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164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生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00440" y="4952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16480" y="4952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跑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6781680" y="3124080"/>
            <a:ext cx="170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喜新厌旧见异思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876400" y="14479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2960 h 3962160"/>
              <a:gd name="textAreaBottom" fmla="*/ 38592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6458040" y="1371600"/>
            <a:ext cx="228600" cy="4114800"/>
          </a:xfrm>
          <a:custGeom>
            <a:avLst/>
            <a:gdLst>
              <a:gd name="textAreaLeft" fmla="*/ 0 w 228600"/>
              <a:gd name="textAreaRight" fmla="*/ 8244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40194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01940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探究交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积累有关友情的成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拜之交   推心置 腹  相见恨晚  深情厚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莫逆之交   情深似海   刎颈之交  志同道合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君子之交   生死之交   患难与共   管鲍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心相印    两肋插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拓展延伸，讨论交流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愿意和这位小姑娘交朋友吗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愿意，你该怎样帮助她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她应该怎样交朋友呢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讨论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愿意和这位小姑娘交朋友吗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愿意，你该怎样帮助她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396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示：愿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个人都有做错事的时候，金无足赤，人无完人。错了，我们应该去帮助她改正错误，而不能不管。你可以去跟她讲讲道理，讲讲正确的交友方法，跟他交朋友，温暖她孤独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诚心交友，踏实做人，懂得珍惜友情，这样的友谊才持久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拓展延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狗跑了后，小姑娘还有朋友吗？她会怎样？学了这一课你有什么收获？你明白些什么道理？你们应该怎样交朋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小姑娘不珍惜朋友，结果一个朋友也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小姑娘没有了朋友，她会很伤心、难过、后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收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要珍惜朋友间的友谊，结交新朋友，不忘老朋友，更不能喜新厌旧，不能见异思迁，这山望着那山高。使我懂得朋友间友情要真诚才能持久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老师怎样劝小姑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是朋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唱：毛阿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里难寻是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朋友多了路好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诚相见 心诚则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让我们从此是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金难买是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朋友多了春常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心相许 心灵相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让我们永远是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识新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忘老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少新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成老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天高地也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山高水长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愿我们到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有好朋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小女孩  自然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小女孩 自然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小孩动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未标题-1"/>
          <p:cNvPicPr/>
          <p:nvPr/>
        </p:nvPicPr>
        <p:blipFill>
          <a:blip r:embed="rId1"/>
          <a:stretch/>
        </p:blipFill>
        <p:spPr>
          <a:xfrm>
            <a:off x="281952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未标题-1"/>
          <p:cNvPicPr/>
          <p:nvPr/>
        </p:nvPicPr>
        <p:blipFill>
          <a:blip r:embed="rId2"/>
          <a:stretch/>
        </p:blipFill>
        <p:spPr>
          <a:xfrm>
            <a:off x="461952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未标题-1"/>
          <p:cNvPicPr/>
          <p:nvPr/>
        </p:nvPicPr>
        <p:blipFill>
          <a:blip r:embed="rId3"/>
          <a:stretch/>
        </p:blipFill>
        <p:spPr>
          <a:xfrm>
            <a:off x="7221600" y="242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>
            <a:off x="6019920" y="299736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044960" y="270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111480" y="268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911480" y="268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未标题-1"/>
          <p:cNvPicPr/>
          <p:nvPr/>
        </p:nvPicPr>
        <p:blipFill>
          <a:blip r:embed="rId4"/>
          <a:stretch/>
        </p:blipFill>
        <p:spPr>
          <a:xfrm>
            <a:off x="838080" y="242100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1130040" y="268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134800" y="270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1960560" y="464976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探究交流：有关友情的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海皆兄弟，谁为行路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旧题苏武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内存知己，天涯若比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送杜少府之任蜀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是天涯沦落人，相逢何必曾相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琵琶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劝君更尽一杯酒，西出阳关无故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送元二使安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洛阳亲友如相问，一片冰心在玉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芙蓉楼送辛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莫愁前路无知己，天下谁人不识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董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桃花潭水深千尺，不及汪伦送我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赠汪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孤帆远影碧空尽，惟见长江天际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未标题-1"/>
          <p:cNvPicPr/>
          <p:nvPr/>
        </p:nvPicPr>
        <p:blipFill>
          <a:blip r:embed="rId1"/>
          <a:stretch/>
        </p:blipFill>
        <p:spPr>
          <a:xfrm>
            <a:off x="281952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未标题-1"/>
          <p:cNvPicPr/>
          <p:nvPr/>
        </p:nvPicPr>
        <p:blipFill>
          <a:blip r:embed="rId2"/>
          <a:stretch/>
        </p:blipFill>
        <p:spPr>
          <a:xfrm>
            <a:off x="4619520" y="242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未标题-1"/>
          <p:cNvPicPr/>
          <p:nvPr/>
        </p:nvPicPr>
        <p:blipFill>
          <a:blip r:embed="rId3"/>
          <a:stretch/>
        </p:blipFill>
        <p:spPr>
          <a:xfrm>
            <a:off x="7221600" y="242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>
            <a:off x="6019920" y="299736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044960" y="270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111480" y="268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911480" y="268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未标题-1"/>
          <p:cNvPicPr/>
          <p:nvPr/>
        </p:nvPicPr>
        <p:blipFill>
          <a:blip r:embed="rId4"/>
          <a:stretch/>
        </p:blipFill>
        <p:spPr>
          <a:xfrm>
            <a:off x="838080" y="242100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130040" y="268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134800" y="270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下列词语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牵                 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交                 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做                 小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看                 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打                 电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517C-4BCB-4FFF-BA05-FCA201A77F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探究交流：整体入手，感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读课题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小姑娘的朋友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》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们想知道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姑娘有哪些朋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姑娘有这么多朋友，为什么最后都离他而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小朋友用自己喜欢的方式自由读课文，尝试作答，探究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公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鸭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小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探究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姑娘共有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个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姑娘的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个朋友是大公鸡、鸭子、小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9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8:29Z</dcterms:modified>
  <cp:revision>1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