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BCB4-5716-42C3-9427-CD3A9E065E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74BC-C8BA-4165-831E-518B124760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583-E4EE-4F5E-9D5E-D4AA85FD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A9E-5B93-47D5-9E22-A91E3D9C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BA4-9DE7-4EC1-A924-C0901DF3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CEF-E943-4773-8308-66D97CD3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C35-0335-4E0F-B9C4-BD52FE2C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053-395E-4E88-AF48-675666D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CE0-4648-4AAB-844E-2BC312EC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7E3-C829-4B4F-8576-B410377F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B1F-3637-49FE-A7A3-707C494F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16E-8E5C-4D36-8EA8-C5E4A9F9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95F-7646-414A-BB3E-AD491640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45B-F9B1-4AB7-AF54-128B5D7A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4EDD-FA7A-462B-92A0-0831416C4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课心里的世界 插图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2060"/>
                </a:solidFill>
                <a:latin typeface="方正舒体"/>
                <a:ea typeface="方正舒体"/>
              </a:rPr>
              <a:t>心里的世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50680" y="58053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鲜花01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b0f1e6fc6fd22fc80cb4a5f"/>
          <p:cNvPicPr/>
          <p:nvPr/>
        </p:nvPicPr>
        <p:blipFill>
          <a:blip r:embed="rId2"/>
          <a:stretch/>
        </p:blipFill>
        <p:spPr>
          <a:xfrm>
            <a:off x="4284720" y="0"/>
            <a:ext cx="49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0af3005ec4a1c109faf2c0a4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棵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草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鲜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果园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浪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花       大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蓝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天 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很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远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拥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晴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68360" y="189000"/>
            <a:ext cx="2879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800080"/>
                </a:solidFill>
                <a:latin typeface="宋体"/>
              </a:rPr>
              <a:t>我会读</a:t>
            </a:r>
            <a:endParaRPr b="0" lang="en-US" sz="1800" spc="1" strike="noStrike">
              <a:ln w="9360">
                <a:solidFill>
                  <a:srgbClr val="800080"/>
                </a:solidFill>
                <a:round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dab229ef18ae96c2cf1b3e5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39280" y="189000"/>
            <a:ext cx="8147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课心里的世界 插图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8000" y="-360"/>
            <a:ext cx="8218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里的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一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草，我想到了草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一朵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，我想到了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果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一朵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，我想到了大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一缕阳光，我想到了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眼前这小小的世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想得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要去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拥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草原、大海、果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有那晴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蓝天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f9cd25944385452154fb96cf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想一想       写一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565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一（            ）企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一（            ）小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一（            ）大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一（            ）落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297000" y="6377040"/>
            <a:ext cx="71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57015571282525598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50920" y="25992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到一（ 只 ）企鹅，我想到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到一（ 条 ）小鱼，我想到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到一（ 棵 ）大树，我想到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到一（ 片 ）落叶，我想到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到眼前这小小的世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想得很远很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要去拥抱（   ）、 （   ）、 （   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还有那（                                       ）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纯音乐-你的笑颜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7259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57015571282525598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276280"/>
            <a:ext cx="8507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看到 （             ），我想到了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看到 （             ），我想到了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看到 （             ），我想到了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看到 （             ），我想到了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268360" y="620640"/>
            <a:ext cx="43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是小诗人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0B5B-BF91-423B-A341-57055E5F70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2:56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4:15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