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gif" ContentType="image/gif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D442-962A-4C1E-95A7-80220B937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7955-6F15-4BCC-B71F-2AFDBF043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9BA4-078A-458F-A73D-05BFA001C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6D4-F2E2-473C-BCDC-697CC2B2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4372-5F42-46AC-A78F-CA2D733F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71C1-1DA5-4A14-94EE-9445F101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9312-767E-41C7-9E19-9EFA6434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4D39-4E21-46E0-99D3-493D5F02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E9CF-24C8-41EC-82A3-47FF4A35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1AD0-37BD-4C42-91AF-A2FB3270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2740-8086-4B53-81C0-182192EC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32A9-4ABC-48D9-9877-B7E5A3CA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0868-E600-401C-AB8B-9A45C3AF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DAFE-5CB2-4475-87A0-5D605541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887B-B4C7-49BC-9A0B-5F430FEB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4EA5-5A50-41E5-82F8-F209B37D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526D-47B9-43CC-87B0-672C1941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DA27-2A66-465E-A8AD-C04D42BC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F9D8-7D5E-4F55-A98A-3B1CFAEA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77F0-1174-4B78-952E-55C3EA00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889-8925-43F6-A828-F9AD205B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475-BC07-447B-9304-63CFD0B8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538-9186-4686-A2EC-F3D8BEA7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7912-C874-4964-9A40-803B6AAD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A13-7AAF-40B1-AADA-20AB25D3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DB1-0F88-4BA7-8456-B46F3042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ED8-F3A3-4869-BC1E-9A39D6F1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5AB7-6723-43C7-BEFA-980FCC4CA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4AB2-98DE-40A0-A485-8D3FADC39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1" name="Text Box 9" descr=""/>
          <p:cNvPicPr/>
          <p:nvPr/>
        </p:nvPicPr>
        <p:blipFill>
          <a:blip r:embed="rId2"/>
          <a:stretch/>
        </p:blipFill>
        <p:spPr>
          <a:xfrm>
            <a:off x="689040" y="2276640"/>
            <a:ext cx="7848360" cy="1323720"/>
          </a:xfrm>
          <a:prstGeom prst="rect">
            <a:avLst/>
          </a:prstGeom>
          <a:ln w="0">
            <a:noFill/>
          </a:ln>
        </p:spPr>
      </p:pic>
      <p:pic>
        <p:nvPicPr>
          <p:cNvPr id="512" name="矩形 7" descr=""/>
          <p:cNvPicPr/>
          <p:nvPr/>
        </p:nvPicPr>
        <p:blipFill>
          <a:blip r:embed="rId3"/>
          <a:stretch/>
        </p:blipFill>
        <p:spPr>
          <a:xfrm>
            <a:off x="1870200" y="602136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6" descr="905121_12405521770dcB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 txBox="1"/>
          <p:nvPr/>
        </p:nvSpPr>
        <p:spPr>
          <a:xfrm>
            <a:off x="0" y="260280"/>
            <a:ext cx="843912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老人走动在浓密的树荫里，满头白发，像一朵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华文新魏"/>
              </a:rPr>
              <a:t>硕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的蒲公英，是一盏明亮的神灯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3276720" y="2133720"/>
            <a:ext cx="12952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3348000" y="2349360"/>
            <a:ext cx="11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11" descr="01200000033341116109206256479"/>
          <p:cNvPicPr/>
          <p:nvPr/>
        </p:nvPicPr>
        <p:blipFill>
          <a:blip r:embed="rId2"/>
          <a:stretch/>
        </p:blipFill>
        <p:spPr>
          <a:xfrm>
            <a:off x="0" y="3645000"/>
            <a:ext cx="3276720" cy="28731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4" descr="图片 004"/>
          <p:cNvPicPr/>
          <p:nvPr/>
        </p:nvPicPr>
        <p:blipFill>
          <a:blip r:embed="rId3"/>
          <a:stretch/>
        </p:blipFill>
        <p:spPr>
          <a:xfrm>
            <a:off x="5580000" y="3573360"/>
            <a:ext cx="3564000" cy="29149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5" descr="75904preview2"/>
          <p:cNvPicPr/>
          <p:nvPr/>
        </p:nvPicPr>
        <p:blipFill>
          <a:blip r:embed="rId4"/>
          <a:stretch/>
        </p:blipFill>
        <p:spPr>
          <a:xfrm>
            <a:off x="3348000" y="2276640"/>
            <a:ext cx="2203560" cy="3273120"/>
          </a:xfrm>
          <a:prstGeom prst="rect">
            <a:avLst/>
          </a:prstGeom>
          <a:ln w="0">
            <a:noFill/>
          </a:ln>
        </p:spPr>
      </p:pic>
      <p:pic>
        <p:nvPicPr>
          <p:cNvPr id="559" name="秋日私语.mp3" descr=""/>
          <p:cNvPicPr/>
          <p:nvPr/>
        </p:nvPicPr>
        <p:blipFill>
          <a:blip r:embed="rId5"/>
          <a:stretch/>
        </p:blipFill>
        <p:spPr>
          <a:xfrm>
            <a:off x="88390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3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3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02503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12" descr="905121_12405521770dcB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4"/>
          <p:cNvSpPr/>
          <p:nvPr/>
        </p:nvSpPr>
        <p:spPr>
          <a:xfrm>
            <a:off x="5076720" y="-171360"/>
            <a:ext cx="4103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老人呵呵笑着，用饭粒和爱抚招待他的客人。一只大胆的黄色小鸟，衔着一颗草莓停落在老人肩上。老人伸手接住了这珍贵的馈赠。接着又是一颗，又是一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一夜，老人睡得很香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7"/>
          <p:cNvSpPr/>
          <p:nvPr/>
        </p:nvSpPr>
        <p:spPr>
          <a:xfrm flipV="1">
            <a:off x="6156360" y="2276640"/>
            <a:ext cx="71280" cy="71280"/>
          </a:xfrm>
          <a:prstGeom prst="ellipse">
            <a:avLst/>
          </a:prstGeom>
          <a:solidFill>
            <a:srgbClr val="e40000"/>
          </a:solidFill>
          <a:ln w="9360">
            <a:solidFill>
              <a:srgbClr val="e4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8"/>
          <p:cNvSpPr/>
          <p:nvPr/>
        </p:nvSpPr>
        <p:spPr>
          <a:xfrm>
            <a:off x="6516720" y="2276640"/>
            <a:ext cx="73080" cy="72720"/>
          </a:xfrm>
          <a:prstGeom prst="ellipse">
            <a:avLst/>
          </a:prstGeom>
          <a:solidFill>
            <a:srgbClr val="e40000"/>
          </a:solidFill>
          <a:ln w="9360">
            <a:solidFill>
              <a:srgbClr val="e4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9"/>
          <p:cNvSpPr/>
          <p:nvPr/>
        </p:nvSpPr>
        <p:spPr>
          <a:xfrm>
            <a:off x="108000" y="58053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　想一想：老人为什么这一夜睡得很香？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小鸟叫.mp3" descr=""/>
          <p:cNvPicPr/>
          <p:nvPr/>
        </p:nvPicPr>
        <p:blipFill>
          <a:blip r:embed="rId2"/>
          <a:stretch/>
        </p:blipFill>
        <p:spPr>
          <a:xfrm>
            <a:off x="8028000" y="551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3" descr="20387720_182731"/>
          <p:cNvPicPr/>
          <p:nvPr/>
        </p:nvPicPr>
        <p:blipFill>
          <a:blip r:embed="rId3"/>
          <a:stretch/>
        </p:blipFill>
        <p:spPr>
          <a:xfrm>
            <a:off x="-252360" y="-171360"/>
            <a:ext cx="5256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b5499808c32885f83bc763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e40000"/>
                </a:solidFill>
                <a:latin typeface="华文新魏"/>
                <a:ea typeface="华文新魏"/>
              </a:rPr>
              <a:t>时间在树叶上写下了许多故事，许多故事深深地嵌进了树的年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华文新魏"/>
                <a:ea typeface="华文新魏"/>
              </a:rPr>
              <a:t>     </a:t>
            </a:r>
            <a:r>
              <a:rPr b="0" lang="zh-CN" sz="4000" spc="-1" strike="noStrike">
                <a:solidFill>
                  <a:srgbClr val="3c1bc9"/>
                </a:solidFill>
                <a:latin typeface="华文新魏"/>
                <a:ea typeface="华文新魏"/>
              </a:rPr>
              <a:t>这句话在文章中有什么作用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1"/>
          <p:cNvSpPr/>
          <p:nvPr/>
        </p:nvSpPr>
        <p:spPr>
          <a:xfrm>
            <a:off x="1409760" y="4730760"/>
            <a:ext cx="763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9" descr="905121_12405521770dcB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" descr="fa3b58984afb83f4c8eaf471"/>
          <p:cNvPicPr/>
          <p:nvPr/>
        </p:nvPicPr>
        <p:blipFill>
          <a:blip r:embed="rId2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4858920" y="244440"/>
            <a:ext cx="442764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华文新魏"/>
              </a:rPr>
              <a:t>你看，那只头顶上长着白毛的山雀来了，那次，要不是老爷爷及时赶到，它只怕早已经成了那个顽皮小孩的笼中之物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华文新魏"/>
              </a:rPr>
              <a:t>你看，那只</a:t>
            </a:r>
            <a:r>
              <a:rPr b="1" lang="en-US" sz="3600" spc="-1" strike="noStrike">
                <a:solidFill>
                  <a:srgbClr val="0066cc"/>
                </a:solidFill>
                <a:latin typeface="Arial"/>
                <a:ea typeface="华文新魏"/>
              </a:rPr>
              <a:t>__________________</a:t>
            </a:r>
            <a:r>
              <a:rPr b="1" lang="zh-CN" sz="3600" spc="-1" strike="noStrike">
                <a:solidFill>
                  <a:srgbClr val="0066cc"/>
                </a:solidFill>
                <a:latin typeface="Arial"/>
                <a:ea typeface="华文新魏"/>
              </a:rPr>
              <a:t>，那次，要不是</a:t>
            </a:r>
            <a:r>
              <a:rPr b="1" lang="en-US" sz="3600" spc="-1" strike="noStrike">
                <a:solidFill>
                  <a:srgbClr val="0066cc"/>
                </a:solidFill>
                <a:latin typeface="Arial"/>
                <a:ea typeface="华文新魏"/>
              </a:rPr>
              <a:t>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华文新魏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5"/>
          <p:cNvSpPr/>
          <p:nvPr/>
        </p:nvSpPr>
        <p:spPr>
          <a:xfrm>
            <a:off x="5148360" y="2708280"/>
            <a:ext cx="2808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6"/>
          <p:cNvSpPr/>
          <p:nvPr/>
        </p:nvSpPr>
        <p:spPr>
          <a:xfrm>
            <a:off x="5148360" y="2565360"/>
            <a:ext cx="316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7"/>
          <p:cNvSpPr/>
          <p:nvPr/>
        </p:nvSpPr>
        <p:spPr>
          <a:xfrm flipV="1">
            <a:off x="2124000" y="5805000"/>
            <a:ext cx="410364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10" descr="14206042074596718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4"/>
          <p:cNvSpPr/>
          <p:nvPr/>
        </p:nvSpPr>
        <p:spPr>
          <a:xfrm>
            <a:off x="468360" y="692280"/>
            <a:ext cx="828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谁也没邀谁，鸟儿们都来了。成百上千的鸟儿，在林中小屋上盘旋。整座山林都在摇晃，树叶和树枝都在轻轻拂动。　　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　　鸟儿们衔来无数的花瓣，无数的绿叶。伴着阳光，树林里下了一场花瓣雨，绿叶雨。飘落的花瓣和绿叶，掩盖了林中小屋，洒满了弯弯的山路。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钢琴曲 - 悲伤的背景音乐.mp3" descr=""/>
          <p:cNvPicPr/>
          <p:nvPr/>
        </p:nvPicPr>
        <p:blipFill>
          <a:blip r:embed="rId2"/>
          <a:stretch/>
        </p:blipFill>
        <p:spPr>
          <a:xfrm>
            <a:off x="8101080" y="6237360"/>
            <a:ext cx="28728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5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5" descr="359_28737"/>
          <p:cNvPicPr/>
          <p:nvPr/>
        </p:nvPicPr>
        <p:blipFill>
          <a:blip r:embed="rId1"/>
          <a:stretch/>
        </p:blipFill>
        <p:spPr>
          <a:xfrm>
            <a:off x="179280" y="44280"/>
            <a:ext cx="8856720" cy="51134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287280" y="5157360"/>
            <a:ext cx="885672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讨论：假如你是守林老人的孩子，当你看到这一感人的送别场面，你会怎么想？你又会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5" descr="20387720_182732"/>
          <p:cNvPicPr/>
          <p:nvPr/>
        </p:nvPicPr>
        <p:blipFill>
          <a:blip r:embed="rId1"/>
          <a:stretch/>
        </p:blipFill>
        <p:spPr>
          <a:xfrm>
            <a:off x="0" y="0"/>
            <a:ext cx="3924360" cy="6885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 txBox="1"/>
          <p:nvPr/>
        </p:nvSpPr>
        <p:spPr>
          <a:xfrm>
            <a:off x="3708000" y="0"/>
            <a:ext cx="5435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手拉手，地球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弯弯腰，捡回一个希望， 手拉手，拉出一颗太阳， 希望的太阳就是我们， 我们把地球村打扮得漂漂亮亮， 手拉手，把歌唱，地球村是我们共同的家乡， 手拉手，把歌唱，地球村是我们共同的家乡。 弯弯腰，种下一棵小树， 手拉手，拉起一条绿浪， 绿色的长河就是我们， 我们让地球村永远鸟语花香， 手拉手，地球村，生命河在我们心中歌唱， 手拉手，地球村，生命河在我们心中歌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手拉手 地球村.MP3" descr=""/>
          <p:cNvPicPr/>
          <p:nvPr/>
        </p:nvPicPr>
        <p:blipFill>
          <a:blip r:embed="rId2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5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D96E-E216-45E7-99F9-869ED07312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手拉手 地球村.MP3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7"/>
          <p:cNvSpPr/>
          <p:nvPr/>
        </p:nvSpPr>
        <p:spPr>
          <a:xfrm>
            <a:off x="7812000" y="1268280"/>
            <a:ext cx="609840" cy="609840"/>
          </a:xfrm>
          <a:prstGeom prst="flowChartSummingJunct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4" descr="fuzhou60e1f8d753c6b20c"/>
          <p:cNvPicPr/>
          <p:nvPr/>
        </p:nvPicPr>
        <p:blipFill>
          <a:blip r:embed="rId2"/>
          <a:stretch/>
        </p:blipFill>
        <p:spPr>
          <a:xfrm>
            <a:off x="0" y="0"/>
            <a:ext cx="907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7524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17" descr="14206042074596718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4"/>
          <p:cNvSpPr/>
          <p:nvPr/>
        </p:nvSpPr>
        <p:spPr>
          <a:xfrm>
            <a:off x="0" y="5084640"/>
            <a:ext cx="356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539640" y="220500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小鸟们为守林老人送行</a:t>
            </a:r>
            <a:endParaRPr b="1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秋日私语.mp3" descr=""/>
          <p:cNvPicPr/>
          <p:nvPr/>
        </p:nvPicPr>
        <p:blipFill>
          <a:blip r:embed="rId2"/>
          <a:stretch/>
        </p:blipFill>
        <p:spPr>
          <a:xfrm>
            <a:off x="8028000" y="5805360"/>
            <a:ext cx="304920" cy="2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u=2582165747,1964573572&amp;fm=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609120" y="1196640"/>
            <a:ext cx="81536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自由读课文，思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刚才看到的送行的场面作者是怎样描写的？请找出相关的段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9" descr="b7cdf315f216a17d20a4e9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179280" y="189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谁也没邀谁，鸟儿们都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鸟儿，在林中小屋上盘旋。整座山林都在       摇晃，树叶和树枝都在轻轻拂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鸟儿们衔来无数的花瓣，无数的绿叶。伴着阳光，树林里下了一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飘落的花瓣和绿叶掩盖了林中小屋，洒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满了弯弯的山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6659640" y="1197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成百上千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7"/>
          <p:cNvSpPr/>
          <p:nvPr/>
        </p:nvSpPr>
        <p:spPr>
          <a:xfrm>
            <a:off x="5076720" y="3716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花瓣雨、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8"/>
          <p:cNvSpPr/>
          <p:nvPr/>
        </p:nvSpPr>
        <p:spPr>
          <a:xfrm>
            <a:off x="6804000" y="3716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绿叶雨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矩形 8"/>
          <p:cNvSpPr/>
          <p:nvPr/>
        </p:nvSpPr>
        <p:spPr>
          <a:xfrm>
            <a:off x="2484360" y="2997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i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8" descr="dccf6729d72dcb1ad42af1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１、开始，小鸟们对老人的突然到来感到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２、老人为小鸟们做了什么事？这时老人在小鸟们的心里是什么形象？（找出文中的比喻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３、后来小鸟们又为老人做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755640" y="549360"/>
            <a:ext cx="2521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40000"/>
                </a:solidFill>
                <a:latin typeface="Arial"/>
                <a:ea typeface="楷体_GB2312"/>
              </a:rPr>
              <a:t>再读课文，思考：</a:t>
            </a:r>
            <a:endParaRPr b="0" lang="en-US" sz="6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6" descr="b5499808c32885f83bc763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4"/>
          <p:cNvSpPr/>
          <p:nvPr/>
        </p:nvSpPr>
        <p:spPr>
          <a:xfrm>
            <a:off x="4284720" y="47628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起初，鸟儿们非常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惊诧：怎么来了个白胡子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头？是捕鸟的吧？打猎的吧？不像。带了一条黑狗，可没带猎枪。老人在树林里搭了一间小屋，住下了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324000" y="4653000"/>
            <a:ext cx="75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奇怪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儿们用晶亮的小眼睛彼此询问着，用它们鸟国的语言争论着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7" descr="e73191fd443664a2b901a03f"/>
          <p:cNvPicPr/>
          <p:nvPr/>
        </p:nvPicPr>
        <p:blipFill>
          <a:blip r:embed="rId2"/>
          <a:stretch/>
        </p:blipFill>
        <p:spPr>
          <a:xfrm>
            <a:off x="0" y="0"/>
            <a:ext cx="3851280" cy="4005360"/>
          </a:xfrm>
          <a:prstGeom prst="rect">
            <a:avLst/>
          </a:prstGeom>
          <a:ln w="0">
            <a:noFill/>
          </a:ln>
        </p:spPr>
      </p:pic>
      <p:pic>
        <p:nvPicPr>
          <p:cNvPr id="538" name="小鸟叫.mp3" descr=""/>
          <p:cNvPicPr/>
          <p:nvPr/>
        </p:nvPicPr>
        <p:blipFill>
          <a:blip r:embed="rId3"/>
          <a:stretch/>
        </p:blipFill>
        <p:spPr>
          <a:xfrm>
            <a:off x="8028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7793" fill="hold"/>
                                        <p:tgtEl>
                                          <p:spTgt spid="5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5" descr="23603bdfc2e90865cdbf1a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 txBox="1"/>
          <p:nvPr/>
        </p:nvSpPr>
        <p:spPr>
          <a:xfrm>
            <a:off x="395280" y="161892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那天，来了一伙偷砍树木的人，老人带着黑狗，叫喊着去阻拦利斧的挥舞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1763640" y="1916280"/>
            <a:ext cx="58327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7"/>
          <p:cNvSpPr/>
          <p:nvPr/>
        </p:nvSpPr>
        <p:spPr>
          <a:xfrm>
            <a:off x="9325080" y="907920"/>
            <a:ext cx="1841400" cy="557280"/>
          </a:xfrm>
          <a:custGeom>
            <a:avLst/>
            <a:gdLst>
              <a:gd name="textAreaLeft" fmla="*/ 0 w 1841400"/>
              <a:gd name="textAreaRight" fmla="*/ 1841760 w 184140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8"/>
          <p:cNvSpPr/>
          <p:nvPr/>
        </p:nvSpPr>
        <p:spPr>
          <a:xfrm>
            <a:off x="755640" y="566100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9" descr="u=3100020598,1602614608&amp;fm=3&amp;gp=0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5"/>
          <p:cNvSpPr/>
          <p:nvPr/>
        </p:nvSpPr>
        <p:spPr>
          <a:xfrm>
            <a:off x="0" y="1233360"/>
            <a:ext cx="8101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那伙人走了，老人轻轻         受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伤的树干，      流出树脂的伤痕，又          从树枝上震落的鸟窝，稳稳地         在树枝上。 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5848200" y="56340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5940360" y="620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抚摸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3"/>
          <p:cNvSpPr/>
          <p:nvPr/>
        </p:nvSpPr>
        <p:spPr>
          <a:xfrm>
            <a:off x="2195640" y="14842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抚摸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611280" y="2133720"/>
            <a:ext cx="146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拾起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5"/>
          <p:cNvSpPr/>
          <p:nvPr/>
        </p:nvSpPr>
        <p:spPr>
          <a:xfrm>
            <a:off x="1116000" y="27082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安放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6"/>
          <p:cNvSpPr/>
          <p:nvPr/>
        </p:nvSpPr>
        <p:spPr>
          <a:xfrm>
            <a:off x="395280" y="386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那伙人走了，老人抚摸受伤的树干，抚摸流出树脂的伤痕，又拾起从树枝上震落的鸟窝，安放在树枝上。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2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2:02:0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6:39Z</dcterms:modified>
  <cp:revision>4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