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C49B1-9096-4EFF-87FC-AB734DDC10A9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6.xml"/><Relationship Id="rId24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48550-24C4-4FCF-9735-6E32AB82A18D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A405E-56A9-44FC-B3D6-288DED26C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56BB3-F81B-4F33-846D-50F9C0821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B4CAA-1C64-4893-8A44-6B9765E04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18548-32A1-4099-90C3-212D4B76E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54181-8980-4A5D-869F-79D6618D2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89403-3887-457A-850B-A955B0335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D9EF2-B391-49ED-AFD6-89D15BF11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B6865-89F5-4A2F-9833-1D1D98AAA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02D8F-CC93-487D-B2EE-41C313BFC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6A6C0-E227-4FB4-89C4-C4647CBCD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04EC0-79B8-498E-A346-462B9E758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6E838-8BB6-40C2-B74F-00249EE9C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554EA-5DDB-4768-A44D-F7B715AD0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F9417-71F5-496D-AE56-3DF096AC8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2F4A5-1842-4A6E-B38C-32982827A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2B7DF-F2B1-441D-BF4F-CFF08D2DF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E6C15-A8D7-4D02-B78F-67404D24E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5D1F7C-FAB0-4666-B531-37D14DE54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D12314-3455-48CF-AAE7-6A60A9F22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39F502-FD96-4A1C-B82A-94A70FC14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5833B0-0C89-4A1E-B06D-2AA893182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075934-CC6B-450B-BC02-DABCDFB4B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070BA-709D-4ABE-A8C9-C57D156C5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EAE6FE-EACC-4D32-8A5B-F50576511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EF2DA5-7718-4AAD-B28A-12D1E4DC4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EBCBE2-38B2-41FA-8BE9-AA9EE3116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EA5935-60B4-4273-9C6E-C69A8BEDA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847728-360A-490A-8319-5631B9F69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F8BD94-1862-4004-925B-873C5A8ED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A27753-7573-4DAD-900F-415D9A273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1D176-9A7C-41C1-82DB-865CE6E3D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1099A-3C3F-4B9F-A718-75E65CD46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EB153-134A-494E-AFE3-E92BD48C7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8F0B9-F9A6-41A8-B25F-527FC3548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B3606-1E9D-4254-BE54-9D2A67518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97F60-B98F-433F-A24A-0EF8D9138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A01EA-4F03-40FD-9782-2F7672D5A2C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DDF9F-B612-4559-B6F8-22AC25EC4EAF}" type="slidenum">
              <a:rPr b="0" lang="zh-CN" sz="1400" spc="-1" strike="noStrike">
                <a:solidFill>
                  <a:srgbClr val="2a3d7a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3" descr="ANABNR2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4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96EE2-2710-40B0-9B0F-E7BE217BFC75}" type="slidenum">
              <a:rPr b="0" lang="zh-CN" sz="1400" spc="-1" strike="noStrike">
                <a:solidFill>
                  <a:srgbClr val="2a3d7a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图片 9" descr=""/>
          <p:cNvPicPr/>
          <p:nvPr/>
        </p:nvPicPr>
        <p:blipFill>
          <a:blip r:embed="rId1"/>
          <a:stretch/>
        </p:blipFill>
        <p:spPr>
          <a:xfrm>
            <a:off x="-41400" y="-41400"/>
            <a:ext cx="9226800" cy="6940800"/>
          </a:xfrm>
          <a:prstGeom prst="rect">
            <a:avLst/>
          </a:prstGeom>
          <a:ln w="0">
            <a:noFill/>
          </a:ln>
        </p:spPr>
      </p:pic>
      <p:sp>
        <p:nvSpPr>
          <p:cNvPr id="134" name="TextBox 10"/>
          <p:cNvSpPr/>
          <p:nvPr/>
        </p:nvSpPr>
        <p:spPr>
          <a:xfrm>
            <a:off x="468360" y="981000"/>
            <a:ext cx="5784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华文隶书"/>
                <a:ea typeface="华文隶书"/>
              </a:rPr>
              <a:t>小青蛙找新家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矩形 4"/>
          <p:cNvSpPr/>
          <p:nvPr/>
        </p:nvSpPr>
        <p:spPr>
          <a:xfrm>
            <a:off x="408240" y="5732640"/>
            <a:ext cx="4725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幻灯片之家  </a:t>
            </a:r>
            <a:r>
              <a:rPr b="1" lang="en-US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2"/>
          <p:cNvSpPr/>
          <p:nvPr/>
        </p:nvSpPr>
        <p:spPr>
          <a:xfrm>
            <a:off x="324000" y="2133720"/>
            <a:ext cx="82296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        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歌曲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《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装扮蓝色的地球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》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 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同时出示美丽的图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2"/>
          <p:cNvSpPr/>
          <p:nvPr/>
        </p:nvSpPr>
        <p:spPr>
          <a:xfrm>
            <a:off x="1146240" y="1773360"/>
            <a:ext cx="6095880" cy="32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ff"/>
                </a:solidFill>
                <a:latin typeface="Times New Roman"/>
              </a:rPr>
              <a:t>再   见</a:t>
            </a:r>
            <a:r>
              <a:rPr b="0" lang="en-US" sz="9600" spc="-1" strike="noStrike">
                <a:solidFill>
                  <a:srgbClr val="0000ff"/>
                </a:solidFill>
                <a:latin typeface="Times New Roman"/>
              </a:rPr>
              <a:t>!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zh-CN" sz="5400" spc="-1" strike="noStrike">
                <a:solidFill>
                  <a:srgbClr val="e10755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文本框 1"/>
          <p:cNvSpPr/>
          <p:nvPr/>
        </p:nvSpPr>
        <p:spPr>
          <a:xfrm>
            <a:off x="1303200" y="3994200"/>
            <a:ext cx="698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更多免费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模板尽在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BF613-EFC3-4FE8-A9F6-1F751400D330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图片 13" descr="Bitmap_3.jpg"/>
          <p:cNvPicPr/>
          <p:nvPr/>
        </p:nvPicPr>
        <p:blipFill>
          <a:blip r:embed="rId2"/>
          <a:stretch/>
        </p:blipFill>
        <p:spPr>
          <a:xfrm>
            <a:off x="500040" y="1214280"/>
            <a:ext cx="8128080" cy="5295960"/>
          </a:xfrm>
          <a:prstGeom prst="rect">
            <a:avLst/>
          </a:prstGeom>
          <a:ln w="0">
            <a:noFill/>
          </a:ln>
        </p:spPr>
      </p:pic>
      <p:sp>
        <p:nvSpPr>
          <p:cNvPr id="137" name="TextBox 14"/>
          <p:cNvSpPr/>
          <p:nvPr/>
        </p:nvSpPr>
        <p:spPr>
          <a:xfrm>
            <a:off x="514440" y="417600"/>
            <a:ext cx="434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说一说图中有什么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2"/>
          <p:cNvSpPr/>
          <p:nvPr/>
        </p:nvSpPr>
        <p:spPr>
          <a:xfrm>
            <a:off x="685800" y="1371600"/>
            <a:ext cx="8458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图片 4" descr="003.JPG"/>
          <p:cNvPicPr/>
          <p:nvPr/>
        </p:nvPicPr>
        <p:blipFill>
          <a:blip r:embed="rId2"/>
          <a:stretch/>
        </p:blipFill>
        <p:spPr>
          <a:xfrm>
            <a:off x="923760" y="1628640"/>
            <a:ext cx="4913640" cy="4942080"/>
          </a:xfrm>
          <a:prstGeom prst="rect">
            <a:avLst/>
          </a:prstGeom>
          <a:ln w="0">
            <a:noFill/>
          </a:ln>
        </p:spPr>
      </p:pic>
      <p:sp>
        <p:nvSpPr>
          <p:cNvPr id="140" name="TextBox 5"/>
          <p:cNvSpPr/>
          <p:nvPr/>
        </p:nvSpPr>
        <p:spPr>
          <a:xfrm>
            <a:off x="2108520" y="47628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Times New Roman"/>
              </a:rPr>
              <a:t>看看小青蛙现在的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图片 5" descr="004.JPG"/>
          <p:cNvPicPr/>
          <p:nvPr/>
        </p:nvPicPr>
        <p:blipFill>
          <a:blip r:embed="rId2"/>
          <a:stretch/>
        </p:blipFill>
        <p:spPr>
          <a:xfrm>
            <a:off x="1692360" y="1989000"/>
            <a:ext cx="4500360" cy="4591080"/>
          </a:xfrm>
          <a:prstGeom prst="rect">
            <a:avLst/>
          </a:prstGeom>
          <a:ln w="0">
            <a:noFill/>
          </a:ln>
        </p:spPr>
      </p:pic>
      <p:sp>
        <p:nvSpPr>
          <p:cNvPr id="142" name="TextBox 7"/>
          <p:cNvSpPr/>
          <p:nvPr/>
        </p:nvSpPr>
        <p:spPr>
          <a:xfrm>
            <a:off x="1008000" y="1447560"/>
            <a:ext cx="546120" cy="382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00000"/>
                </a:solidFill>
                <a:latin typeface="Times New Roman"/>
              </a:rPr>
              <a:t>小青蛙该怎么找家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79400" y="274680"/>
            <a:ext cx="4145040" cy="94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00000"/>
                </a:solidFill>
                <a:latin typeface="Arial"/>
              </a:rPr>
              <a:t>看图编故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图片 5" descr="照片 003.jpg"/>
          <p:cNvPicPr/>
          <p:nvPr/>
        </p:nvPicPr>
        <p:blipFill>
          <a:blip r:embed="rId2"/>
          <a:stretch/>
        </p:blipFill>
        <p:spPr>
          <a:xfrm>
            <a:off x="1692360" y="2060640"/>
            <a:ext cx="4987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2"/>
          <p:cNvSpPr/>
          <p:nvPr/>
        </p:nvSpPr>
        <p:spPr>
          <a:xfrm>
            <a:off x="609480" y="1066680"/>
            <a:ext cx="8153640" cy="28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讨论：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这些又脏又臭的垃圾是怎么来到小青蛙的家园的呢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在我们的身边有没有这样的人呢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2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7" dur="5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2"/>
          <p:cNvSpPr/>
          <p:nvPr/>
        </p:nvSpPr>
        <p:spPr>
          <a:xfrm>
            <a:off x="609480" y="1143000"/>
            <a:ext cx="81536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Times New Roman"/>
                <a:ea typeface="黑体"/>
              </a:rPr>
              <a:t>思考</a:t>
            </a:r>
            <a:r>
              <a:rPr b="0" lang="zh-CN" sz="6600" spc="-1" strike="noStrike">
                <a:solidFill>
                  <a:srgbClr val="000000"/>
                </a:solidFill>
                <a:latin typeface="Times New Roman"/>
              </a:rPr>
              <a:t>：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6600" spc="-1" strike="noStrike">
                <a:solidFill>
                  <a:srgbClr val="000000"/>
                </a:solidFill>
                <a:latin typeface="Times New Roman"/>
              </a:rPr>
              <a:t>伤心的小青蛙能找到新家吗？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2"/>
          <p:cNvSpPr/>
          <p:nvPr/>
        </p:nvSpPr>
        <p:spPr>
          <a:xfrm>
            <a:off x="685800" y="1752480"/>
            <a:ext cx="8153280" cy="27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黑体"/>
                <a:ea typeface="黑体"/>
              </a:rPr>
              <a:t>讨论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：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zh-CN" sz="5400" spc="-1" strike="noStrike">
                <a:solidFill>
                  <a:srgbClr val="000000"/>
                </a:solidFill>
                <a:latin typeface="宋体"/>
              </a:rPr>
              <a:t>为了帮助小青蛙找到     新家</a:t>
            </a:r>
            <a:r>
              <a:rPr b="0" lang="en-US" sz="54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zh-CN" sz="5400" spc="-1" strike="noStrike">
                <a:solidFill>
                  <a:srgbClr val="000000"/>
                </a:solidFill>
                <a:latin typeface="宋体"/>
              </a:rPr>
              <a:t>我们应该做些什么呢？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不乱扔垃圾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不乱倒剩饭剩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不随地吐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不随地大小便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不用或少用一次性的碗筷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要保护动物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﹑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植物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05:44:37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0:06:16Z</dcterms:modified>
  <cp:revision>50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</Properties>
</file>