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6.gif" ContentType="image/gif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018C5-3FDE-497B-B7CC-DD42C1A0146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5221-2DBF-434C-9811-ACF211014C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E1DC-32BB-47CE-AC7A-D31D826EF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4F3-469E-40EC-A8F9-EB8E6B0C7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FAE-0E69-4171-ACAA-9B372B36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EB3D-4B2F-42CC-A1F6-3EC314FDF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B6F9-E19D-45E1-8C6F-05E758A6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E391-5125-4D93-8A5F-7A364C95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722B-13D8-468C-A227-EDA8D1FF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4C77-2DC1-4800-84E5-E4C57B122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05EB-A7A5-4952-9C6A-7CD145E1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7C1E8-359B-4939-A08A-5A3C59E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F3882-B914-4C5E-90E3-3078DC2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D4A9-E66C-4C33-A979-55349F33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9BBB-2921-4482-86F9-23D1DDC8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4D8D-0439-4215-8EB5-2347371E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D44F-6042-4876-B886-F18DD166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4BD1-C075-4EEB-B662-083349710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2C69-5D92-474B-81F9-F470E8FD1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4A30D-4C0C-49B0-A4AA-FDCEDFDBC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EAB80-8FCF-4E6A-A0E1-BD126D95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D9F6D2-3055-42B7-9331-4BF6CC3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52581F-0279-4672-B49F-E87EC3F1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EB7E0C-C1D8-4FF0-8D18-85BA5BF9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F3E-B3DA-4586-8C3A-0493D529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A2A510-9D36-454D-95B1-D1BCAD94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BB5F1-3A77-4FCF-B754-7AF56F5F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0ED8D-B530-43FD-BC7E-21948B6E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55C8AE-8EA1-4846-A671-7AC3993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4D18B-BC25-4B65-BD9F-E1AA58C8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65313A-E0F7-4099-9759-660650720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D5856-6FB3-4478-BA3D-CA80B153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5904-F7F1-4201-B4F9-43795B50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980-439E-46E0-9C97-4DF961E5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C7B-E54D-4009-A064-ABFBC982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3622-93C0-48C8-84DE-DACAFBBF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36CC-5480-4F0B-956C-DBF2730F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E1EF-1C2C-4994-A08D-4C9A12C7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70406-A970-4785-9177-B54D407A1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2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46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48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A0B3-1EF1-41F0-B884-36DC1124FB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3270-0287-4642-8687-58215D76C6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image.cnfirst.net/2008518204410885.gif" TargetMode="External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矩形 5"/>
          <p:cNvSpPr/>
          <p:nvPr/>
        </p:nvSpPr>
        <p:spPr>
          <a:xfrm>
            <a:off x="2115720" y="47214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99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647960" y="1600200"/>
            <a:ext cx="424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熊勇敢的过了桥，它回到家把这件事情告诉了熊妈妈。你们想，熊妈妈会怎样表扬小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想做一个怎样的孩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abc0241"/>
          <p:cNvPicPr/>
          <p:nvPr/>
        </p:nvPicPr>
        <p:blipFill>
          <a:blip r:embed="rId1"/>
          <a:stretch/>
        </p:blipFill>
        <p:spPr>
          <a:xfrm>
            <a:off x="1017720" y="2852640"/>
            <a:ext cx="2041560" cy="277344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"/>
          <p:cNvSpPr/>
          <p:nvPr/>
        </p:nvSpPr>
        <p:spPr>
          <a:xfrm>
            <a:off x="58680" y="6126120"/>
            <a:ext cx="82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2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07" dur="2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8" dur="2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谢谢指导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abc0371"/>
          <p:cNvPicPr/>
          <p:nvPr/>
        </p:nvPicPr>
        <p:blipFill>
          <a:blip r:embed="rId1"/>
          <a:stretch/>
        </p:blipFill>
        <p:spPr>
          <a:xfrm>
            <a:off x="0" y="1886040"/>
            <a:ext cx="8748720" cy="4971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gif动画素材 小鸟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19640" y="2060640"/>
            <a:ext cx="141912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2C1B-E430-40FF-B268-A14B36ABC52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754200" y="1763640"/>
            <a:ext cx="1285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3300"/>
                </a:solidFill>
                <a:latin typeface="Calibri"/>
                <a:ea typeface="楷体_GB2312"/>
              </a:rPr>
              <a:t>不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3611520" y="1692360"/>
            <a:ext cx="150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  <a:ea typeface="楷体_GB2312"/>
              </a:rPr>
              <a:t>心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6683400" y="1763640"/>
            <a:ext cx="142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  <a:ea typeface="楷体_GB2312"/>
              </a:rPr>
              <a:t>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754200" y="4549680"/>
            <a:ext cx="150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  <a:ea typeface="楷体_GB2312"/>
              </a:rPr>
              <a:t>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683160" y="4478400"/>
            <a:ext cx="1536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  <a:ea typeface="楷体_GB2312"/>
              </a:rPr>
              <a:t>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611280" y="620640"/>
            <a:ext cx="7786440" cy="3742560"/>
            <a:chOff x="611280" y="620640"/>
            <a:chExt cx="7786440" cy="3742560"/>
          </a:xfrm>
        </p:grpSpPr>
        <p:sp>
          <p:nvSpPr>
            <p:cNvPr id="178" name="TextBox 20"/>
            <p:cNvSpPr/>
            <p:nvPr/>
          </p:nvSpPr>
          <p:spPr>
            <a:xfrm>
              <a:off x="825480" y="692280"/>
              <a:ext cx="11430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1414"/>
                  </a:solidFill>
                  <a:latin typeface="Calibri"/>
                </a:rPr>
                <a:t>bù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6"/>
            <p:cNvSpPr/>
            <p:nvPr/>
          </p:nvSpPr>
          <p:spPr>
            <a:xfrm>
              <a:off x="3683160" y="620640"/>
              <a:ext cx="16808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1414"/>
                  </a:solidFill>
                  <a:latin typeface="Calibri"/>
                </a:rPr>
                <a:t>x</a:t>
              </a:r>
              <a:r>
                <a:rPr b="1" lang="en-US" sz="6000" spc="-1" strike="noStrike">
                  <a:solidFill>
                    <a:srgbClr val="001414"/>
                  </a:solidFill>
                  <a:latin typeface="Arial"/>
                </a:rPr>
                <a:t>ī</a:t>
              </a:r>
              <a:r>
                <a:rPr b="0" lang="en-US" sz="6600" spc="-1" strike="noStrike">
                  <a:solidFill>
                    <a:srgbClr val="001414"/>
                  </a:solidFill>
                  <a:latin typeface="Calibri"/>
                </a:rPr>
                <a:t>n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23"/>
            <p:cNvSpPr/>
            <p:nvPr/>
          </p:nvSpPr>
          <p:spPr>
            <a:xfrm>
              <a:off x="6683400" y="620640"/>
              <a:ext cx="17143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1414"/>
                  </a:solidFill>
                  <a:latin typeface="Calibri"/>
                </a:rPr>
                <a:t>wū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18"/>
            <p:cNvSpPr/>
            <p:nvPr/>
          </p:nvSpPr>
          <p:spPr>
            <a:xfrm>
              <a:off x="611280" y="3335400"/>
              <a:ext cx="1928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1414"/>
                  </a:solidFill>
                  <a:latin typeface="宋体"/>
                </a:rPr>
                <a:t>jiào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18"/>
            <p:cNvSpPr/>
            <p:nvPr/>
          </p:nvSpPr>
          <p:spPr>
            <a:xfrm>
              <a:off x="3683160" y="3335400"/>
              <a:ext cx="14698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001414"/>
                  </a:solidFill>
                  <a:latin typeface="Calibri"/>
                </a:rPr>
                <a:t>chū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9"/>
            <p:cNvSpPr/>
            <p:nvPr/>
          </p:nvSpPr>
          <p:spPr>
            <a:xfrm>
              <a:off x="6826320" y="3263760"/>
              <a:ext cx="1407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001414"/>
                  </a:solidFill>
                  <a:latin typeface="方正姚体"/>
                  <a:ea typeface="方正姚体"/>
                </a:rPr>
                <a:t>bā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 Box 7"/>
          <p:cNvSpPr/>
          <p:nvPr/>
        </p:nvSpPr>
        <p:spPr>
          <a:xfrm>
            <a:off x="6754680" y="4478400"/>
            <a:ext cx="164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3300"/>
                </a:solidFill>
                <a:latin typeface="Calibri"/>
                <a:ea typeface="楷体_GB2312"/>
              </a:rPr>
              <a:t>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3"/>
          <p:cNvSpPr/>
          <p:nvPr/>
        </p:nvSpPr>
        <p:spPr>
          <a:xfrm>
            <a:off x="1187280" y="1628640"/>
            <a:ext cx="6842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0e03"/>
                </a:solidFill>
                <a:latin typeface="Arial"/>
              </a:rPr>
              <a:t>竹    桥         乱     跳        流水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0e03"/>
                </a:solidFill>
                <a:latin typeface="Arial"/>
              </a:rPr>
              <a:t>笑一笑         不 怕           尾  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10e03"/>
                </a:solidFill>
                <a:latin typeface="Arial"/>
              </a:rPr>
              <a:t>哗 哗笑       哇 哇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116000" y="1076400"/>
            <a:ext cx="6264360" cy="50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zhú  qi</a:t>
            </a:r>
            <a:r>
              <a:rPr b="1" lang="en-US" sz="3600" spc="-1" strike="noStrike">
                <a:solidFill>
                  <a:srgbClr val="001414"/>
                </a:solidFill>
                <a:latin typeface="宋体"/>
              </a:rPr>
              <a:t>á</a:t>
            </a: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o    lu</a:t>
            </a:r>
            <a:r>
              <a:rPr b="1" lang="en-US" sz="3600" spc="-1" strike="noStrike">
                <a:solidFill>
                  <a:srgbClr val="001414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n  ti</a:t>
            </a:r>
            <a:r>
              <a:rPr b="1" lang="en-US" sz="3600" spc="-1" strike="noStrike">
                <a:solidFill>
                  <a:srgbClr val="001414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o      liú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xi</a:t>
            </a:r>
            <a:r>
              <a:rPr b="1" lang="en-US" sz="3600" spc="-1" strike="noStrike">
                <a:solidFill>
                  <a:srgbClr val="001414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o                  p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</a:t>
            </a: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          wěi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1414"/>
                </a:solidFill>
                <a:latin typeface="Arial"/>
              </a:rPr>
              <a:t>hu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ā             w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6"/>
          <p:cNvSpPr/>
          <p:nvPr/>
        </p:nvSpPr>
        <p:spPr>
          <a:xfrm>
            <a:off x="0" y="573408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立不稳、站不牢，走到桥上心乱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复件 abc0093a"/>
          <p:cNvPicPr/>
          <p:nvPr/>
        </p:nvPicPr>
        <p:blipFill>
          <a:blip r:embed="rId1"/>
          <a:stretch/>
        </p:blipFill>
        <p:spPr>
          <a:xfrm>
            <a:off x="0" y="-458640"/>
            <a:ext cx="9144000" cy="5016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zq"/>
          <p:cNvPicPr/>
          <p:nvPr/>
        </p:nvPicPr>
        <p:blipFill>
          <a:blip r:embed="rId2"/>
          <a:stretch/>
        </p:blipFill>
        <p:spPr>
          <a:xfrm>
            <a:off x="1619280" y="3860640"/>
            <a:ext cx="6496200" cy="86364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2" descr="abc0241"/>
          <p:cNvPicPr/>
          <p:nvPr/>
        </p:nvPicPr>
        <p:blipFill>
          <a:blip r:embed="rId3"/>
          <a:stretch/>
        </p:blipFill>
        <p:spPr>
          <a:xfrm>
            <a:off x="2484360" y="2097000"/>
            <a:ext cx="1754280" cy="18367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3"/>
          <p:cNvSpPr/>
          <p:nvPr/>
        </p:nvSpPr>
        <p:spPr>
          <a:xfrm>
            <a:off x="0" y="4724280"/>
            <a:ext cx="936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竹桥、摇、摇、摇，有只小熊来过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0" dur="1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4" descr="abc0371"/>
          <p:cNvPicPr/>
          <p:nvPr/>
        </p:nvPicPr>
        <p:blipFill>
          <a:blip r:embed="rId1"/>
          <a:stretch/>
        </p:blipFill>
        <p:spPr>
          <a:xfrm>
            <a:off x="0" y="22320"/>
            <a:ext cx="9144000" cy="558144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5"/>
          <p:cNvSpPr/>
          <p:nvPr/>
        </p:nvSpPr>
        <p:spPr>
          <a:xfrm>
            <a:off x="179280" y="5734080"/>
            <a:ext cx="89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头上乌鸦哇哇叫，桥下流水哗哗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wy"/>
          <p:cNvPicPr/>
          <p:nvPr/>
        </p:nvPicPr>
        <p:blipFill>
          <a:blip r:embed="rId2"/>
          <a:stretch/>
        </p:blipFill>
        <p:spPr>
          <a:xfrm>
            <a:off x="8682120" y="836640"/>
            <a:ext cx="922320" cy="819000"/>
          </a:xfrm>
          <a:prstGeom prst="rect">
            <a:avLst/>
          </a:prstGeom>
          <a:ln w="0">
            <a:noFill/>
          </a:ln>
        </p:spPr>
      </p:pic>
      <p:pic>
        <p:nvPicPr>
          <p:cNvPr id="195" name="BOIL225.WAV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792000" cy="792360"/>
          </a:xfrm>
          <a:prstGeom prst="rect">
            <a:avLst/>
          </a:prstGeom>
          <a:ln w="0">
            <a:noFill/>
          </a:ln>
        </p:spPr>
      </p:pic>
      <p:pic>
        <p:nvPicPr>
          <p:cNvPr id="196" name="CROW225.WAV" descr=""/>
          <p:cNvPicPr/>
          <p:nvPr/>
        </p:nvPicPr>
        <p:blipFill>
          <a:blip r:embed="rId4"/>
          <a:stretch/>
        </p:blipFill>
        <p:spPr>
          <a:xfrm>
            <a:off x="8459640" y="260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61111E-006 -7.40741E-007 L -1 -7.40741E-007 E">
                                      <p:cBhvr>
                                        <p:cTn id="37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mediacall" presetID="1">
                                  <p:stCondLst>
                                    <p:cond delay="4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550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67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哪句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99640" y="1700280"/>
            <a:ext cx="5257800" cy="207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头上乌鸦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头 上乌鸦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哇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1332000" y="1773360"/>
            <a:ext cx="71280" cy="1657080"/>
          </a:xfrm>
          <a:custGeom>
            <a:avLst/>
            <a:gdLst>
              <a:gd name="textAreaLeft" fmla="*/ 45720 w 71280"/>
              <a:gd name="textAreaRight" fmla="*/ 71640 w 71280"/>
              <a:gd name="textAreaTop" fmla="*/ 43200 h 1657080"/>
              <a:gd name="textAreaBottom" fmla="*/ 1613880 h 165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10"/>
          <p:cNvGrpSpPr/>
          <p:nvPr/>
        </p:nvGrpSpPr>
        <p:grpSpPr>
          <a:xfrm>
            <a:off x="1332000" y="4005360"/>
            <a:ext cx="5616000" cy="1739880"/>
            <a:chOff x="1332000" y="4005360"/>
            <a:chExt cx="5616000" cy="1739880"/>
          </a:xfrm>
        </p:grpSpPr>
        <p:sp>
          <p:nvSpPr>
            <p:cNvPr id="201" name="AutoShape 5"/>
            <p:cNvSpPr/>
            <p:nvPr/>
          </p:nvSpPr>
          <p:spPr>
            <a:xfrm>
              <a:off x="1332000" y="4149720"/>
              <a:ext cx="70920" cy="1513080"/>
            </a:xfrm>
            <a:custGeom>
              <a:avLst/>
              <a:gdLst>
                <a:gd name="textAreaLeft" fmla="*/ 45360 w 70920"/>
                <a:gd name="textAreaRight" fmla="*/ 71280 w 70920"/>
                <a:gd name="textAreaTop" fmla="*/ 39240 h 1513080"/>
                <a:gd name="textAreaBottom" fmla="*/ 147384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799"/>
                  </a:cubicBezTo>
                  <a:lnTo>
                    <a:pt x="10800" y="9001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599"/>
                  </a:cubicBezTo>
                  <a:lnTo>
                    <a:pt x="10800" y="19801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8"/>
            <p:cNvSpPr/>
            <p:nvPr/>
          </p:nvSpPr>
          <p:spPr>
            <a:xfrm>
              <a:off x="1547640" y="4005360"/>
              <a:ext cx="5400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桥下流水笑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、 桥下流水</a:t>
              </a: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哗哗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</a:rPr>
                <a:t>笑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abc0371"/>
          <p:cNvPicPr/>
          <p:nvPr/>
        </p:nvPicPr>
        <p:blipFill>
          <a:blip r:embed="rId1"/>
          <a:stretch/>
        </p:blipFill>
        <p:spPr>
          <a:xfrm>
            <a:off x="0" y="22320"/>
            <a:ext cx="9144000" cy="558144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5180040" y="5589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头上乌鸦哇哇叫，桥下流水哗哗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4" descr="abc0093"/>
          <p:cNvPicPr/>
          <p:nvPr/>
        </p:nvPicPr>
        <p:blipFill>
          <a:blip r:embed="rId1"/>
          <a:stretch/>
        </p:blipFill>
        <p:spPr>
          <a:xfrm>
            <a:off x="0" y="1265400"/>
            <a:ext cx="9144000" cy="55926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y1"/>
          <p:cNvPicPr/>
          <p:nvPr/>
        </p:nvPicPr>
        <p:blipFill>
          <a:blip r:embed="rId2"/>
          <a:stretch/>
        </p:blipFill>
        <p:spPr>
          <a:xfrm>
            <a:off x="7075440" y="6813720"/>
            <a:ext cx="809640" cy="6015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y2"/>
          <p:cNvPicPr/>
          <p:nvPr/>
        </p:nvPicPr>
        <p:blipFill>
          <a:blip r:embed="rId3"/>
          <a:stretch/>
        </p:blipFill>
        <p:spPr>
          <a:xfrm>
            <a:off x="4645080" y="5661000"/>
            <a:ext cx="1511280" cy="1146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abc0241"/>
          <p:cNvPicPr/>
          <p:nvPr/>
        </p:nvPicPr>
        <p:blipFill>
          <a:blip r:embed="rId4"/>
          <a:stretch/>
        </p:blipFill>
        <p:spPr>
          <a:xfrm>
            <a:off x="2556000" y="4005360"/>
            <a:ext cx="1753920" cy="16207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6"/>
          <p:cNvSpPr/>
          <p:nvPr/>
        </p:nvSpPr>
        <p:spPr>
          <a:xfrm>
            <a:off x="2843280" y="1557360"/>
            <a:ext cx="4176720" cy="1440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1476360" y="26028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河里鲤鱼跳出水，对着小熊大声叫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2340000" y="2133720"/>
            <a:ext cx="511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小熊，小熊，不要怕，眼睛向着前面瞧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38889E-006 -3.7037E-007 C -0.02656 -0.09537 -0.05312 -0.19074 -0.08836 -0.21111 C -0.12361 -0.23148 -0.19305 -0.14259 -0.21163 -0.12222 C -0.2302 -0.10185 -0.2151 -0.09537 -0.2 -0.08889 E">
                                      <p:cBhvr>
                                        <p:cTn id="62" dur="2000" fill="hold"/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dur="indefinite" nodeType="after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abc0093"/>
          <p:cNvPicPr/>
          <p:nvPr/>
        </p:nvPicPr>
        <p:blipFill>
          <a:blip r:embed="rId1"/>
          <a:stretch/>
        </p:blipFill>
        <p:spPr>
          <a:xfrm>
            <a:off x="0" y="1265400"/>
            <a:ext cx="9144000" cy="55926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abc0241"/>
          <p:cNvPicPr/>
          <p:nvPr/>
        </p:nvPicPr>
        <p:blipFill>
          <a:blip r:embed="rId2"/>
          <a:stretch/>
        </p:blipFill>
        <p:spPr>
          <a:xfrm>
            <a:off x="2627280" y="3645000"/>
            <a:ext cx="1549440" cy="18716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abc0241a"/>
          <p:cNvPicPr/>
          <p:nvPr/>
        </p:nvPicPr>
        <p:blipFill>
          <a:blip r:embed="rId3"/>
          <a:stretch/>
        </p:blipFill>
        <p:spPr>
          <a:xfrm>
            <a:off x="7416720" y="3500280"/>
            <a:ext cx="1727280" cy="20876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y1"/>
          <p:cNvPicPr/>
          <p:nvPr/>
        </p:nvPicPr>
        <p:blipFill>
          <a:blip r:embed="rId4"/>
          <a:stretch/>
        </p:blipFill>
        <p:spPr>
          <a:xfrm>
            <a:off x="4716360" y="6021360"/>
            <a:ext cx="1386000" cy="103032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1"/>
          <p:cNvSpPr/>
          <p:nvPr/>
        </p:nvSpPr>
        <p:spPr>
          <a:xfrm>
            <a:off x="2124000" y="1268280"/>
            <a:ext cx="4319640" cy="15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1908000" y="549360"/>
            <a:ext cx="51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二三、向前跑，小熊过桥回头笑，鲤鱼乐得尾巴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61111E-006 -1.48148E-006 L 0.53542 -1.48148E-006 E">
                                      <p:cBhvr>
                                        <p:cTn id="78" dur="5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500"/>
                            </p:stCondLst>
                            <p:childTnLst>
                              <p:par>
                                <p:cTn id="86" dur="indefinite" nodeType="afterEffect" fill="hold" presetClass="entr" presetID="10" repeatCount="10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9T00:35:0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7T00:03:12Z</dcterms:modified>
  <cp:revision>6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