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49F0-526B-4169-B5E4-F3F3192335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FBB8-37E6-42AB-B1B1-C74936D798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C80-4F03-4D41-9CB3-684A60FD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4EA-8F6C-4616-91EA-3AFE1FFD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282-EED3-40E8-BF54-598FF96F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9E4-BC68-41F1-A2D6-2D183E57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D18-09C5-4E46-9B81-050939D6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70F-370E-45DF-B793-2BE96143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B1F-4FF0-4EF8-A91B-436CFA02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B4D-C34B-473B-AD1D-FD8018B6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553-7F0D-43F9-8114-3FE8379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52B-8FED-43AB-962C-DDDC8E3C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0F3-579F-4AAF-A300-0B12383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E7A-02A5-4924-8E71-F6C57088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3CD9-3B5E-431F-876C-7E958DD9A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ood.cfd.cc/details.htx&amp;type=mobile&amp;id=676993&amp;act_id=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600200" y="22161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小熊过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886200" y="83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094840" y="60199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熊心里非常害怕，这时候谁看见了？它们是怎么做的呢？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120" y="2209680"/>
            <a:ext cx="3124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小熊单独在桥上摇，再乌鸦飞出来，鲤鱼跳出来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419720" cy="3284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14400" y="458604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流水哗哗地响，它也好象在对小熊说话呢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14600" y="19810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上乌鸦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上乌鸦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哇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叫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桥下流水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桥下流水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哗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633840" y="341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乌鸦在叫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57520" y="5918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流水在笑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22856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熊在朋友的鼓励下，顺利地过了桥，把信送到了大象伯伯的手中。回到家后它把这件事告诉了妈妈。熊妈妈会怎样夸奖小熊呢？你觉得小熊是个怎样的孩子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38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（遇事不慌，勇敢向前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6806-ED3A-42BD-91BE-3B9FEFED11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1828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2971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本课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会诗歌所蕴涵的道理：遇事不要张慌，要勇敢向前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培养口语表达能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不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1201680" y="5370480"/>
            <a:ext cx="63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715000" y="167652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叫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486400" y="350532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61840" y="17524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757840" y="18288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4038480" y="457200"/>
            <a:ext cx="13716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学写字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14400" y="1312920"/>
            <a:ext cx="73152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40322181200804232359591682293735935_008_6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2280"/>
            <a:ext cx="7143840" cy="5353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00040" y="40381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就是故事的主人公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――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小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212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乱跳”你是怎样理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时小熊会想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用读把小熊的这种心情表达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 rot="5400000">
            <a:off x="-692280" y="182232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理解句子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301640" y="1219320"/>
            <a:ext cx="90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小竹桥，摇摇摇，有只小熊来过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立不稳，站不牢，走到桥上心乱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51:25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0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