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583D-9B1A-445E-810D-36B2A22F0D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AA0-126C-49B5-9CA1-CE2B2428EE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F22-D299-42CE-8C69-F1E09D3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7B1-9AD1-4054-BE0A-F4176CD8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C27-6334-4ED7-8929-82FF5717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F5D-5F7E-41D3-94C3-1B73C753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966-D37E-4F2B-9877-8DC39EC8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3E2-1994-433A-B462-384094B8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D2D-EB46-40C7-B19C-47CFF9D9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F5F-BE54-43B4-98A9-E0FB3DA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9FC-92F4-4B6C-8814-A3748819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981-96A9-43FB-AB71-DF70CEA6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091-7530-4076-BC1B-1F29B93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E04-6F05-4131-9D22-D9C067D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8D80-3C02-4F81-A08A-0369AFE43A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2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1.jpeg"/><Relationship Id="rId4" Type="http://schemas.openxmlformats.org/officeDocument/2006/relationships/hyperlink" Target="file:///G:/&#26032;&#24314;&#25991;&#20214;&#22841;/&#23567;&#28330;&#27969;&#30340;&#27468;/&#23567;&#27827;.ppt" TargetMode="External"/><Relationship Id="rId5" Type="http://schemas.openxmlformats.org/officeDocument/2006/relationships/hyperlink" Target="file:///G:/&#26032;&#24314;&#25991;&#20214;&#22841;/&#23567;&#28330;&#27969;&#30340;&#27468;/&#22823;&#27743;.ppt" TargetMode="External"/><Relationship Id="rId6" Type="http://schemas.openxmlformats.org/officeDocument/2006/relationships/hyperlink" Target="file:///G:/&#26032;&#24314;&#25991;&#20214;&#22841;/&#23567;&#28330;&#27969;&#30340;&#27468;/&#22823;&#28023;.ppt" TargetMode="External"/><Relationship Id="rId7" Type="http://schemas.openxmlformats.org/officeDocument/2006/relationships/image" Target="../media/image21.png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小溪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397160" y="112860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溪流的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 rot="1863000">
            <a:off x="2195280" y="5445000"/>
            <a:ext cx="450720" cy="622440"/>
          </a:xfrm>
          <a:custGeom>
            <a:avLst/>
            <a:gdLst>
              <a:gd name="textAreaLeft" fmla="*/ 185760 w 450720"/>
              <a:gd name="textAreaRight" fmla="*/ 264960 w 450720"/>
              <a:gd name="textAreaTop" fmla="*/ 256320 h 622440"/>
              <a:gd name="textAreaBottom" fmla="*/ 36612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/>
          <p:cNvSpPr/>
          <p:nvPr/>
        </p:nvSpPr>
        <p:spPr>
          <a:xfrm rot="4582200">
            <a:off x="4983120" y="1992240"/>
            <a:ext cx="68904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 rot="4582200">
            <a:off x="2752560" y="4743360"/>
            <a:ext cx="685800" cy="5047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 rot="1970400">
            <a:off x="3924000" y="621036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 rot="3673800">
            <a:off x="4138920" y="3788280"/>
            <a:ext cx="504720" cy="360360"/>
          </a:xfrm>
          <a:custGeom>
            <a:avLst/>
            <a:gdLst>
              <a:gd name="textAreaLeft" fmla="*/ 186840 w 504720"/>
              <a:gd name="textAreaRight" fmla="*/ 317880 w 504720"/>
              <a:gd name="textAreaTop" fmla="*/ 133200 h 360360"/>
              <a:gd name="textAreaBottom" fmla="*/ 227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92" y="7992"/>
                </a:lnTo>
                <a:lnTo>
                  <a:pt x="10800" y="0"/>
                </a:lnTo>
                <a:lnTo>
                  <a:pt x="13608" y="7992"/>
                </a:lnTo>
                <a:lnTo>
                  <a:pt x="21600" y="10800"/>
                </a:lnTo>
                <a:lnTo>
                  <a:pt x="13608" y="13608"/>
                </a:lnTo>
                <a:lnTo>
                  <a:pt x="10800" y="21600"/>
                </a:lnTo>
                <a:lnTo>
                  <a:pt x="7992" y="13608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 rot="744000">
            <a:off x="2771280" y="5733720"/>
            <a:ext cx="576360" cy="772920"/>
          </a:xfrm>
          <a:custGeom>
            <a:avLst/>
            <a:gdLst>
              <a:gd name="textAreaLeft" fmla="*/ 237600 w 576360"/>
              <a:gd name="textAreaRight" fmla="*/ 338760 w 576360"/>
              <a:gd name="textAreaTop" fmla="*/ 318600 h 772920"/>
              <a:gd name="textAreaBottom" fmla="*/ 454320 h 77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1116000" y="5373720"/>
            <a:ext cx="792000" cy="430200"/>
          </a:xfrm>
          <a:custGeom>
            <a:avLst/>
            <a:gdLst/>
            <a:ahLst/>
            <a:rect l="l" t="t" r="r" b="b"/>
            <a:pathLst>
              <a:path w="792162" h="430212">
                <a:moveTo>
                  <a:pt x="0" y="164326"/>
                </a:moveTo>
                <a:lnTo>
                  <a:pt x="302580" y="164327"/>
                </a:lnTo>
                <a:lnTo>
                  <a:pt x="396081" y="0"/>
                </a:lnTo>
                <a:lnTo>
                  <a:pt x="489581" y="164327"/>
                </a:lnTo>
                <a:lnTo>
                  <a:pt x="792161" y="164326"/>
                </a:lnTo>
                <a:lnTo>
                  <a:pt x="547368" y="265884"/>
                </a:lnTo>
                <a:lnTo>
                  <a:pt x="640872" y="430211"/>
                </a:lnTo>
                <a:lnTo>
                  <a:pt x="396081" y="328650"/>
                </a:lnTo>
                <a:lnTo>
                  <a:pt x="151290" y="430211"/>
                </a:lnTo>
                <a:lnTo>
                  <a:pt x="244794" y="2658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29918_1076_990.mp3" descr=""/>
          <p:cNvPicPr/>
          <p:nvPr/>
        </p:nvPicPr>
        <p:blipFill>
          <a:blip r:embed="rId2"/>
          <a:stretch/>
        </p:blipFill>
        <p:spPr>
          <a:xfrm>
            <a:off x="611280" y="6021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矩形 12"/>
          <p:cNvSpPr/>
          <p:nvPr/>
        </p:nvSpPr>
        <p:spPr>
          <a:xfrm>
            <a:off x="1775880" y="5678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48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小河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bird057"/>
          <p:cNvPicPr/>
          <p:nvPr/>
        </p:nvPicPr>
        <p:blipFill>
          <a:blip r:embed="rId2"/>
          <a:stretch/>
        </p:blipFill>
        <p:spPr>
          <a:xfrm>
            <a:off x="611280" y="404640"/>
            <a:ext cx="971280" cy="4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ird057"/>
          <p:cNvPicPr/>
          <p:nvPr/>
        </p:nvPicPr>
        <p:blipFill>
          <a:blip r:embed="rId3"/>
          <a:stretch/>
        </p:blipFill>
        <p:spPr>
          <a:xfrm>
            <a:off x="395280" y="3500280"/>
            <a:ext cx="971640" cy="4669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1692360" y="0"/>
            <a:ext cx="5111640" cy="2997360"/>
          </a:xfrm>
          <a:prstGeom prst="cloudCallout">
            <a:avLst>
              <a:gd name="adj1" fmla="val -26023"/>
              <a:gd name="adj2" fmla="val 14051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268360" y="54936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为什么？我可不想停留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huangtaiyang"/>
          <p:cNvPicPr/>
          <p:nvPr/>
        </p:nvPicPr>
        <p:blipFill>
          <a:blip r:embed="rId4"/>
          <a:stretch/>
        </p:blipFill>
        <p:spPr>
          <a:xfrm>
            <a:off x="8028000" y="0"/>
            <a:ext cx="736560" cy="65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bird057"/>
          <p:cNvPicPr/>
          <p:nvPr/>
        </p:nvPicPr>
        <p:blipFill>
          <a:blip r:embed="rId5"/>
          <a:stretch/>
        </p:blipFill>
        <p:spPr>
          <a:xfrm>
            <a:off x="7308720" y="1989000"/>
            <a:ext cx="9716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大江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1403280" y="0"/>
            <a:ext cx="6121440" cy="2536920"/>
          </a:xfrm>
          <a:prstGeom prst="cloudCallout">
            <a:avLst>
              <a:gd name="adj1" fmla="val 48652"/>
              <a:gd name="adj2" fmla="val 9236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bird057"/>
          <p:cNvPicPr/>
          <p:nvPr/>
        </p:nvPicPr>
        <p:blipFill>
          <a:blip r:embed="rId2"/>
          <a:stretch/>
        </p:blipFill>
        <p:spPr>
          <a:xfrm>
            <a:off x="3564000" y="3284640"/>
            <a:ext cx="828720" cy="39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ird057"/>
          <p:cNvPicPr/>
          <p:nvPr/>
        </p:nvPicPr>
        <p:blipFill>
          <a:blip r:embed="rId3"/>
          <a:stretch/>
        </p:blipFill>
        <p:spPr>
          <a:xfrm>
            <a:off x="8136000" y="3141720"/>
            <a:ext cx="1008000" cy="482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2556000" y="69228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不，我不能停留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大海"/>
          <p:cNvPicPr/>
          <p:nvPr/>
        </p:nvPicPr>
        <p:blipFill>
          <a:blip r:embed="rId1"/>
          <a:stretch/>
        </p:blipFill>
        <p:spPr>
          <a:xfrm>
            <a:off x="-181080" y="-23760"/>
            <a:ext cx="11844360" cy="688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ird057"/>
          <p:cNvPicPr/>
          <p:nvPr/>
        </p:nvPicPr>
        <p:blipFill>
          <a:blip r:embed="rId2"/>
          <a:stretch/>
        </p:blipFill>
        <p:spPr>
          <a:xfrm>
            <a:off x="4140360" y="4273560"/>
            <a:ext cx="2232000" cy="107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bird057"/>
          <p:cNvPicPr/>
          <p:nvPr/>
        </p:nvPicPr>
        <p:blipFill>
          <a:blip r:embed="rId3"/>
          <a:stretch/>
        </p:blipFill>
        <p:spPr>
          <a:xfrm>
            <a:off x="826920" y="1268280"/>
            <a:ext cx="1258920" cy="56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bird057"/>
          <p:cNvPicPr/>
          <p:nvPr/>
        </p:nvPicPr>
        <p:blipFill>
          <a:blip r:embed="rId4"/>
          <a:stretch/>
        </p:blipFill>
        <p:spPr>
          <a:xfrm>
            <a:off x="8244000" y="692280"/>
            <a:ext cx="133164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2916360" y="0"/>
            <a:ext cx="5545080" cy="3672000"/>
          </a:xfrm>
          <a:prstGeom prst="cloudCallout">
            <a:avLst>
              <a:gd name="adj1" fmla="val -31476"/>
              <a:gd name="adj2" fmla="val 8190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067280" y="1052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休息？那可不成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小溪流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1012680"/>
            <a:ext cx="9144000" cy="5845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39640" y="26028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彩云"/>
                <a:ea typeface="华文彩云"/>
              </a:rPr>
              <a:t>问题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075200" y="260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小溪流的歌声有什么特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55640" y="1844640"/>
          <a:ext cx="6985080" cy="2692440"/>
        </p:xfrm>
        <a:graphic>
          <a:graphicData uri="http://schemas.openxmlformats.org/drawingml/2006/table">
            <a:tbl>
              <a:tblPr/>
              <a:tblGrid>
                <a:gridCol w="3600360"/>
                <a:gridCol w="3384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歌声特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力量表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AutoShape 18"/>
          <p:cNvSpPr/>
          <p:nvPr/>
        </p:nvSpPr>
        <p:spPr>
          <a:xfrm>
            <a:off x="1332000" y="5084640"/>
            <a:ext cx="2089080" cy="1150920"/>
          </a:xfrm>
          <a:prstGeom prst="cloudCallout">
            <a:avLst>
              <a:gd name="adj1" fmla="val 91259"/>
              <a:gd name="adj2" fmla="val 5013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69236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幼圆"/>
                <a:ea typeface="幼圆"/>
              </a:rPr>
              <a:t>小溪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224000" y="2781360"/>
            <a:ext cx="3924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哼哼唱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清亮的嗓子歌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716360" y="27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推着小树枝打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冲过石块的阻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大江"/>
          <p:cNvPicPr/>
          <p:nvPr/>
        </p:nvPicPr>
        <p:blipFill>
          <a:blip r:embed="rId1"/>
          <a:stretch/>
        </p:blipFill>
        <p:spPr>
          <a:xfrm>
            <a:off x="0" y="0"/>
            <a:ext cx="9612360" cy="690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79280" y="333360"/>
          <a:ext cx="7129440" cy="2016000"/>
        </p:xfrm>
        <a:graphic>
          <a:graphicData uri="http://schemas.openxmlformats.org/drawingml/2006/table">
            <a:tbl>
              <a:tblPr/>
              <a:tblGrid>
                <a:gridCol w="3862440"/>
                <a:gridCol w="3267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歌声特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  </a:t>
                      </a:r>
                      <a:r>
                        <a:rPr b="1" lang="zh-CN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力量表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幼圆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AutoShape 16"/>
          <p:cNvSpPr/>
          <p:nvPr/>
        </p:nvSpPr>
        <p:spPr>
          <a:xfrm>
            <a:off x="1403280" y="5084640"/>
            <a:ext cx="1656000" cy="863640"/>
          </a:xfrm>
          <a:prstGeom prst="cloudCallout">
            <a:avLst>
              <a:gd name="adj1" fmla="val -99856"/>
              <a:gd name="adj2" fmla="val 88236"/>
            </a:avLst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76364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大 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611280" y="1125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低声吟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洪亮而低沉地向他们打招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284720" y="12384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掀起汹涌的波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托起庞大的轮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大海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10333080" cy="688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250920" y="404640"/>
          <a:ext cx="7273800" cy="2160720"/>
        </p:xfrm>
        <a:graphic>
          <a:graphicData uri="http://schemas.openxmlformats.org/drawingml/2006/table">
            <a:tbl>
              <a:tblPr/>
              <a:tblGrid>
                <a:gridCol w="2390760"/>
                <a:gridCol w="48830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歌声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          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力量表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幼圆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AutoShape 27"/>
          <p:cNvSpPr/>
          <p:nvPr/>
        </p:nvSpPr>
        <p:spPr>
          <a:xfrm>
            <a:off x="3132000" y="4005360"/>
            <a:ext cx="2087640" cy="1152360"/>
          </a:xfrm>
          <a:prstGeom prst="cloudCallout">
            <a:avLst>
              <a:gd name="adj1" fmla="val -50305"/>
              <a:gd name="adj2" fmla="val -10977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大 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39640" y="1338120"/>
            <a:ext cx="180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强烈地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四方欢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132000" y="1341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不断地 涌起来，向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前，向着四面八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小河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868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大江"/>
          <p:cNvPicPr/>
          <p:nvPr/>
        </p:nvPicPr>
        <p:blipFill>
          <a:blip r:embed="rId2"/>
          <a:stretch/>
        </p:blipFill>
        <p:spPr>
          <a:xfrm>
            <a:off x="0" y="3882960"/>
            <a:ext cx="4643280" cy="2975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大海"/>
          <p:cNvPicPr/>
          <p:nvPr/>
        </p:nvPicPr>
        <p:blipFill>
          <a:blip r:embed="rId3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788000" y="333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溪流的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788000" y="314172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小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484360" y="52293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大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236000" y="436572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大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79280" y="1268280"/>
            <a:ext cx="44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幼圆"/>
              </a:rPr>
              <a:t>小溪流的成长过程作出了什么贡献，什么变了，什么没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gm58.mid" descr=""/>
          <p:cNvPicPr/>
          <p:nvPr/>
        </p:nvPicPr>
        <p:blipFill>
          <a:blip r:embed="rId7"/>
          <a:stretch/>
        </p:blipFill>
        <p:spPr>
          <a:xfrm>
            <a:off x="8459640" y="2492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1"/>
          <p:cNvSpPr txBox="1"/>
          <p:nvPr/>
        </p:nvSpPr>
        <p:spPr>
          <a:xfrm>
            <a:off x="324000" y="0"/>
            <a:ext cx="1871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0" name="Picture 12" descr="bird057"/>
          <p:cNvPicPr/>
          <p:nvPr/>
        </p:nvPicPr>
        <p:blipFill>
          <a:blip r:embed="rId8"/>
          <a:stretch/>
        </p:blipFill>
        <p:spPr>
          <a:xfrm>
            <a:off x="6588000" y="4602240"/>
            <a:ext cx="636840" cy="304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bird057"/>
          <p:cNvPicPr/>
          <p:nvPr/>
        </p:nvPicPr>
        <p:blipFill>
          <a:blip r:embed="rId9"/>
          <a:stretch/>
        </p:blipFill>
        <p:spPr>
          <a:xfrm>
            <a:off x="2700360" y="43657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bird057"/>
          <p:cNvPicPr/>
          <p:nvPr/>
        </p:nvPicPr>
        <p:blipFill>
          <a:blip r:embed="rId10"/>
          <a:stretch/>
        </p:blipFill>
        <p:spPr>
          <a:xfrm>
            <a:off x="7391520" y="476280"/>
            <a:ext cx="63648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5">
            <a:hlinkClick r:id="rId11" action="ppaction://hlinksldjump"/>
          </p:cNvPr>
          <p:cNvSpPr/>
          <p:nvPr/>
        </p:nvSpPr>
        <p:spPr>
          <a:xfrm>
            <a:off x="67327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9435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7590" y="3794"/>
                </a:lnTo>
                <a:lnTo>
                  <a:pt x="7590" y="17806"/>
                </a:lnTo>
                <a:lnTo>
                  <a:pt x="592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6">
            <a:hlinkClick r:id="" action="ppaction://hlinkshowjump?jump=las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6444" y="10800"/>
                </a:moveTo>
                <a:lnTo>
                  <a:pt x="5938" y="17806"/>
                </a:lnTo>
                <a:lnTo>
                  <a:pt x="5938" y="3794"/>
                </a:lnTo>
                <a:close/>
              </a:path>
              <a:path fill="darken" w="25890" h="21600">
                <a:moveTo>
                  <a:pt x="18289" y="3794"/>
                </a:moveTo>
                <a:lnTo>
                  <a:pt x="18289" y="17806"/>
                </a:lnTo>
                <a:lnTo>
                  <a:pt x="19951" y="17806"/>
                </a:lnTo>
                <a:lnTo>
                  <a:pt x="19951" y="379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7">
            <a:hlinkClick r:id="" action="ppaction://hlinkshowjump?jump=nextslide"/>
          </p:cNvPr>
          <p:cNvSpPr/>
          <p:nvPr/>
        </p:nvSpPr>
        <p:spPr>
          <a:xfrm>
            <a:off x="79567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8">
            <a:hlinkClick r:id="" action="ppaction://hlinkshowjump?jump=previousslide"/>
          </p:cNvPr>
          <p:cNvSpPr/>
          <p:nvPr/>
        </p:nvSpPr>
        <p:spPr>
          <a:xfrm>
            <a:off x="7308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318919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小溪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5"/>
          <p:cNvSpPr txBox="1"/>
          <p:nvPr/>
        </p:nvSpPr>
        <p:spPr>
          <a:xfrm>
            <a:off x="611280" y="404640"/>
            <a:ext cx="1512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贡献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24000" y="141300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转动水磨→推动发电机等→掀起波涛，托起沉船，不感觉负担等→为人类做了无数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539640" y="3068640"/>
            <a:ext cx="1513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变化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68360" y="3860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a009a"/>
                </a:solidFill>
                <a:latin typeface="Times New Roman"/>
                <a:ea typeface="幼圆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幼圆"/>
              </a:rPr>
              <a:t>小溪流的声音变了，所遇阻碍变了，对人类所作贡献变了； 对阻碍的回答没变 ，为人类作贡献的精神没变，一直向前奔流的决心没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小溪流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5"/>
          <p:cNvSpPr txBox="1"/>
          <p:nvPr/>
        </p:nvSpPr>
        <p:spPr>
          <a:xfrm>
            <a:off x="0" y="189000"/>
            <a:ext cx="25560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86" name="Picture 6" descr="huangtaiyang"/>
          <p:cNvPicPr/>
          <p:nvPr/>
        </p:nvPicPr>
        <p:blipFill>
          <a:blip r:embed="rId4"/>
          <a:stretch/>
        </p:blipFill>
        <p:spPr>
          <a:xfrm>
            <a:off x="3564000" y="0"/>
            <a:ext cx="102564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4572000" y="33336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小溪流唱的什么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84360" y="1197000"/>
            <a:ext cx="82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不知疲倦，永不停留，向前奔流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文本框 1"/>
          <p:cNvSpPr/>
          <p:nvPr/>
        </p:nvSpPr>
        <p:spPr>
          <a:xfrm>
            <a:off x="0" y="581040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22A-193A-4353-9EDC-E444B02C97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404640"/>
            <a:ext cx="388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严文井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原名严文锦。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191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年出生。著有散文集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严文井散文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童话集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南南和胡子伯伯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长篇小说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个人的烦恼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等。严文井的童话具有崭新的社会内容，睿智、隽永，富有哲理，饱含激情，风格清新，语言优美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f1b631e385951236f3b48713314cd479"/>
          <p:cNvPicPr/>
          <p:nvPr/>
        </p:nvPicPr>
        <p:blipFill>
          <a:blip r:embed="rId2"/>
          <a:stretch/>
        </p:blipFill>
        <p:spPr>
          <a:xfrm>
            <a:off x="4643280" y="189000"/>
            <a:ext cx="42530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11280" y="1197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牢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979640" y="112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356000" y="119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971640" y="1989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356000" y="191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39640" y="27813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低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28472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39640" y="35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84720" y="35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泡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3964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284720" y="4292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39640" y="5084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84720" y="508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867280" y="1268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1979640" y="1916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5940360" y="19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08000" y="278136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5940360" y="278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190800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012000" y="3573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1763640" y="4292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5940360" y="4365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1763640" y="5157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5867280" y="5157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468360" y="26028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下列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0"/>
          <p:cNvSpPr/>
          <p:nvPr/>
        </p:nvSpPr>
        <p:spPr>
          <a:xfrm flipV="1" rot="10893600">
            <a:off x="539280" y="198828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大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358360" y="692280"/>
            <a:ext cx="4143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听读课文，整体感知。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、小溪流为什么能唱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、理清课文结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（小溪流是怎样成长壮大的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小溪→      →       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66ff66"/>
                </a:solidFill>
                <a:latin typeface="Times New Roman"/>
              </a:rPr>
              <a:t>枯树桩、枯黄的草→    →     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溪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39640" y="1214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幼圆"/>
                <a:ea typeface="幼圆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、小溪流为什么能唱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42920" y="2205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①</a:t>
            </a:r>
            <a:r>
              <a:rPr b="1" lang="zh-CN" sz="4000" spc="-1" strike="noStrike">
                <a:solidFill>
                  <a:srgbClr val="000099"/>
                </a:solidFill>
                <a:latin typeface="幼圆"/>
                <a:ea typeface="幼圆"/>
              </a:rPr>
              <a:t>体裁：童话，通篇采用拟人化的手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80160" y="3867120"/>
            <a:ext cx="408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用丰富的想象，表现小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流水流的声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6"/>
          <p:cNvSpPr/>
          <p:nvPr/>
        </p:nvSpPr>
        <p:spPr>
          <a:xfrm>
            <a:off x="1332000" y="1341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幼圆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、请补全下列两题的空白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1224000" y="306864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①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小溪  →        →        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②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枯树桩、枯黄的草→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幼圆"/>
              </a:rPr>
              <a:t>    →          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3781440" y="3068640"/>
            <a:ext cx="57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小河    大江     海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30200" y="372600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乌鸦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泥沙        沉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小溪流"/>
          <p:cNvPicPr/>
          <p:nvPr/>
        </p:nvPicPr>
        <p:blipFill>
          <a:blip r:embed="rId1"/>
          <a:stretch/>
        </p:blipFill>
        <p:spPr>
          <a:xfrm>
            <a:off x="0" y="0"/>
            <a:ext cx="4140360" cy="334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小河"/>
          <p:cNvPicPr/>
          <p:nvPr/>
        </p:nvPicPr>
        <p:blipFill>
          <a:blip r:embed="rId2"/>
          <a:stretch/>
        </p:blipFill>
        <p:spPr>
          <a:xfrm>
            <a:off x="4643280" y="-7920"/>
            <a:ext cx="450072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大江"/>
          <p:cNvPicPr/>
          <p:nvPr/>
        </p:nvPicPr>
        <p:blipFill>
          <a:blip r:embed="rId3"/>
          <a:stretch/>
        </p:blipFill>
        <p:spPr>
          <a:xfrm>
            <a:off x="0" y="3882960"/>
            <a:ext cx="4140360" cy="297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大海"/>
          <p:cNvPicPr/>
          <p:nvPr/>
        </p:nvPicPr>
        <p:blipFill>
          <a:blip r:embed="rId4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059280" y="328464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幼圆"/>
              </a:rPr>
              <a:t>小溪流的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0920" y="333360"/>
            <a:ext cx="331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小溪流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枯树桩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              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枯黄的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651640" y="404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小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乌鸦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3964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大江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泥 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093080" y="6093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幼圆"/>
              </a:rPr>
              <a:t>大海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幼圆"/>
              </a:rPr>
              <a:t>沉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huangtaiyang"/>
          <p:cNvPicPr/>
          <p:nvPr/>
        </p:nvPicPr>
        <p:blipFill>
          <a:blip r:embed="rId5"/>
          <a:stretch/>
        </p:blipFill>
        <p:spPr>
          <a:xfrm>
            <a:off x="3780000" y="0"/>
            <a:ext cx="158400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92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92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192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192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未命名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087640" y="1052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、从文中找出小溪流受到阻碍时表明自己的志向和决心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24000" y="2492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、小溪流的歌声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24000" y="3357720"/>
          <a:ext cx="6048360" cy="2595240"/>
        </p:xfrm>
        <a:graphic>
          <a:graphicData uri="http://schemas.openxmlformats.org/drawingml/2006/table">
            <a:tbl>
              <a:tblPr/>
              <a:tblGrid>
                <a:gridCol w="2016000"/>
                <a:gridCol w="2016360"/>
                <a:gridCol w="2016000"/>
              </a:tblGrid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成长阶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歌声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力量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75"/>
          <p:cNvSpPr/>
          <p:nvPr/>
        </p:nvSpPr>
        <p:spPr>
          <a:xfrm>
            <a:off x="2849760" y="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读课文，合作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溪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1763640" y="333360"/>
            <a:ext cx="5256360" cy="2590920"/>
          </a:xfrm>
          <a:prstGeom prst="cloudCallout">
            <a:avLst>
              <a:gd name="adj1" fmla="val -40333"/>
              <a:gd name="adj2" fmla="val 15655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340000" y="836640"/>
            <a:ext cx="468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为什么呀？我可不想停留！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/>
          <p:cNvSpPr/>
          <p:nvPr/>
        </p:nvSpPr>
        <p:spPr>
          <a:xfrm rot="1970400">
            <a:off x="3924000" y="621036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 rot="1970400">
            <a:off x="4543200" y="3774600"/>
            <a:ext cx="204480" cy="322200"/>
          </a:xfrm>
          <a:custGeom>
            <a:avLst/>
            <a:gdLst>
              <a:gd name="textAreaLeft" fmla="*/ 84240 w 204480"/>
              <a:gd name="textAreaRight" fmla="*/ 120240 w 204480"/>
              <a:gd name="textAreaTop" fmla="*/ 132840 h 322200"/>
              <a:gd name="textAreaBottom" fmla="*/ 189360 h 322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 rot="4582200">
            <a:off x="2752560" y="4743360"/>
            <a:ext cx="685800" cy="5047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8"/>
          <p:cNvSpPr/>
          <p:nvPr/>
        </p:nvSpPr>
        <p:spPr>
          <a:xfrm rot="4582200">
            <a:off x="1699560" y="5281560"/>
            <a:ext cx="400320" cy="215640"/>
          </a:xfrm>
          <a:custGeom>
            <a:avLst/>
            <a:gdLst>
              <a:gd name="textAreaLeft" fmla="*/ 164880 w 400320"/>
              <a:gd name="textAreaRight" fmla="*/ 235440 w 40032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9"/>
          <p:cNvSpPr/>
          <p:nvPr/>
        </p:nvSpPr>
        <p:spPr>
          <a:xfrm rot="1970400">
            <a:off x="2266560" y="5877000"/>
            <a:ext cx="576360" cy="647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huangtaiyang"/>
          <p:cNvPicPr/>
          <p:nvPr/>
        </p:nvPicPr>
        <p:blipFill>
          <a:blip r:embed="rId2"/>
          <a:stretch/>
        </p:blipFill>
        <p:spPr>
          <a:xfrm>
            <a:off x="324000" y="333360"/>
            <a:ext cx="8809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15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115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115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10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10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5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2:48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