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E58-9168-4D95-85A9-E5AB75B330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672-2359-420D-BDA8-3DE351D9CF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CF8-3BF0-47B9-8C8F-0DC0AEB9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23B-9565-4107-B7A4-2294FAB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A8C2-F6A7-4CCD-B260-AA7AC56A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00E99-B857-4552-A04F-58A0B37E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EC39-4421-4112-9A35-6622849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01772-BFEE-4965-BC93-91CDD2B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8CBC3-6EDB-405C-A6D1-92326B9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73534-09D6-47CC-A4CD-CB23872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7A3EF-4F47-4B8F-88EC-DF7FCA2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B9D6F-BE96-4EB5-9676-74D54AD1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6EE04-D69F-411E-86B8-BA27F095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2096-EB32-4B3D-B8EE-FE31756F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790-AC3B-4E68-9307-F793F3C6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16C02-34DE-43D6-8549-A141535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E4E8F-8F85-46B9-81F4-472309FE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3B67-F4B4-4EC8-ADE8-5359ABB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3A379-FBD8-44B1-8057-99D6BE1B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DF91E-5380-44AB-8AFB-BCE4FEE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F010-8734-40CB-A5F0-4BBD973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EA65F-AD31-4FE6-AB60-B7B7B11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6EDA-AFBD-4FCD-B618-ECD0F9E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4EBF3-76B3-4901-A299-E4EDD10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861EA-8763-4713-A7BF-0CE4A004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9B4-FE88-4350-9CF5-EE6F3D0D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D1701-AFF0-4053-984D-831B707E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061B-64EF-4E30-89B4-A0ABA202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F1BC-EED6-42C2-98DA-C5152D49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E078-643F-4F5B-A4F7-15520A7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3F13C-17E4-4D0E-BAA0-FFEA8B7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8C134-FBC6-4925-B711-91FA45E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6FB0-74B4-4239-B932-9529A51F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811C-A0C7-4B76-A329-EFBE683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7588B-F2A6-4D89-A048-027B9BF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CDF36-0698-4287-92AE-16EF5B5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CFF-7A0A-4763-8751-80957126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7CDB0-7977-4EBE-B14F-70B65FA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8204-C305-45E6-9F48-C32B118E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9F832-4C38-4B07-BF73-CD5450BE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6AC84-45D2-4F57-80B0-F1978FEC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A806B-30CD-4A73-A43B-9D5270A6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5C19C-1835-4375-9C0D-9CCA7A1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1B0FE-55A6-41E6-B603-926A245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AA203-17AE-4A87-9C0F-A4CAE0E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C4A20-F349-41B6-A23B-C43D46C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6CC14-50BA-4EB5-AF1D-3F84D747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578-388C-4A65-978C-A608116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AB960-4C92-41EC-98CD-5E9AEDF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B5E3A-A1BD-4B5B-93F1-D851734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38583-EAE6-4E93-9062-B60127B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41889-39FA-46CB-9E4A-8530CF9D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BCC01-C2F3-48A0-A66C-8C2FA86B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84E51-2360-48F3-8999-F5CA4139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1DE8-A262-44AE-9B9A-3619052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7C45A-114D-4518-B24D-FCE4FBF1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B2F99-4E8A-41DB-A647-96AB512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B35B0-6C45-438F-91EF-8EB3240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9E8-6EE0-4817-B54B-0C40B1E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2AF41-504A-481C-8A9D-5F45CFA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872F8-9017-47EA-BB43-717609E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37243-975D-4AF0-BED5-F5AACF8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2F288-017D-4CFF-B55E-6DAD3C3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452A6-1147-487C-904A-ACEB06CC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836C9-252C-42D0-B75D-D8F5DF1B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26045-5F03-4937-BE37-5DF8E264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4449-1B93-4634-BB59-70DF782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36F-5BB3-4B69-9E41-34D7DBB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7277-4D70-4869-BE2A-7D1A4DCF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0993-787A-4976-A618-E73CF5F3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6E2-050F-43D4-B4D0-718FD9AC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6DF7-7333-4679-889E-A2DED06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A29A-DD04-45FD-AE2F-4207BB3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05BF-0A4B-42D5-8F16-5B2859A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F792-6A01-4F68-B381-177766F5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934E-6106-49CF-9D9B-25FECA12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C051-4257-4C5B-8154-DD618395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A808-074C-4292-BC3F-516392B8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DB57-F2C8-4BB6-87C9-98762F6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4055-C879-42FD-8ACC-5FF32FC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5355-41CC-489F-A274-B70D68EC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EEE-02B9-476C-8F65-B967840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0AFE-7CDD-4072-96B7-573A4B5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2448-2271-4E18-8648-6101EA1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E32B-C3B6-468E-AF8B-7727E3E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0CFC-98E2-4B80-86F6-708785AC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152F-E223-42C3-81C1-58E50747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4038-6ECA-4557-861D-F4804EE3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14F9-0690-45E9-9FCF-92DCCFC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6CC9-7412-4913-B776-F8F698B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F378-AA56-4637-A5B4-4472784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672C-43EF-49C8-9267-0C284C6B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07B-B918-423F-B850-0E3512A2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39E8-B392-4D6B-B7CA-185419D6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30F0-DB17-4955-B9D2-31C14414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62C7-14CC-4BA1-8B16-8CDB7C8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A3C3-71E1-4AA6-AF5D-4D72739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6E46-7D39-406B-B62D-438DD57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2A98-BFEF-4288-9B57-2D4F56C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C109-55EB-4990-9BBF-F04F7D0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8F98-D94E-4284-8BD8-92B2B21C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FDF3-A557-455F-A284-CC985C6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60EB-19EF-4AF7-B84D-180FD99D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57C-3F70-4852-83E3-4A8B53E3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FC11-7979-43A0-91BD-50FABBA1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1FDF-1C1E-45C1-A012-C7AA81F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90B6-12F4-4C35-AB35-CABBD02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57E2-62EC-4367-8724-3A0187C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4331-51CC-4631-8A4A-D013BAB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4CA5-CCE5-44E8-BE1C-F97AA65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F786-8BAC-4673-9EBC-71004A1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5EA6-C409-47B4-A0DC-065DA35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4D37-327B-4E44-B654-E7506A59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9C15-CFF7-4822-97A8-49BA7A08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1DA-E364-47BF-98E9-A20D465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961F-8F6D-4EF6-922E-A503CA7E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F9FF-8189-42A3-A235-A7D9BA6A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CAF7-0F7D-4017-A30B-13DEE5B1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74AC-E2A4-4BB3-B1E5-0DAB66C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9FE4-24F8-4ED1-9F5E-45C93807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241B-6A7B-4918-B334-826004F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959E-3699-4D60-BAA3-D25472E6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70997-44BB-412C-A892-5B7F1B4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85D5-8A77-481E-8C2F-415885C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7D3D-6B38-4204-AA92-02C4FF6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DC5-42B4-4D19-8E3E-ACD1D837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4D62-61E8-4977-B5C4-1F892BBA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ACF0-928E-4444-A24D-1ED2B81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3AAE-231E-4765-9BD6-EF70B54E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3544-AAC1-429E-8BA3-D6DA9423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E7FC-2376-488F-BCFB-030D576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4003-1C88-431A-810C-D2AA265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EF03C-0200-4C2F-95EE-7C95FD29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220F-124C-416C-BCEA-195F7F1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D6B8-4DB5-41B7-9EDF-3F69134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124A-7840-4E8A-9328-289C9C4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932-F3B0-4733-8118-30A4336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28CB-24C6-4776-A17C-093872F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4933-C63F-457F-9404-E4BAC8C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AA56-3A41-4855-ACBD-77FE3A1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D00F-FF24-4B21-A555-0CBE1EC5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A2B0-6D45-4276-884C-9FF4417B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7110-A5B1-497B-9D93-74808448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27C5-BED4-4A3C-94EC-D614F16F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7F10-E092-42F1-883D-85CE180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61D8-F8EE-4B84-A3BC-C6CB475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3509-5986-4CE7-B835-88EF102C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14-737F-4D68-9B2F-C29E4AD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EFCF-7F26-4DAD-AF98-F723D5B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B4A7F-00A5-4280-A23E-635FC17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6642-2895-4F47-B483-71783A6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977F-BEF9-4BA3-802A-0417067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581A-C37A-4DD7-B4FD-4E6C840F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0648-0FD0-4F60-A611-11BD821F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3D007-E4B5-4239-A76B-8619F55F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F6B3E-9D22-4852-BCA4-C65E86CA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7F4A3-B781-4A00-9D5F-05D1B42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D0FBE-65BA-4501-95D8-58F09A7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2983-3403-4BC6-AB26-ADF2E48FAD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102-4307-4E06-ADC3-CEAB5EB46A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272-1BAF-4066-AFA6-C19AB5EC0B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399-96BA-433A-90E3-3C446C89F42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3277-45C5-4408-BA68-26E6506951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711D-B234-45D7-93CE-32CBDC78700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16BE-7799-439B-8CFF-3FA7344B18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FA0-2B09-488B-A51A-EDB4A873CD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63F3-2FDA-4DEA-A39F-69D4697AF7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A0D7-90E1-477A-BD82-DCDA96D8D7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AB75-F8C2-46F0-B1BC-9B59CFAFE6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CC9-2E24-4EE2-BFEE-7130A99E57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196-48FD-410C-AE68-9844A7364C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1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2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3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5" TargetMode="Externa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2318400" y="1833480"/>
            <a:ext cx="48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21 </a:t>
            </a: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下雨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2004480" y="5641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下雨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0" y="0"/>
            <a:ext cx="9144000" cy="1252800"/>
          </a:xfrm>
          <a:prstGeom prst="rect">
            <a:avLst/>
          </a:prstGeom>
          <a:solidFill>
            <a:srgbClr val="80808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滴答、滴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滴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小雨点落下来了。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落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上，像敲小鼓；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掉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池塘里，逗得池水笑起朵朵花。抬头看天，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连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银线，被风一吹歪歪斜斜，像喝醉了酒，又像在跳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不一会儿，滴答、滴答、滴答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雨点落下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191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地面上，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鼓；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池塘里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得池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起朵朵花。抬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，小雨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一条条银线，被风一吹歪歪斜斜，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酒，又像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877040" y="184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6620040" y="193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453400" y="258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6691320" y="263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290600" y="335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660960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2443320" y="40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5148360" y="46544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喝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2603880" y="5373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跳着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雨景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116000" y="371628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哗啦、哗啦、哗啦……小雨点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集在一起，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溪，在地上流淌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它冲干净了石阶，洗干净了操场，那一条条的柏油马路，变得溜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>
            <a:hlinkClick r:id="rId1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76360" y="206064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光着头，光着脚丫，追着雨花跑。有的手提凉鞋，有的身披雨衣，有的挥动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76360" y="2060640"/>
            <a:ext cx="65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头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脚丫，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雨花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跑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有的手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鞋，有的身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衣，有的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挥动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440080" y="141300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028960" y="3573360"/>
            <a:ext cx="588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雨啦，同学们高兴极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叫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奔跑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奋地踩着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喜欢在雨中做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-393840" y="1557360"/>
            <a:ext cx="960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喜欢在雨中（        ）。我们结伴而出，（    ）起手，（      ）准水坑，径直（    ）向里面，每次踩下去，都会（                 ），水花溅到（         ），会（                    ）；水花溅到（         ），能（                    ）；水花溅到（         ），激起（                 ）；水花溅到（         ），画出（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听  雨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1197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然下了一场雨，时大时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你认真地在一旁听，会感觉雨声很神奇、悦耳。这时候，耳朵里只有那雨声，叮咚，嘀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一种韵律让人回味无穷。我喜欢听雨，感受这一种难以说出的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听见了雨正在编秦新的曲子。它们有的落在石头上，发出嗒嗒的响声；有的落在水里，叮咚一声，让人惊奇；有的在树上做游戏，碰到树叶，发出沙沙的声音。这不同的声音吸引着我，使我不忍心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停了，我站在树下，陷入了沉思。突然有一颗大雨点落在我的身上。我想是雨被我的专心所感动，送我一个特殊的礼物吧。顿时，我的心里似乎也流进了甜甜的雨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925360" y="1628640"/>
            <a:ext cx="375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满满一坛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贪婪一小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一口接一口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醉  醉  醉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614760" y="1268280"/>
            <a:ext cx="246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坐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歪歪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斜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真不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572560" y="234936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长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4E9-E732-45F2-A8F9-F80FBD9B5B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52920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美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815120" y="1701720"/>
            <a:ext cx="58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着悄悄话：“要下雨啦！快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条银线被风一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喝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在一起，变成小溪，在地上流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的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，变得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04184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55640" y="1413000"/>
            <a:ext cx="842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    石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阶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酒     凉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鞋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726120" y="10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760680" y="1268280"/>
            <a:ext cx="7495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蚂    蚁    搬    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柏    淌    阶    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醉    鞋    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741720" y="5950080"/>
            <a:ext cx="19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"/>
          <p:cNvSpPr/>
          <p:nvPr/>
        </p:nvSpPr>
        <p:spPr>
          <a:xfrm>
            <a:off x="1235160" y="595008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雨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天阴了，云低了，太阳躲起来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下雨  鱼"/>
          <p:cNvPicPr/>
          <p:nvPr/>
        </p:nvPicPr>
        <p:blipFill>
          <a:blip r:embed="rId1"/>
          <a:stretch/>
        </p:blipFill>
        <p:spPr>
          <a:xfrm>
            <a:off x="4427640" y="0"/>
            <a:ext cx="4152960" cy="3524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下雨  蚂蚁"/>
          <p:cNvPicPr/>
          <p:nvPr/>
        </p:nvPicPr>
        <p:blipFill>
          <a:blip r:embed="rId2"/>
          <a:stretch/>
        </p:blipFill>
        <p:spPr>
          <a:xfrm>
            <a:off x="0" y="3419640"/>
            <a:ext cx="4392720" cy="3438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柳树"/>
          <p:cNvPicPr/>
          <p:nvPr/>
        </p:nvPicPr>
        <p:blipFill>
          <a:blip r:embed="rId3"/>
          <a:stretch/>
        </p:blipFill>
        <p:spPr>
          <a:xfrm>
            <a:off x="0" y="0"/>
            <a:ext cx="4211640" cy="337968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5"/>
          <p:cNvSpPr/>
          <p:nvPr/>
        </p:nvSpPr>
        <p:spPr>
          <a:xfrm>
            <a:off x="4967280" y="3645000"/>
            <a:ext cx="4718160" cy="3213000"/>
          </a:xfrm>
          <a:prstGeom prst="cloudCallout">
            <a:avLst>
              <a:gd name="adj1" fmla="val -83245"/>
              <a:gd name="adj2" fmla="val 4893"/>
            </a:avLst>
          </a:prstGeom>
          <a:solidFill>
            <a:srgbClr val="a4fa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下雨啦，要下雨啦！快搬家，快搬家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>
            <a:off x="1692360" y="0"/>
            <a:ext cx="3095640" cy="2521080"/>
          </a:xfrm>
          <a:prstGeom prst="cloudCallout">
            <a:avLst>
              <a:gd name="adj1" fmla="val -44203"/>
              <a:gd name="adj2" fmla="val 7002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燕子掠过树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5398920" y="0"/>
            <a:ext cx="3745080" cy="18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0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鱼儿跳出水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0" y="3352680"/>
            <a:ext cx="3059280" cy="2808360"/>
          </a:xfrm>
          <a:prstGeom prst="cloudCallout">
            <a:avLst>
              <a:gd name="adj1" fmla="val -34277"/>
              <a:gd name="adj2" fmla="val 38185"/>
            </a:avLst>
          </a:prstGeom>
          <a:solidFill>
            <a:srgbClr val="eab4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交头接耳地说着悄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2090880" y="177336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雨中有哪些美丽的景色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708720" y="32130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谈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6048360" y="6111720"/>
            <a:ext cx="12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雨景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9:01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56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