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23D5-62E9-469D-9947-7BA7AA8822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C57-0AC0-4BD2-B8EE-96AD0CC028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8A1-2641-41E0-8F83-F4C8A4AA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A6B-4CFA-41C4-BC41-211C963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AC6-A7B3-48BC-9276-53AF625A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534-CBAA-4C1B-ACD0-B501021B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833-6843-4554-945B-CCE6E41F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A15-80D2-424E-B16D-16E54C9A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AA3-FC1C-449B-B6AA-5AE69811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520-0754-4849-9D7E-BCA137DC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8BA-88F2-4CED-903E-B3BE5685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C47-333F-48E6-BE9A-DA0E0EE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974-0107-41F2-9343-F204790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93D-A711-4140-8D16-DA1D5A6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357-2629-4A8E-AB8C-D6E386AEF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ic.tiexue.net/pics/2006_10_6_93134_379313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1467000" y="1771560"/>
            <a:ext cx="6744960" cy="156996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190296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13"/>
          <p:cNvPicPr/>
          <p:nvPr/>
        </p:nvPicPr>
        <p:blipFill>
          <a:blip r:embed="rId1"/>
          <a:stretch/>
        </p:blipFill>
        <p:spPr>
          <a:xfrm>
            <a:off x="250920" y="836640"/>
            <a:ext cx="5257800" cy="5616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580000" y="2428200"/>
            <a:ext cx="356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第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二部分：秋天，爸爸妈妈把雨来送到夜校念书，在夜校雨来学会了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我们是中国人，我们爱自己的祖国。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313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139440" y="2925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上夜校读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19"/>
          <p:cNvPicPr/>
          <p:nvPr/>
        </p:nvPicPr>
        <p:blipFill>
          <a:blip r:embed="rId1"/>
          <a:stretch/>
        </p:blipFill>
        <p:spPr>
          <a:xfrm>
            <a:off x="3924360" y="836640"/>
            <a:ext cx="4968720" cy="5616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39840" y="3164040"/>
            <a:ext cx="345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ff"/>
                </a:solidFill>
                <a:latin typeface="Arial"/>
                <a:ea typeface="黑体"/>
              </a:rPr>
              <a:t>　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第三部分：有一天，爸爸妈妈都出门了，只有雨来一人在家。忽然，交通员李大叔为了躲避鬼子的追赶跑了进来，藏到了水缸下面的洞里。雨来想跑到别的院子时被鬼子抓住了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319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152360" y="5400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掩护李大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334"/>
          <p:cNvPicPr/>
          <p:nvPr/>
        </p:nvPicPr>
        <p:blipFill>
          <a:blip r:embed="rId1"/>
          <a:stretch/>
        </p:blipFill>
        <p:spPr>
          <a:xfrm>
            <a:off x="250920" y="836640"/>
            <a:ext cx="4825800" cy="5616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5219640" y="31262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　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第四部分：鬼子几次问雨来看没看见有人跑进来，雨来都说没看见，鬼子气急了，凶狠地打了雨来，雨来还是说没看见，最后鬼子要把雨来拉出去枪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334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71840" y="544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勇斗鬼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342"/>
          <p:cNvPicPr/>
          <p:nvPr/>
        </p:nvPicPr>
        <p:blipFill>
          <a:blip r:embed="rId1"/>
          <a:stretch/>
        </p:blipFill>
        <p:spPr>
          <a:xfrm>
            <a:off x="250920" y="836640"/>
            <a:ext cx="532908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5651640" y="30650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　　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第五部分：村里的人们听到了河沿上的枪声，都以为雨来被鬼子打死了，人们都十分难过，大家都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342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740560" y="1052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宁死不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45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568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533840" y="329940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　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第六部分：人们在河沿上正为雨来难过时，忽然看见河水中露出个小脑袋，仔细一看原来是雨来，大家都高兴地叫起来：“雨来没有死！”原来雨来趁鬼子不防备，一头扎进河里，凭着自己的高超的游泳本领，从鬼子的枪口下巧妙地脱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345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675480" y="558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机智逃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389240" y="1125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Arial"/>
                <a:ea typeface="黑体"/>
              </a:rPr>
              <a:t>自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470760" y="1844280"/>
            <a:ext cx="9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、学习本课生字新词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11280" y="2695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　　</a:t>
            </a:r>
            <a:r>
              <a:rPr b="0" lang="en-US" sz="3600" spc="-1" strike="noStrike">
                <a:solidFill>
                  <a:srgbClr val="99cc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、学习故事内容，感受雨来是民族小英雄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11280" y="37746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　　</a:t>
            </a:r>
            <a:r>
              <a:rPr b="0" lang="en-US" sz="3600" spc="-1" strike="noStrike">
                <a:solidFill>
                  <a:srgbClr val="99cc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、快速默读课文，了解课文主要内容，给课文每个部分加小标题。</a:t>
            </a: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900000" y="2810160"/>
            <a:ext cx="76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黑体"/>
              </a:rPr>
              <a:t>　　我们试试用简练的语句为六个部分写小标题。好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hatu1"/>
          <p:cNvPicPr/>
          <p:nvPr/>
        </p:nvPicPr>
        <p:blipFill>
          <a:blip r:embed="rId1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7238880" y="9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游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238880" y="1720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读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238880" y="2482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掩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238880" y="3244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斗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238880" y="4006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枪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238880" y="4768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脱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63640" y="118116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1.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望着妈妈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90560" y="187632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2.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我们爱自己的祖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24000" y="2598840"/>
            <a:ext cx="39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3.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把缸挪回原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857240" y="3371760"/>
            <a:ext cx="44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4.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什么也没看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000160" y="418140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.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有志不在年高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187280" y="4905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6."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雨来没有死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9640" y="836640"/>
            <a:ext cx="21607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17680" y="2708280"/>
            <a:ext cx="82087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感受最深的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5584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>
            <a:hlinkClick r:id="rId1" action="ppaction://hlinksldjump"/>
          </p:cNvPr>
          <p:cNvSpPr/>
          <p:nvPr/>
        </p:nvSpPr>
        <p:spPr>
          <a:xfrm>
            <a:off x="350676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491796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>
            <a:hlinkClick r:id="rId2" action="ppaction://hlinksldjump"/>
          </p:cNvPr>
          <p:cNvSpPr/>
          <p:nvPr/>
        </p:nvSpPr>
        <p:spPr>
          <a:xfrm>
            <a:off x="631512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>
            <a:hlinkClick r:id="rId3" action="ppaction://hlinksldjump"/>
          </p:cNvPr>
          <p:cNvSpPr/>
          <p:nvPr/>
        </p:nvSpPr>
        <p:spPr>
          <a:xfrm>
            <a:off x="774072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9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每到夏天，雨来和铁头、三钻儿，还有很多小朋友，好像一群鱼，在河里钻上钻下，藏猫猫，狗刨，立浮，仰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95280" y="28465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雨来浑身光溜溜的像条小泥鳅，怎么也抓不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4257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雨来像小鸭子一样抖着头上的水，用手抹一下眼睛和鼻子，嘴里吹着气，望着妈妈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7885080" y="6281640"/>
            <a:ext cx="118764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0" y="2673360"/>
            <a:ext cx="118728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0" y="4329000"/>
            <a:ext cx="118728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87480" y="558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348000" y="1521000"/>
            <a:ext cx="1224000" cy="504720"/>
          </a:xfrm>
          <a:prstGeom prst="rect">
            <a:avLst/>
          </a:prstGeom>
          <a:noFill/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227640" y="2889360"/>
            <a:ext cx="1224000" cy="504720"/>
          </a:xfrm>
          <a:prstGeom prst="rect">
            <a:avLst/>
          </a:prstGeom>
          <a:noFill/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484360" y="4329000"/>
            <a:ext cx="1224000" cy="505080"/>
          </a:xfrm>
          <a:prstGeom prst="rect">
            <a:avLst/>
          </a:prstGeom>
          <a:noFill/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5003640" y="2023920"/>
            <a:ext cx="2737080" cy="0"/>
          </a:xfrm>
          <a:prstGeom prst="line">
            <a:avLst/>
          </a:prstGeom>
          <a:ln w="47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7885080" y="3392640"/>
            <a:ext cx="720720" cy="0"/>
          </a:xfrm>
          <a:prstGeom prst="line">
            <a:avLst/>
          </a:prstGeom>
          <a:ln w="47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539640" y="3897360"/>
            <a:ext cx="1511280" cy="0"/>
          </a:xfrm>
          <a:prstGeom prst="line">
            <a:avLst/>
          </a:prstGeom>
          <a:ln w="47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4643280" y="4832280"/>
            <a:ext cx="2305080" cy="0"/>
          </a:xfrm>
          <a:prstGeom prst="line">
            <a:avLst/>
          </a:prstGeom>
          <a:ln w="47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004800" y="21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游泳水平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735000" y="35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调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038280" y="5624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淘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>
            <a:hlinkClick r:id="rId1" action="ppaction://hlinksldjump"/>
          </p:cNvPr>
          <p:cNvSpPr/>
          <p:nvPr/>
        </p:nvSpPr>
        <p:spPr>
          <a:xfrm>
            <a:off x="795672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2">
            <a:hlinkClick r:id="rId1" action="ppaction://hlinksldjump"/>
          </p:cNvPr>
          <p:cNvSpPr/>
          <p:nvPr/>
        </p:nvSpPr>
        <p:spPr>
          <a:xfrm>
            <a:off x="795672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987720" y="83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阅读第二、三部分，感受爱学习的雨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11280" y="155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雨来怕揉坏了，向妈妈要了一块红布，包了个书皮，上面用铅笔歪歪斜斜地写了“雨来”两个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79640" y="348300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是中国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爱自己的祖国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9640" y="49258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过了晌午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就趴在炕上念他那红布包着的识字课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222440" y="10904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阅读第三、四部分，找出最令你感动的一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8040" y="198756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雨来没理他，脚下像踩着风，一直朝后院跑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814720" y="292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是他害怕敌人雪亮的刺刀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14640" y="3500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引开敌人，保护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22120" y="10904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啊！那双手就像鹰的爪子，扭着雨来的两个耳朵，向两边拉。雨来疼得直咧嘴。鬼子又抽出一只来，在雨来的脸上打了两巴掌，又把他脸上的肉揪起一块，咬着牙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雨来半天才喘过气来，脑袋里像有一窝蜂，嗡嗡地叫。他两眼直冒金花，鼻子流着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鬼子打得累了，雨来还是咬着牙，说：“没看见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980760" y="2516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军官凶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1878120" y="3538440"/>
            <a:ext cx="936360" cy="576360"/>
          </a:xfrm>
          <a:prstGeom prst="ellips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115920"/>
            <a:ext cx="8820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对      一样的敌人，雨来遍体鳞伤，他的脑袋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他的两眼        ，他的鲜血像      ，一滴一滴地滴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雨来还是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真是个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雄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yingxiio29"/>
          <p:cNvPicPr/>
          <p:nvPr/>
        </p:nvPicPr>
        <p:blipFill>
          <a:blip r:embed="rId1"/>
          <a:stretch/>
        </p:blipFill>
        <p:spPr>
          <a:xfrm>
            <a:off x="755640" y="3500280"/>
            <a:ext cx="4591080" cy="3138480"/>
          </a:xfrm>
          <a:prstGeom prst="rect">
            <a:avLst/>
          </a:prstGeom>
          <a:ln w="0">
            <a:noFill/>
          </a:ln>
        </p:spPr>
      </p:pic>
      <p:sp>
        <p:nvSpPr>
          <p:cNvPr id="152" name="Line 4"/>
          <p:cNvSpPr/>
          <p:nvPr/>
        </p:nvSpPr>
        <p:spPr>
          <a:xfrm>
            <a:off x="2843280" y="765000"/>
            <a:ext cx="172872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659640" y="1484280"/>
            <a:ext cx="216036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539640" y="2276640"/>
            <a:ext cx="79236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4500720" y="2205000"/>
            <a:ext cx="230328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2268360" y="2997360"/>
            <a:ext cx="172908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5796000" y="5157720"/>
            <a:ext cx="259236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8172360" y="4437000"/>
            <a:ext cx="647640" cy="0"/>
          </a:xfrm>
          <a:prstGeom prst="line">
            <a:avLst/>
          </a:prstGeom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>
            <a:hlinkClick r:id="rId2" action="ppaction://hlinksldjump"/>
          </p:cNvPr>
          <p:cNvSpPr/>
          <p:nvPr/>
        </p:nvSpPr>
        <p:spPr>
          <a:xfrm>
            <a:off x="8496360" y="621036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>
            <a:hlinkClick r:id="rId1" action="ppaction://hlinksldjump"/>
          </p:cNvPr>
          <p:cNvSpPr/>
          <p:nvPr/>
        </p:nvSpPr>
        <p:spPr>
          <a:xfrm>
            <a:off x="7956720" y="57340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31640" y="9414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阅读第三、四部分，从结局看雨来还是怎样的英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954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24000" y="23605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从芦苇丛里，水面上露出了小脑袋来。雨来还像小鸭子一样抖着头上的水，用手抹一下眼睛和鼻子，扒着芦苇，向岸上的人问道：“鬼子走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359880" y="46213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可爱的小英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4764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15680" y="936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黑体"/>
              </a:rPr>
              <a:t>生字过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320840" y="2133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苇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987640" y="2133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黝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黑发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724360" y="213372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青布裤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褂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95280" y="306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几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flipV="1" rot="10767600">
            <a:off x="3419640" y="306792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姥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35640" y="306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门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16000" y="4076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劫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撒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640728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吆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441960" y="501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飘飘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悠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324080" y="501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光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溜溜</a:t>
            </a:r>
            <a:r>
              <a:rPr b="0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012000" y="49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一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骨碌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47840" y="941400"/>
            <a:ext cx="86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一个普通的顽皮孩子雨来，成了一个勇敢机灵的小英雄，为什么会有这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9640" y="212580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是中国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爱自己的祖国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05640" y="3573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雨来第一次上课，他听到了老师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887760" y="4221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于是，学生们跟着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970200" y="4941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从此，他牢牢地记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41120" y="5589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就算鲜血不断流下来，死亡朝他逼近，他仍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6372360" y="4005360"/>
            <a:ext cx="1657080" cy="0"/>
          </a:xfrm>
          <a:prstGeom prst="line">
            <a:avLst/>
          </a:prstGeom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995640" y="4724280"/>
            <a:ext cx="1657440" cy="0"/>
          </a:xfrm>
          <a:prstGeom prst="line">
            <a:avLst/>
          </a:prstGeom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4356000" y="5445000"/>
            <a:ext cx="1657440" cy="0"/>
          </a:xfrm>
          <a:prstGeom prst="line">
            <a:avLst/>
          </a:prstGeom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84360" y="6524640"/>
            <a:ext cx="1657080" cy="0"/>
          </a:xfrm>
          <a:prstGeom prst="line">
            <a:avLst/>
          </a:prstGeom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80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反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12920" y="191628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扁鼻子军官气得暴跳起来，嗷嗷地叫：“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枪毙，枪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拉出去，拉出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12920" y="4292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！”大家都高兴地叫起来：“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雨来没有死！雨来没有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小英雄雨来给你留下了什么印象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629360" y="49417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热爱祖国，机智勇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畏强敌的少年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124000" y="1413000"/>
            <a:ext cx="4076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课文分析</a:t>
            </a:r>
            <a:endParaRPr b="0" lang="en-US" sz="8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68360" y="3500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　　（一）细读重点段，了解雨来的感人事迹，体会雨来是小英雄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50920" y="15901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836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9966ff"/>
                </a:solidFill>
                <a:latin typeface="Arial"/>
                <a:ea typeface="黑体"/>
              </a:rPr>
              <a:t>就从我们概括出的小标题来看，哪部分内容最能表现雨来是小英雄呢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1000" y="3141720"/>
            <a:ext cx="18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9966ff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9966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9966ff"/>
                </a:solidFill>
                <a:latin typeface="黑体"/>
                <a:ea typeface="黑体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50920" y="4698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就请同学们快速默读这两个部分，画出最能表现雨来是小英雄的内容，体会为什么说雨来是小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836640"/>
            <a:ext cx="5184720" cy="5616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395280" y="1821600"/>
            <a:ext cx="345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鬼子拉着长声问雨来：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刚才有个人跑进来，你的看见没有？</a:t>
            </a: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雨来镇静地回答：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我在屋子里，什么也没看见！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1331"/>
          <p:cNvPicPr/>
          <p:nvPr/>
        </p:nvPicPr>
        <p:blipFill>
          <a:blip r:embed="rId1"/>
          <a:stretch/>
        </p:blipFill>
        <p:spPr>
          <a:xfrm>
            <a:off x="250920" y="765000"/>
            <a:ext cx="4825800" cy="5759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148360" y="251388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鬼子军官从口袋里掏出一把糖块，递到雨来面前说：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糖的给。你的说，八路藏在什么地方？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接着，又摘下手指上套的金戒指：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这个，统统的给你！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雨来扭过头去，连看也不看。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332"/>
          <p:cNvPicPr/>
          <p:nvPr/>
        </p:nvPicPr>
        <p:blipFill>
          <a:blip r:embed="rId1"/>
          <a:stretch/>
        </p:blipFill>
        <p:spPr>
          <a:xfrm>
            <a:off x="3419640" y="836640"/>
            <a:ext cx="5473440" cy="5616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50920" y="1734480"/>
            <a:ext cx="324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黑体"/>
                <a:ea typeface="黑体"/>
              </a:rPr>
              <a:t>　　 </a:t>
            </a:r>
            <a:r>
              <a:rPr b="0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接着鬼子又是哄骗又是恐吓，再次质问雨来看见了什么？雨来摇摇头说</a:t>
            </a:r>
            <a:r>
              <a:rPr b="0" lang="en-US" sz="4000" spc="-1" strike="noStrike">
                <a:solidFill>
                  <a:srgbClr val="9966ff"/>
                </a:solidFill>
                <a:latin typeface="黑体"/>
                <a:ea typeface="黑体"/>
              </a:rPr>
              <a:t>: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我在屋里</a:t>
            </a:r>
            <a:r>
              <a:rPr b="0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什么也没看见！</a:t>
            </a: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333"/>
          <p:cNvPicPr/>
          <p:nvPr/>
        </p:nvPicPr>
        <p:blipFill>
          <a:blip r:embed="rId1"/>
          <a:stretch/>
        </p:blipFill>
        <p:spPr>
          <a:xfrm>
            <a:off x="250920" y="836640"/>
            <a:ext cx="4608360" cy="5616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4932360" y="33235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  <a:ea typeface="黑体"/>
              </a:rPr>
              <a:t>　　雨来的回答让穷凶极恶的鬼子露出了本来面目，他们把雨来打得两眼冒金花，鲜血从鼻子里一滴一滴地流下来，雨来还是咬着牙说：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“没看见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24000" y="2770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无论鬼子使用什么方法，雨来始终只有一句话，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“什么也没看见”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43560" y="45082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读到这里，你们想对雨来说些什么呢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450720" y="5600880"/>
            <a:ext cx="60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1000" y="731880"/>
            <a:ext cx="9036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读准多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还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h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  hu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乡河     扫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sǎo  s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归还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(hái  huán)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扫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sǎo  s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子弹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d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n t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n)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鸡冠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guān  gu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花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í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ng    nǐng       n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ì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拧毛巾  拧瓶盖  脾气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zā     zhā     zh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扎腰带   扎针   挣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9640" y="1854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（二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理解六部分内容之间的关系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24000" y="38919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课文正是通过雨来掩护李大叔，并与鬼子勇敢作斗争这两个部分的内容来表现他是小英雄。那我们再来看看其他几个部分与全文又有什么关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24000" y="1852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、正因为第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部分向我们介绍了雨来游泳本领特别好，才为后文他能从鬼子的枪口下巧妙逃脱作了铺垫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50920" y="39650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、正因为第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部分写了雨来在夜校受到了良好的教育，懂得了中国人应该热爱自己的祖国，所以在侵略自己国家的鬼子面前，他能表现得非常英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882160" y="5307480"/>
            <a:ext cx="24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、第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6</a:t>
            </a:r>
            <a:r>
              <a:rPr b="0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部分是事情的结果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8C2-3196-462B-975D-68CA9F9814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95280" y="12020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黑体"/>
              </a:rPr>
              <a:t>　　读读读课文，想想课文主要写了什么内容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31640" y="412560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课文主要写了在抗日战争时期，晋察冀边区十二岁的雨来是一个游泳本领很强的孩子，一次交通员李大叔为了躲避鬼子藏到了雨来家，雨来为了掩护李大叔被鬼子抓住了，他坚决不说出李大叔藏在哪里，鬼子把雨来拉到河沿上，想杀害雨来，没想到雨来在鬼子开枪前就跳入河中，凭着他高超的游泳本领从鬼子的枪口下巧妙地脱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3924360" y="29750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62080" y="25959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　　我们快速默读课文六个部分，想想每个部分都分别写了什么内容。先自己思考，然后再和同桌商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306"/>
          <p:cNvPicPr/>
          <p:nvPr/>
        </p:nvPicPr>
        <p:blipFill>
          <a:blip r:embed="rId1"/>
          <a:stretch/>
        </p:blipFill>
        <p:spPr>
          <a:xfrm>
            <a:off x="3203640" y="836640"/>
            <a:ext cx="568944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95280" y="1197000"/>
            <a:ext cx="27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第一部分：在晋察冀边区的北部有一条还乡河，十二岁的雨来最喜欢在这条河里游泳，他会很多种姿势，其中仰泳的本领最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306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100160" y="5516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游泳本领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92428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花开的时候，远远望去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黄绿的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苇上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盖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层厚厚的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雪。风一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（鹅毛般的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苇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就飘飘悠悠地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起来），（把这几十家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房屋都罩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柔软的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花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7360" y="1052640"/>
            <a:ext cx="9026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花开的时候，远远望去，芦苇上盖了白雪。风一吹苇絮飞，小房屋都罩在芦花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4:57Z</dcterms:modified>
  <cp:revision>4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