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5A7-7081-44E9-B9D0-D842260E6D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8412-578A-46CD-85D4-92E8A0E982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E07-3681-4283-9888-A5B273FC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C48-8EBF-4E31-86A1-4F2A295D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5CA-FB40-4123-8966-635E9D01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B9A-0EAA-4803-9801-DFCD23F3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235-6D1C-433E-A6DD-AD099A5C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6CC-61C1-4B61-936B-02167CCA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004-BA46-436A-B8C4-BD1C626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C51-80AE-4F69-87AD-33E98F4A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4BC-36D7-4FDE-9842-DE5E8506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4BC-1777-4980-9E38-D336231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4BC-28DB-47F6-8989-DED8CA4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EF8-CA03-44DD-88A5-7730E456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5545-EF97-4724-BC9F-BEEC22B58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小英雄于连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685800" y="5954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湘教版三年级语文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379520" y="297180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5560">
                  <a:solidFill>
                    <a:srgbClr val="00ff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微软雅黑"/>
              </a:rPr>
              <a:t>小英雄于连</a:t>
            </a:r>
            <a:endParaRPr b="1" lang="en-US" sz="5400" spc="1" strike="noStrike">
              <a:ln w="25560">
                <a:solidFill>
                  <a:srgbClr val="00ff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91088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E736-A7E1-463D-AEA0-DD0ACBDEB8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小英雄于连 2"/>
          <p:cNvPicPr/>
          <p:nvPr/>
        </p:nvPicPr>
        <p:blipFill>
          <a:blip r:embed="rId1"/>
          <a:stretch/>
        </p:blipFill>
        <p:spPr>
          <a:xfrm>
            <a:off x="533520" y="9144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98108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看到这座铜像，你感觉得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477120" y="838080"/>
            <a:ext cx="2286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导火线冒着火花，刺刺作响，慢慢向地下室燃烧过去。一场毁灭性的大爆炸即将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1"/>
          <p:cNvPicPr/>
          <p:nvPr/>
        </p:nvPicPr>
        <p:blipFill>
          <a:blip r:embed="rId1"/>
          <a:stretch/>
        </p:blipFill>
        <p:spPr>
          <a:xfrm>
            <a:off x="457200" y="914400"/>
            <a:ext cx="624852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比利时2"/>
          <p:cNvPicPr/>
          <p:nvPr/>
        </p:nvPicPr>
        <p:blipFill>
          <a:blip r:embed="rId1"/>
          <a:stretch/>
        </p:blipFill>
        <p:spPr>
          <a:xfrm>
            <a:off x="457200" y="914400"/>
            <a:ext cx="601992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比利时狂欢1"/>
          <p:cNvPicPr/>
          <p:nvPr/>
        </p:nvPicPr>
        <p:blipFill>
          <a:blip r:embed="rId2"/>
          <a:stretch/>
        </p:blipFill>
        <p:spPr>
          <a:xfrm>
            <a:off x="457200" y="3429000"/>
            <a:ext cx="6019920" cy="2581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6705720" y="8380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布鲁塞尔的中心广场上，火树银花，热闹非凡。人们载歌载舞，庆祝打败了外国侵略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705720" y="4114800"/>
            <a:ext cx="2133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沉浸在欢乐中的人们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哪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道这隐藏在暗处的阴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4419720" y="50292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8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ff0000"/>
                </a:solidFill>
                <a:latin typeface="Impact"/>
                <a:ea typeface="黑体"/>
              </a:rPr>
              <a:t>   </a:t>
            </a:r>
            <a:r>
              <a:rPr b="0" lang="zh-CN" sz="40700" spc="-1" strike="noStrike">
                <a:solidFill>
                  <a:srgbClr val="ff0000"/>
                </a:solidFill>
                <a:latin typeface="Impact"/>
                <a:ea typeface="黑体"/>
              </a:rPr>
              <a:t>？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600200" y="1295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如果是你发现了，你会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6781680" y="1295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705720" y="13716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          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时刻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发现了险情。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001"/>
          <p:cNvPicPr/>
          <p:nvPr/>
        </p:nvPicPr>
        <p:blipFill>
          <a:blip r:embed="rId1"/>
          <a:stretch/>
        </p:blipFill>
        <p:spPr>
          <a:xfrm>
            <a:off x="457200" y="914400"/>
            <a:ext cx="601992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7010280" y="1219320"/>
            <a:ext cx="14479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的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怦怦直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明白会有什么样的事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001"/>
          <p:cNvPicPr/>
          <p:nvPr/>
        </p:nvPicPr>
        <p:blipFill>
          <a:blip r:embed="rId1"/>
          <a:stretch/>
        </p:blipFill>
        <p:spPr>
          <a:xfrm>
            <a:off x="762120" y="914400"/>
            <a:ext cx="6019560" cy="50292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"/>
          <p:cNvSpPr/>
          <p:nvPr/>
        </p:nvSpPr>
        <p:spPr>
          <a:xfrm>
            <a:off x="619200" y="28260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小英雄于连 2"/>
          <p:cNvPicPr/>
          <p:nvPr/>
        </p:nvPicPr>
        <p:blipFill>
          <a:blip r:embed="rId1"/>
          <a:stretch/>
        </p:blipFill>
        <p:spPr>
          <a:xfrm>
            <a:off x="457200" y="914400"/>
            <a:ext cx="4038480" cy="502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419360" y="106632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起初，于连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着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慌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了一阵，但他马上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镇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来。他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眨巴着乌溜溜的眼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连忙跑到正在燃烧的导火线旁，对着刺刺作响的火花撒起尿来。导火线立刻熄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01"/>
          <p:cNvPicPr/>
          <p:nvPr/>
        </p:nvPicPr>
        <p:blipFill>
          <a:blip r:embed="rId2"/>
          <a:stretch/>
        </p:blipFill>
        <p:spPr>
          <a:xfrm>
            <a:off x="1486080" y="5334120"/>
            <a:ext cx="7391160" cy="121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小英雄于连 4"/>
          <p:cNvPicPr/>
          <p:nvPr/>
        </p:nvPicPr>
        <p:blipFill>
          <a:blip r:embed="rId1"/>
          <a:stretch/>
        </p:blipFill>
        <p:spPr>
          <a:xfrm>
            <a:off x="457200" y="9144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791320" y="838080"/>
            <a:ext cx="2819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时刻，于连发现了险情。他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淋灭了导火线。我认为他是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孩子。所以我们称他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___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10:21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4:43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