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chimes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7C0C-34E8-4414-BA31-70C5A1BE3B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2F93-2874-44B9-BD0C-BAD38EDF04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BDC-1543-4180-954F-03B72BB1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71A-3710-40F2-A81B-A721A832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C3C-3664-4D9A-B7C3-641FA6BB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531-AC03-42D1-905D-ACCC8066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1E8-8546-49AE-A62E-AF896105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533-ACFC-4248-A6E4-BC92AB5F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B51-700D-48AC-B230-38B78E2C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AE2-D6C6-4D43-9138-B58E0EAE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CAC-FA82-4FA9-9951-53FC0E5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2A1-B819-4438-B590-D0F963D8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A92-D331-428D-A308-BA21C23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143-59FD-4A67-9B0A-6A6F9541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8DF0-1442-4A1B-B871-1B8EC9B6C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468360" y="2417760"/>
            <a:ext cx="442584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微软雅黑"/>
              </a:rPr>
              <a:t>心中的丰碑</a:t>
            </a:r>
            <a:endParaRPr b="1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49" name="Picture 9" descr="3"/>
          <p:cNvPicPr/>
          <p:nvPr/>
        </p:nvPicPr>
        <p:blipFill>
          <a:blip r:embed="rId3"/>
          <a:stretch/>
        </p:blipFill>
        <p:spPr>
          <a:xfrm>
            <a:off x="5219640" y="1025640"/>
            <a:ext cx="35226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336960" y="57326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95280" y="1341360"/>
            <a:ext cx="8388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上午，登封万人空巷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近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万群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守候在灵车将要经过的路上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宽的大道旁，排成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两条长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白花、黑幛连成一片，送殡的唢呐声萦绕天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95280" y="342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e经典钢琴曲 - tear.mp3" descr=""/>
          <p:cNvPicPr/>
          <p:nvPr/>
        </p:nvPicPr>
        <p:blipFill>
          <a:blip r:embed="rId1"/>
          <a:stretch/>
        </p:blipFill>
        <p:spPr>
          <a:xfrm>
            <a:off x="8567640" y="1125360"/>
            <a:ext cx="576360" cy="45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1258920" y="3500280"/>
            <a:ext cx="6553080" cy="288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ver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24000" y="1628640"/>
            <a:ext cx="83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大家知道，任长霞爱美、爱花。悼念长霞，登封三日花售尽。送别长霞，登封出现了鲜花的长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95280" y="342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e经典钢琴曲 - tear.mp3" descr=""/>
          <p:cNvPicPr/>
          <p:nvPr/>
        </p:nvPicPr>
        <p:blipFill>
          <a:blip r:embed="rId1"/>
          <a:stretch/>
        </p:blipFill>
        <p:spPr>
          <a:xfrm>
            <a:off x="8567640" y="1125360"/>
            <a:ext cx="576360" cy="45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6086520" cy="3240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p:transition>
    <p:cover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755640" y="5084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这三个场面描写，你体会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252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上午，登封万人空巷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近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万群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守候在灵车将要经过的路上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宽的大道旁，排成了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两条长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白花、黑幛连成一片，送殡的唢呐声萦绕天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5280" y="107640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消息传开，嵩山悲号，颍水呜咽，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雨像泪一样飘洒，泪如雨一般倾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成千上万的百姓，从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十里八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赶来，和任长霞告别，吊唁的队伍，排出一条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近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公里的蜿蜒长龙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昼夜不停，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三日不断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68360" y="400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家知道，任长霞爱美、爱花。悼念长霞，登封三日花售尽。送别长霞，登封出现了鲜花的长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5280" y="337500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（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低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语气读出人们的悲痛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雨的印记.mp3" descr=""/>
          <p:cNvPicPr/>
          <p:nvPr/>
        </p:nvPicPr>
        <p:blipFill>
          <a:blip r:embed="rId1"/>
          <a:stretch/>
        </p:blipFill>
        <p:spPr>
          <a:xfrm>
            <a:off x="8604360" y="1125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324000" y="18525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认为要以什么样的语气来读这三个感人的场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2"/>
          <p:cNvPicPr/>
          <p:nvPr/>
        </p:nvPicPr>
        <p:blipFill>
          <a:blip r:embed="rId2"/>
          <a:stretch/>
        </p:blipFill>
        <p:spPr>
          <a:xfrm rot="318600">
            <a:off x="6190920" y="4574880"/>
            <a:ext cx="2952720" cy="2282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7040" cy="387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268360" y="76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81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捉拿犯罪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36003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88720"/>
            <a:ext cx="37432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接待群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529db98-2e39-4501-97a5-07d11ddfba21"/>
          <p:cNvPicPr/>
          <p:nvPr/>
        </p:nvPicPr>
        <p:blipFill>
          <a:blip r:embed="rId1"/>
          <a:stretch/>
        </p:blipFill>
        <p:spPr>
          <a:xfrm>
            <a:off x="571680" y="2509920"/>
            <a:ext cx="3809880" cy="270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2b464e67-4e5d-4e23-aad2-1c5fa4bb1a39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960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5076720" y="954000"/>
            <a:ext cx="295272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抚危济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8000" y="1268280"/>
            <a:ext cx="48247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1817"/>
                </a:solidFill>
                <a:latin typeface="Arial"/>
              </a:rPr>
              <a:t>得到任长霞送药送方的支气 管炎患者王中央痛哭不已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U397P1T1D3380168F21DT20040602203141"/>
          <p:cNvPicPr/>
          <p:nvPr/>
        </p:nvPicPr>
        <p:blipFill>
          <a:blip r:embed="rId1"/>
          <a:stretch/>
        </p:blipFill>
        <p:spPr>
          <a:xfrm>
            <a:off x="1619280" y="2205000"/>
            <a:ext cx="5272200" cy="3813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24000" y="1746360"/>
            <a:ext cx="82296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嵩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，颍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流，万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，铺满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褪色的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908000" y="41497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永不褪色的红霞是指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指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44360" y="34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817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651640" y="4076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817"/>
                </a:solidFill>
                <a:latin typeface="Arial"/>
              </a:rPr>
              <a:t>任长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935520" y="4797360"/>
            <a:ext cx="38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1817"/>
                </a:solidFill>
                <a:latin typeface="Arial"/>
              </a:rPr>
              <a:t>全心全意为人民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395280" y="1844640"/>
            <a:ext cx="82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有的人活着，他已经死了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有的人死了，他还活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臧克家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714240" y="5253120"/>
            <a:ext cx="73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84360" y="2349360"/>
            <a:ext cx="72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11280" y="907920"/>
            <a:ext cx="230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74560" y="430524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同学们，你想对任长霞局长说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任长霞局长，我想对您说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任长霞墓"/>
          <p:cNvPicPr/>
          <p:nvPr/>
        </p:nvPicPr>
        <p:blipFill>
          <a:blip r:embed="rId1"/>
          <a:stretch/>
        </p:blipFill>
        <p:spPr>
          <a:xfrm>
            <a:off x="941400" y="189000"/>
            <a:ext cx="73454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69920" y="1125360"/>
            <a:ext cx="83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任局长为民众做的那几件事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95280" y="342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11280" y="2492280"/>
            <a:ext cx="8353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她铲除恶势力，又带领民警帮助被恶势力迫害的冯大爹收割麦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抓捕躲藏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的凶手，并像亲闺女一样照顾韩大妈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收养孤女春雨，像妈妈一样照顾她的学习和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1C70-7515-49A0-BC58-D5B0685511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95280" y="342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心中的丰碑.Mp3" descr=""/>
          <p:cNvPicPr/>
          <p:nvPr/>
        </p:nvPicPr>
        <p:blipFill>
          <a:blip r:embed="rId1"/>
          <a:stretch/>
        </p:blipFill>
        <p:spPr>
          <a:xfrm>
            <a:off x="8172360" y="112536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71640" y="2205000"/>
            <a:ext cx="7127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404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404"/>
                </a:solidFill>
                <a:latin typeface="Arial"/>
              </a:rPr>
              <a:t>面对这样的好局长以身殉职的消息，冯大爹、韩大妈、小春雨有什么反应？找出相关的句子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2"/>
          <p:cNvPicPr/>
          <p:nvPr/>
        </p:nvPicPr>
        <p:blipFill>
          <a:blip r:embed="rId2"/>
          <a:stretch/>
        </p:blipFill>
        <p:spPr>
          <a:xfrm rot="318600">
            <a:off x="6300360" y="4724280"/>
            <a:ext cx="2454480" cy="1897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539640" y="1197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读课文找一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2"/>
          <p:cNvPicPr/>
          <p:nvPr/>
        </p:nvPicPr>
        <p:blipFill>
          <a:blip r:embed="rId3"/>
          <a:stretch/>
        </p:blipFill>
        <p:spPr>
          <a:xfrm rot="318600">
            <a:off x="6300360" y="4724280"/>
            <a:ext cx="2454480" cy="1897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26920" y="1341360"/>
            <a:ext cx="705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真是难以让人相信的噩耗，老农冯大爹心中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半边天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脚大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“这不可能，这不是真的！”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冯大爹痛哭不已：“长霞啊，你是俺千家万户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门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是贴在百姓心头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福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可你没喝过俺家一口水，没吃过俺家一口馍，就这样走了，我们的心都碎了啊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7"/>
          <p:cNvSpPr/>
          <p:nvPr/>
        </p:nvSpPr>
        <p:spPr>
          <a:xfrm>
            <a:off x="3203640" y="3068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1020240"/>
            <a:ext cx="8642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黑势力团伙被摧毁，黑帮头目被拒捕。群众奔走相告，敲锣打鼓，鸣放鞭炮，欢呼任局长为民除了一大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258920" y="83664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26920" y="1557360"/>
            <a:ext cx="69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郭岭村的韩大妈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早一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来到登封，她在大街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过了一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她想最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看一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亲的人，她要送长霞走完最后一程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韩大妈说：“俺闺女没了，长霞就是俺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亲闺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要是嵩山移得动，俺就要用它为长霞立碑啊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68360" y="1484280"/>
            <a:ext cx="4248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在悼文中写道：“任妈妈，我正打算捧着奖状给您报喜，可就在考试前一天，您匆匆地走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最亲最爱的好妈妈啊，您不能离开我们，您没有离开我们。明天，我也要当一名像您一样的警察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889440" cy="3889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79280" y="54928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思考：为什么春雨喊任局长为“任妈妈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"/>
          <p:cNvPicPr/>
          <p:nvPr/>
        </p:nvPicPr>
        <p:blipFill>
          <a:blip r:embed="rId1"/>
          <a:stretch/>
        </p:blipFill>
        <p:spPr>
          <a:xfrm rot="318600">
            <a:off x="6876720" y="4960800"/>
            <a:ext cx="2454120" cy="189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2"/>
          <p:cNvPicPr/>
          <p:nvPr/>
        </p:nvPicPr>
        <p:blipFill>
          <a:blip r:embed="rId2"/>
          <a:stretch/>
        </p:blipFill>
        <p:spPr>
          <a:xfrm rot="318600">
            <a:off x="4355640" y="4960800"/>
            <a:ext cx="2454480" cy="1897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971640" y="198900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对长霞的逝去，成千上万的人们又有什么样的反映呢？找出相关的句子，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39640" y="1197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课文找一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9640" y="141300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息传开，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嵩山悲号，颍水呜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雨像泪一样飘洒，泪如雨一般倾诉。成千上万的百姓，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十里八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赶来，和任长霞告别，吊唁的队伍，排出一条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近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公里的蜿蜒长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昼夜不停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日不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95280" y="342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e经典钢琴曲 - tear.mp3" descr=""/>
          <p:cNvPicPr/>
          <p:nvPr/>
        </p:nvPicPr>
        <p:blipFill>
          <a:blip r:embed="rId1"/>
          <a:stretch/>
        </p:blipFill>
        <p:spPr>
          <a:xfrm>
            <a:off x="8854920" y="-230040"/>
            <a:ext cx="576360" cy="458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河南登封14万百姓自发送别女公安局长(图)"/>
          <p:cNvPicPr/>
          <p:nvPr/>
        </p:nvPicPr>
        <p:blipFill>
          <a:blip r:embed="rId2"/>
          <a:stretch/>
        </p:blipFill>
        <p:spPr>
          <a:xfrm>
            <a:off x="1116000" y="3789360"/>
            <a:ext cx="6985080" cy="2665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6:12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4:01Z</dcterms:modified>
  <cp:revision>7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