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C037-5378-4ED8-875F-C802F06BEF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130D-C717-4C79-9227-864DE216EB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A31-E494-4ADE-97F8-9BE2A421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B29-4E1A-40E4-ADAC-0678B96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126-7BC6-4CA2-9A54-673CF7E7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544-A1FC-41CB-BD5A-8DF156E0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FC6-F48D-4BDE-996B-97C19535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788-C53D-47C0-B7D1-873EE0DD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C19-5CFE-4D12-81EE-1EE34790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0DF-1F08-4B66-8232-05422F82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943-AC31-4064-9AEC-068D371D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709-1F52-479B-ABAB-8771649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5CD-A3D4-49B3-BA53-F6E6FA2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190-B6CC-4E92-A68A-148E6D94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E84B-0301-4B75-A000-525911F65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362320" y="1981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湘教版 三年级 语文 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338640" y="31561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一杯牛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99520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62120" y="20574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光阴似箭，日月如梭，转眼过去了好多年，又发生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914400" y="990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凯利走进病房，一眼就认出，病人正是当年送牛奶给他喝的那个女孩。他暗下决心，要尽力挽救这位善良女人的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828800" y="26668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理解“医疗费已用一杯牛奶全部付清”这句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2209680" y="3886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有感情地朗读下面的句子，说过说你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676520" y="22096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谢谢！”凯利心中充满感激，觉得有股暖流在身体里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600200" y="21337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最后，她无奈地打开账单，惊讶地发现账已经结清。账单下面还写着一行小字：“医疗费已用一杯牛奶全部付清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5CAE-EDD4-4832-8EDB-A9DEA148F5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762120" y="5335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95280" y="220968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费      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523880" y="1447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400800" y="144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5335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676520" y="1905120"/>
            <a:ext cx="236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876920" y="1905120"/>
            <a:ext cx="236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楷体_GB2312"/>
              </a:rPr>
              <a:t>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1676520" y="5257800"/>
            <a:ext cx="53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52480" y="22096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己读读课文第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-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，谈谈你知道了什么？假如你就是凯利，你会有什么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447920" y="21337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他从早到晚跑了一家又一家，没做成一笔生意。他身无分文，饥肠辘辘，简直饿坏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819520" y="23623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此时的凯利多么饥饿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凯利现在最需要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514600" y="1523880"/>
            <a:ext cx="5638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谁向他伸出了援助之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凯利当时是怎么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结果怎么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80"/>
          <p:cNvPicPr/>
          <p:nvPr/>
        </p:nvPicPr>
        <p:blipFill>
          <a:blip r:embed="rId2"/>
          <a:stretch/>
        </p:blipFill>
        <p:spPr>
          <a:xfrm>
            <a:off x="1905120" y="990720"/>
            <a:ext cx="5049720" cy="506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828800" y="1676520"/>
            <a:ext cx="5867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我该给您多少钱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女孩微笑着摇摇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谢谢！”凯利心中充满感激，觉得有股暖流在身体里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3:53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09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