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8F2A-BD91-46A4-8630-55091254F2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83F-C73C-4A9E-957C-5E860D737C7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65C2-EDC4-42F6-B3C9-29478FC6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B12-2070-4AFA-8F3B-D34E89E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3BE-AAB1-41D4-89ED-359FB8DDB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6B4-C180-4EE1-A9DF-E6C97AC1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261-7B74-40F2-A7C3-4D95D27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DAB-EFFC-4BE4-B50A-1F3323D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20B-E51E-48E3-BF59-70B371A3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C43-8AAD-4408-B9A0-65E9F4A9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A3D-56EE-4319-A0E0-532B6301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6A1-47EF-435A-9FDC-04894A70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1B8-AC8F-480C-9A83-7AF924A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3AD-F7EB-4147-B47A-7A249767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7A6A-DEF6-48BC-A09D-0DDD50A8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5" descr=""/>
          <p:cNvPicPr/>
          <p:nvPr/>
        </p:nvPicPr>
        <p:blipFill>
          <a:blip r:embed="rId2"/>
          <a:stretch/>
        </p:blipFill>
        <p:spPr>
          <a:xfrm>
            <a:off x="647640" y="2565360"/>
            <a:ext cx="7921800" cy="10987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8" descr=""/>
          <p:cNvPicPr/>
          <p:nvPr/>
        </p:nvPicPr>
        <p:blipFill>
          <a:blip r:embed="rId3"/>
          <a:stretch/>
        </p:blipFill>
        <p:spPr>
          <a:xfrm>
            <a:off x="1887480" y="5688000"/>
            <a:ext cx="5500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1006835991711019723"/>
          <p:cNvPicPr/>
          <p:nvPr/>
        </p:nvPicPr>
        <p:blipFill>
          <a:blip r:embed="rId2"/>
          <a:stretch/>
        </p:blipFill>
        <p:spPr>
          <a:xfrm>
            <a:off x="250920" y="115920"/>
            <a:ext cx="4825800" cy="3789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591378926086135698"/>
          <p:cNvPicPr/>
          <p:nvPr/>
        </p:nvPicPr>
        <p:blipFill>
          <a:blip r:embed="rId3"/>
          <a:stretch/>
        </p:blipFill>
        <p:spPr>
          <a:xfrm>
            <a:off x="3743280" y="3363840"/>
            <a:ext cx="5221440" cy="349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3385299544900459233"/>
          <p:cNvPicPr/>
          <p:nvPr/>
        </p:nvPicPr>
        <p:blipFill>
          <a:blip r:embed="rId4"/>
          <a:stretch/>
        </p:blipFill>
        <p:spPr>
          <a:xfrm>
            <a:off x="395280" y="4842000"/>
            <a:ext cx="3024360" cy="2016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5219640" y="1341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黑背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195640" y="4221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贼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2898720" y="629460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0011815138292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1187280" y="2406600"/>
            <a:ext cx="712980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观赏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C9A7-FDE4-4435-8B62-2C77511B07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395280" y="47628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课文导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24000" y="2276640"/>
            <a:ext cx="8424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知道南极和北极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南北极都有哪些动物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24000" y="458136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南极的企鹅、磷虾、海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20071220123559401_2"/>
          <p:cNvPicPr/>
          <p:nvPr/>
        </p:nvPicPr>
        <p:blipFill>
          <a:blip r:embed="rId2"/>
          <a:stretch/>
        </p:blipFill>
        <p:spPr>
          <a:xfrm>
            <a:off x="250920" y="476280"/>
            <a:ext cx="4537080" cy="28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885869001351219446"/>
          <p:cNvPicPr/>
          <p:nvPr/>
        </p:nvPicPr>
        <p:blipFill>
          <a:blip r:embed="rId3"/>
          <a:stretch/>
        </p:blipFill>
        <p:spPr>
          <a:xfrm>
            <a:off x="4788000" y="189000"/>
            <a:ext cx="395928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0120113145357168"/>
          <p:cNvPicPr/>
          <p:nvPr/>
        </p:nvPicPr>
        <p:blipFill>
          <a:blip r:embed="rId4"/>
          <a:stretch/>
        </p:blipFill>
        <p:spPr>
          <a:xfrm>
            <a:off x="4500720" y="2852640"/>
            <a:ext cx="367164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468360" y="447660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北极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3279936_154203009786_2"/>
          <p:cNvPicPr/>
          <p:nvPr/>
        </p:nvPicPr>
        <p:blipFill>
          <a:blip r:embed="rId2"/>
          <a:stretch/>
        </p:blipFill>
        <p:spPr>
          <a:xfrm>
            <a:off x="250920" y="404640"/>
            <a:ext cx="5040360" cy="314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eHGL6hLfheZE"/>
          <p:cNvPicPr/>
          <p:nvPr/>
        </p:nvPicPr>
        <p:blipFill>
          <a:blip r:embed="rId3"/>
          <a:stretch/>
        </p:blipFill>
        <p:spPr>
          <a:xfrm>
            <a:off x="4284720" y="3068640"/>
            <a:ext cx="4681440" cy="3473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5724360" y="112536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北极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5280" y="476280"/>
            <a:ext cx="39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词语积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826920" y="1844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极昼      刮风      野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828720" y="3068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厘米      平添      附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26920" y="4292640"/>
            <a:ext cx="67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智利      单调      企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95280" y="927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信中说南极的气候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8360" y="2492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南极只有两个季节，即极夜的冬季和极昼的夏季；夏季里凌晨两点天亮，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点天才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95280" y="99864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南极都有哪些植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227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南极常见的植物有两种；地衣和苔藓。地衣是藻类和真菌的共生体，长在石头上。苔藓像是青苔，长在泥土上或石头缝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334728855573"/>
          <p:cNvPicPr/>
          <p:nvPr/>
        </p:nvPicPr>
        <p:blipFill>
          <a:blip r:embed="rId2"/>
          <a:stretch/>
        </p:blipFill>
        <p:spPr>
          <a:xfrm>
            <a:off x="324000" y="260280"/>
            <a:ext cx="4535280" cy="31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t012f071f0a43e1f490"/>
          <p:cNvPicPr/>
          <p:nvPr/>
        </p:nvPicPr>
        <p:blipFill>
          <a:blip r:embed="rId3"/>
          <a:stretch/>
        </p:blipFill>
        <p:spPr>
          <a:xfrm>
            <a:off x="3419640" y="3500280"/>
            <a:ext cx="5422680" cy="30481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796000" y="1268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地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4360" y="453852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苔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35018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0" y="10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城站在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140360" y="620640"/>
            <a:ext cx="381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城站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菲尔德斯半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12466228_355886"/>
          <p:cNvPicPr/>
          <p:nvPr/>
        </p:nvPicPr>
        <p:blipFill>
          <a:blip r:embed="rId2"/>
          <a:stretch/>
        </p:blipFill>
        <p:spPr>
          <a:xfrm>
            <a:off x="2771640" y="2513160"/>
            <a:ext cx="5915160" cy="3962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684360" y="422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长城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0:49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41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