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D86A-2501-4B54-8320-9865C75377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2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898B-3760-4A2A-A5E1-D693E7652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页眉占位符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10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课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U1_Reading2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D75A-2FA6-41E7-A656-51141532CCA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4F5-7B4F-466B-AB0B-15CE13CB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66F-CC92-4B95-9387-3BED4F0D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CCD-ADC9-4FE6-963A-0B2175BF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950-BCA0-41E7-8E3C-A5076561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755-A111-4DA6-BE57-AFE608B1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CDA-ECA8-42A0-A486-10A62E2B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083-40C6-4B9A-A64A-B4DAF2BB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A31-C4E3-49CD-AA81-0CD770A1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C60-F378-4EF9-892F-00FE9D74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958-0478-46B6-A50D-B5DFEFDE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DDF-A247-4EB6-81F1-256352EC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F78A-008C-4DA8-955C-78373557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3070-C5FE-48D5-93C8-BB8C9D279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J:\教育语文四上\23 一封南极寄来的信+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682560" y="1609560"/>
            <a:ext cx="777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微软雅黑"/>
                <a:ea typeface="微软雅黑"/>
              </a:rPr>
              <a:t>一封从南极寄来的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" descr="54328127417"/>
          <p:cNvPicPr/>
          <p:nvPr/>
        </p:nvPicPr>
        <p:blipFill>
          <a:blip r:embed="rId2"/>
          <a:stretch/>
        </p:blipFill>
        <p:spPr>
          <a:xfrm>
            <a:off x="7315200" y="762120"/>
            <a:ext cx="933480" cy="847440"/>
          </a:xfrm>
          <a:prstGeom prst="rect">
            <a:avLst/>
          </a:prstGeom>
          <a:ln w="0">
            <a:noFill/>
          </a:ln>
        </p:spPr>
      </p:pic>
      <p:sp>
        <p:nvSpPr>
          <p:cNvPr id="51" name="矩形 5"/>
          <p:cNvSpPr/>
          <p:nvPr/>
        </p:nvSpPr>
        <p:spPr>
          <a:xfrm>
            <a:off x="1679400" y="602136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826920" y="1268280"/>
            <a:ext cx="648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极昼      刮风    野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厘米      平添    附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智利      单调    企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腐朽      遗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J:\教育语文四上\对话筐 拷贝.jpg"/>
          <p:cNvPicPr/>
          <p:nvPr/>
        </p:nvPicPr>
        <p:blipFill>
          <a:blip r:embed="rId2"/>
          <a:stretch/>
        </p:blipFill>
        <p:spPr>
          <a:xfrm>
            <a:off x="5730840" y="0"/>
            <a:ext cx="3413160" cy="171468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215040" y="28584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彩云"/>
                <a:ea typeface="华文彩云"/>
              </a:rPr>
              <a:t>读一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900000" y="1268280"/>
            <a:ext cx="6500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思考：课文讲了关于南极的哪些内容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971640" y="2637000"/>
            <a:ext cx="650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了这封来信，南极给你的感受是怎样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J:\教育语文四上\对话筐 拷贝.jpg"/>
          <p:cNvPicPr/>
          <p:nvPr/>
        </p:nvPicPr>
        <p:blipFill>
          <a:blip r:embed="rId2"/>
          <a:stretch/>
        </p:blipFill>
        <p:spPr>
          <a:xfrm>
            <a:off x="0" y="0"/>
            <a:ext cx="3413160" cy="1714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611280" y="18900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826920" y="1125360"/>
            <a:ext cx="60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黄绿色的地衣长得极慢，有的品种长一厘米需要一千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长城站周围，苔藓长得非常茂盛 ，远远望去，一片翠绿，给这孤寂的大地增添了几分生机，也为这银白世界平添了几分色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79280" y="115920"/>
            <a:ext cx="2089080" cy="1009440"/>
          </a:xfrm>
          <a:custGeom>
            <a:avLst/>
            <a:gdLst>
              <a:gd name="textAreaLeft" fmla="*/ 0 w 2089080"/>
              <a:gd name="textAreaRight" fmla="*/ 2089440 w 2089080"/>
              <a:gd name="textAreaTop" fmla="*/ 262440 h 1009440"/>
              <a:gd name="textAreaBottom" fmla="*/ 74700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79280" y="260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词句积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1403280" y="1773360"/>
            <a:ext cx="667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称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问候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正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④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祝愿的语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⑤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署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⑥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写信日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332000" y="69228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书信一般由六部分组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7E31-E7F9-4C81-9FC2-498FD927E6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6"/>
          <p:cNvSpPr/>
          <p:nvPr/>
        </p:nvSpPr>
        <p:spPr>
          <a:xfrm>
            <a:off x="1123920" y="21668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图片1"/>
          <p:cNvPicPr/>
          <p:nvPr/>
        </p:nvPicPr>
        <p:blipFill>
          <a:blip r:embed="rId1"/>
          <a:stretch/>
        </p:blipFill>
        <p:spPr>
          <a:xfrm>
            <a:off x="250920" y="549360"/>
            <a:ext cx="3216240" cy="4003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3564000" y="260280"/>
            <a:ext cx="5364000" cy="29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1985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15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日，中国的第一个南极考察站长城站在南极洲外围的乔治王岛（南纬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62°13′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、西经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58°58′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附近 ）建立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1989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月，中国的第二个南极考察站中山站在南极大陆的拉斯曼丘陵建立。（南纬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69°22′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、西经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76°23′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附近 ）建立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2009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月，中国的第三个南极考察站昆仑站在南极内陆冰盖最高点海拔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4087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米的冰穹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A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西南方向约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7.3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公里（南纬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80°25′01″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、西经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77°06′58″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附近）建立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由于地球自转的原因，北极点和南极点始终处于不断的移动之中，这种移动叫做极移。南极点并非是南极冰盖的最高点，目前南极点附近的冰层每年约向西经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43°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方向塑性移动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10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米左右，南极点的标志是一个立柱上的金属球。每年的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12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0" lang="en-US" sz="1600" spc="-1" strike="noStrike">
                <a:solidFill>
                  <a:srgbClr val="0033cc"/>
                </a:solidFill>
                <a:latin typeface="黑体"/>
                <a:ea typeface="黑体"/>
              </a:rPr>
              <a:t>31</a:t>
            </a: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日精确测定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250920" y="4941720"/>
            <a:ext cx="770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宋体"/>
              </a:rPr>
              <a:t>南极一共有四个点：极点、冰点、磁点和高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宋体"/>
              </a:rPr>
              <a:t>美国“南极点” （阿蒙森</a:t>
            </a:r>
            <a:r>
              <a:rPr b="1" lang="en-US" sz="2000" spc="-1" strike="noStrike">
                <a:solidFill>
                  <a:srgbClr val="ff9966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ff9966"/>
                </a:solidFill>
                <a:latin typeface="宋体"/>
              </a:rPr>
              <a:t>斯科特站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宋体"/>
              </a:rPr>
              <a:t>法国“南极磁点”（迪蒙</a:t>
            </a:r>
            <a:r>
              <a:rPr b="1" lang="en-US" sz="2000" spc="-1" strike="noStrike">
                <a:solidFill>
                  <a:srgbClr val="ff9966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ff9966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ff9966"/>
                </a:solidFill>
                <a:latin typeface="宋体"/>
              </a:rPr>
              <a:t>迪维尔站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宋体"/>
              </a:rPr>
              <a:t>前苏联“南极冰点”（东方站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66"/>
                </a:solidFill>
                <a:latin typeface="宋体"/>
              </a:rPr>
              <a:t>高点：</a:t>
            </a:r>
            <a:r>
              <a:rPr b="1" lang="en-US" sz="2000" spc="-1" strike="noStrike">
                <a:solidFill>
                  <a:srgbClr val="ff9966"/>
                </a:solidFill>
                <a:latin typeface="宋体"/>
              </a:rPr>
              <a:t>Dome A</a:t>
            </a:r>
            <a:r>
              <a:rPr b="1" lang="zh-CN" sz="2000" spc="-1" strike="noStrike">
                <a:solidFill>
                  <a:srgbClr val="ff9966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1974960" y="6100920"/>
            <a:ext cx="67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2006817887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200822120394857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20081220575881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blue-penguins-hopkins-9570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4:39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19:37Z</dcterms:modified>
  <cp:revision>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