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D22E-4BBE-4300-93CC-48F19B941D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8239-61EA-4FF9-95B3-FCCBEC71BF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F24-95E3-46BE-BFCA-03737C0A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D23-3795-4E24-93BF-0C6BE179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22B-63C5-4771-B12C-1C101F3E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3BF-B7E6-4358-9365-9B0DD904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D4F-E7F8-4685-BB47-75608039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1AB-DDC2-43E3-902A-1B10FC52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BDA-E69C-4D9D-8A34-B49E9F87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392-3ADE-4BDB-83D1-76B627B4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249-A5F1-4FFB-BED4-C4F8B37D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0BB-A291-4569-B5AE-52D7CD8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ED9-E5B7-4BCA-9FF7-59AC435F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3C6-0D6D-44AE-9B09-82184267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4385-89F0-458F-A10F-4AD2D951F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12800" y="2852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一个纯真的朋友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79028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684360" y="278136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就是这个纯真的朋友让作者深深怀念，你能从文中找到作者深深怀念她的句子读读，说说自己的理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2033640" cy="544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小蜜蜂"/>
          <p:cNvPicPr/>
          <p:nvPr/>
        </p:nvPicPr>
        <p:blipFill>
          <a:blip r:embed="rId2"/>
          <a:stretch/>
        </p:blipFill>
        <p:spPr>
          <a:xfrm>
            <a:off x="6924600" y="4292640"/>
            <a:ext cx="2219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2033640" cy="544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611280" y="1557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几次想把它收起来，却始终下不了决心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但每次我一翻开它就又把它合上了。我怕糟蹋了它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忽略它的时候，它是那样；我珍爱它的时候，她仍然是那样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9640" y="4292640"/>
            <a:ext cx="8280360" cy="10688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这些句子细腻地表达了作者的感受，可见作者对这个笔记本十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珍爱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。同时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点了题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，笔记本就像一个纯真的朋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默默地陪伴我，注视我，不争宠，不虚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84360" y="3068640"/>
            <a:ext cx="777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讨论：这样一位普通的朋友，一个普通的笔记本，值得这样一位鼎鼎大名的作家如此印象深刻吗？说说自己的看法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有纯真的朋友吗？给大家介绍一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拓展延伸"/>
          <p:cNvPicPr/>
          <p:nvPr/>
        </p:nvPicPr>
        <p:blipFill>
          <a:blip r:embed="rId1"/>
          <a:stretch/>
        </p:blipFill>
        <p:spPr>
          <a:xfrm>
            <a:off x="684360" y="765000"/>
            <a:ext cx="2535120" cy="16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432080" y="2695680"/>
            <a:ext cx="6481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给多音字组词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薄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ó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 ）   露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l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ù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 ）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o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 ） 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lòu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作业布置"/>
          <p:cNvPicPr/>
          <p:nvPr/>
        </p:nvPicPr>
        <p:blipFill>
          <a:blip r:embed="rId1"/>
          <a:stretch/>
        </p:blipFill>
        <p:spPr>
          <a:xfrm>
            <a:off x="539640" y="620640"/>
            <a:ext cx="2822760" cy="176076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409680" y="600228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348000" y="2708280"/>
            <a:ext cx="250020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0D6B-4F89-489A-B2C7-1302EDE823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826920" y="2708280"/>
            <a:ext cx="7921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读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稿、踏、恳、措、琐、惦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默读课文，理解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纯真朋友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含义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课文中表现人物的写作方法，能结合理解文中重点语句进行人物分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学习目标"/>
          <p:cNvPicPr/>
          <p:nvPr/>
        </p:nvPicPr>
        <p:blipFill>
          <a:blip r:embed="rId1"/>
          <a:stretch/>
        </p:blipFill>
        <p:spPr>
          <a:xfrm>
            <a:off x="468360" y="549360"/>
            <a:ext cx="224316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84360" y="1916280"/>
            <a:ext cx="7920000" cy="44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朋友，可以把快乐加倍，把悲伤减半。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马库斯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.T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西塞罗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看你的朋友，就可以知道你是什么样的人。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米格尔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德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塞万提斯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创设情境"/>
          <p:cNvPicPr/>
          <p:nvPr/>
        </p:nvPicPr>
        <p:blipFill>
          <a:blip r:embed="rId1"/>
          <a:stretch/>
        </p:blipFill>
        <p:spPr>
          <a:xfrm>
            <a:off x="611280" y="907920"/>
            <a:ext cx="22176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971640" y="386064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黑体"/>
                <a:ea typeface="黑体"/>
              </a:rPr>
              <a:t>稿  踏  恳  措  琐  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116000" y="479736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1042920" y="3787920"/>
            <a:ext cx="72741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971640" y="31399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268360" y="3139920"/>
            <a:ext cx="9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419640" y="3139920"/>
            <a:ext cx="9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ě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716360" y="313992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867280" y="3139920"/>
            <a:ext cx="9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020000" y="3139920"/>
            <a:ext cx="13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à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生字学习"/>
          <p:cNvPicPr/>
          <p:nvPr/>
        </p:nvPicPr>
        <p:blipFill>
          <a:blip r:embed="rId1"/>
          <a:stretch/>
        </p:blipFill>
        <p:spPr>
          <a:xfrm>
            <a:off x="395280" y="476280"/>
            <a:ext cx="20289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7236000" y="5516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50920" y="2852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阅读课文并思考：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纯真的朋友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指谁？为什么说是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纯真的朋友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初读感知"/>
          <p:cNvPicPr/>
          <p:nvPr/>
        </p:nvPicPr>
        <p:blipFill>
          <a:blip r:embed="rId1"/>
          <a:stretch/>
        </p:blipFill>
        <p:spPr>
          <a:xfrm>
            <a:off x="755640" y="105264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小蜜蜂"/>
          <p:cNvPicPr/>
          <p:nvPr/>
        </p:nvPicPr>
        <p:blipFill>
          <a:blip r:embed="rId2"/>
          <a:stretch/>
        </p:blipFill>
        <p:spPr>
          <a:xfrm>
            <a:off x="6372360" y="4149720"/>
            <a:ext cx="2219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68360" y="2924280"/>
            <a:ext cx="8136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请同学们从文中找到描写刘燕的句子读一读，说说她留给我们什么印象。 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小蜜蜂"/>
          <p:cNvPicPr/>
          <p:nvPr/>
        </p:nvPicPr>
        <p:blipFill>
          <a:blip r:embed="rId1"/>
          <a:stretch/>
        </p:blipFill>
        <p:spPr>
          <a:xfrm>
            <a:off x="6924600" y="4292640"/>
            <a:ext cx="2219400" cy="2324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细读感悟"/>
          <p:cNvPicPr/>
          <p:nvPr/>
        </p:nvPicPr>
        <p:blipFill>
          <a:blip r:embed="rId2"/>
          <a:stretch/>
        </p:blipFill>
        <p:spPr>
          <a:xfrm>
            <a:off x="539640" y="836640"/>
            <a:ext cx="203364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50920" y="2457360"/>
            <a:ext cx="8893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她长得比较瘦小，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她是个平凡家庭的  平凡孩子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给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凡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换一个意思相近的词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平凡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词让你知道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个貌不惊人的平凡孩子怎么会让大家念念不忘。就是这样的反差引起读者的兴趣与思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203364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560520" y="2060640"/>
            <a:ext cx="799308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只有当大家要离散的时候，她才用犹疑不定的步子慢慢地走到我身边，她用同样犹疑不定的眼光看了我一下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考：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句子里连用了两个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犹疑不定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从中看出了什么？ 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635280" y="57801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突出她平凡，胆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203364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55640" y="2124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……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觉得她非常温和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很诚恳地想得到我的签名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498480" y="327672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一读，说说刘燕留给你的印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11280" y="3860640"/>
            <a:ext cx="8280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在争先恐后的向我索要签名的人群中，她是那样的与众不同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没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吹捧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没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虚荣，只用自己最朴实的方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赠送笔记本，表达尊重与歉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细读感悟"/>
          <p:cNvPicPr/>
          <p:nvPr/>
        </p:nvPicPr>
        <p:blipFill>
          <a:blip r:embed="rId1"/>
          <a:stretch/>
        </p:blipFill>
        <p:spPr>
          <a:xfrm>
            <a:off x="539640" y="836640"/>
            <a:ext cx="203364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17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19:1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