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F7B6-DC85-42EA-8F18-D9637625448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0E5B-4F6D-4902-92ED-7FC9DFB71FD4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31D-0B58-43F9-B818-319A4219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09D-8E3C-40E2-ACF9-D871ACAA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4E2-F2BA-4EF1-8021-BC588E5F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0AD-0F4A-4F56-8781-ECBC6620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FE9D-8538-4890-8BDC-7E643B34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1007-0D97-4CA2-889A-60B59B79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D862-02E1-4A1A-906E-C9CEB2F6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9660-80E5-4DCA-925E-FADB3A28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1E19-6373-4218-AE94-BBC11926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5254-2B35-4109-93B0-78A0CF88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A057-78AE-4F72-9083-7B2BD9D4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D1C-0990-4F53-B14B-03FA5C8A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3547-1383-4CC7-977B-2CF4571C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6688-61FA-4F99-BAE6-7A45F73E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5946-1904-4C4B-B4ED-84D88936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B6C8-AD41-43FD-AC77-E15D6C01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421F-D5E8-422F-B299-2C2724D2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E5D-1933-4560-84B9-506CAEA8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803-8CE6-43F3-8032-5C2C6217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F40-9C41-4075-A1AB-65BD266D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1BC-ABD8-4A92-AD1E-0E7C317A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EE5-F4B6-473E-BB0C-0D224468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804-2A2A-41A2-B1FA-F00A2FB4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076-08F3-4D8B-8E3C-8A604181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8C8C-9A22-4D56-BA1B-423A22852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30DC-E745-4BF9-80AA-D8C1FA0F9D59}" type="slidenum">
              <a:rPr b="0" lang="en-US" sz="1400" spc="-1" strike="noStrike">
                <a:solidFill>
                  <a:srgbClr val="007a77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Picture 9" descr="2428fc390833e489d56225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10"/>
          <p:cNvSpPr txBox="1"/>
          <p:nvPr/>
        </p:nvSpPr>
        <p:spPr>
          <a:xfrm>
            <a:off x="608040" y="533520"/>
            <a:ext cx="38098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☆</a:t>
            </a:r>
            <a:r>
              <a:rPr b="1" lang="zh-CN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古诗词背诵☆</a:t>
            </a:r>
            <a:endParaRPr b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1647720" y="1830240"/>
            <a:ext cx="5848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隶书"/>
              </a:rPr>
              <a:t>己亥杂诗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1837800" y="5680080"/>
            <a:ext cx="58795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6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3" descr="1819284747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3399"/>
                </a:solidFill>
                <a:uFillTx/>
                <a:latin typeface="Arial"/>
              </a:rPr>
              <a:t>己亥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杂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            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清  龚自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九州生气恃风雷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万马齐喑究可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我劝天公重抖擞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拘一格降人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7eaac902d7e40e5c738b656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【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注释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天公：天帝，在这里指清朝皇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703240" y="2743200"/>
            <a:ext cx="7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7a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重抖擞：重新振作精神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1" descr="1819284747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914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3399"/>
                </a:solidFill>
                <a:uFillTx/>
                <a:latin typeface="Arial"/>
              </a:rPr>
              <a:t>己亥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杂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            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清  龚自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九州生气恃风雷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万马齐喑究可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我劝天公重抖擞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拘一格降人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7eaac902d7e40e5c738b656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【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注释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不拘一格：不拘守一定的规格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4414680" y="2708280"/>
            <a:ext cx="11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7a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降：赐予，给予。这里有选用、产生的意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3627e01b333ef537dab4bd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914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【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译文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】 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85800" y="29718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风雷激荡般的巨大力量才能使中国大地发出勃勃生气，然而朝野臣民噤口不语终究是一种悲哀。我奉劝天帝能重新振作精神，不要拘守一定规格降下更多的人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b7dbd3ed6b07887bacafd5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一首出色的政治诗。全诗层次清晰，共分三个层次：第一层，写了万马齐喑，朝野噤声的死气沉沉的现实社会。第二层，作者指出了要改变这种沉闷，腐朽的观状，就必须依靠风雷激荡般的巨大力量。暗喻必须经历波澜壮阔的社会变革才能使中国变得生机勃勃。第三层，作者认为这样的力量来源于人材，而朝庭所应该做的就是破格荐用人材，只有这样，中国才有希望。诗中选用“九州”、“风雷”、“万马”、“天公”这样的具有壮伟特征的主观意象，寓意深刻，气势磅礴。诗人热情地呼唤社会变革，而且认为这种变革越大越好，大得该像惊天动地的春雷一样。他又认为实行社会变革最重要的因素是人才，所以他热情地呼唤：天公啊！请你抖擞精神，把各式各样的人才都赐给我们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【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赏析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】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0" name="Picture 4" descr="b7dbd3ed6b07887bacafd5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3276720" y="7621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己亥杂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1320" y="1905120"/>
            <a:ext cx="48798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九州生气恃风雷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马齐喑究可哀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劝天公重抖擞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拘一格降人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724280" y="2209680"/>
            <a:ext cx="6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a77"/>
                </a:solidFill>
                <a:latin typeface="Arial"/>
                <a:ea typeface="宋体"/>
              </a:rPr>
              <a:t>}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5334120" y="251460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政治昏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唤改革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4724280" y="3733920"/>
            <a:ext cx="6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a77"/>
                </a:solidFill>
                <a:latin typeface="Arial"/>
                <a:ea typeface="宋体"/>
              </a:rPr>
              <a:t>}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257800" y="3962520"/>
            <a:ext cx="1676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殷切希望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底呼唤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400800" y="1219320"/>
            <a:ext cx="121932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700" spc="-1" strike="noStrike">
                <a:solidFill>
                  <a:srgbClr val="007a77"/>
                </a:solidFill>
                <a:latin typeface="华文彩云"/>
              </a:rPr>
              <a:t>}</a:t>
            </a:r>
            <a:endParaRPr b="0" lang="en-US" sz="277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7395480" y="2590920"/>
            <a:ext cx="60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希望改变现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7929000" y="2590920"/>
            <a:ext cx="60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期待人才辈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文本框 1"/>
          <p:cNvSpPr/>
          <p:nvPr/>
        </p:nvSpPr>
        <p:spPr>
          <a:xfrm>
            <a:off x="1469880" y="5532480"/>
            <a:ext cx="55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3" name="Picture 4" descr="ed16143174d428b51b4cff33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5"/>
          <p:cNvSpPr txBox="1"/>
          <p:nvPr/>
        </p:nvSpPr>
        <p:spPr>
          <a:xfrm>
            <a:off x="762120" y="685800"/>
            <a:ext cx="4610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课外拓展</a:t>
            </a:r>
            <a:endParaRPr b="1" lang="en-US" sz="96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143000" y="1981080"/>
            <a:ext cx="64771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Arial"/>
                <a:ea typeface="宋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华文彩云"/>
              </a:rPr>
              <a:t>己亥杂诗（第五首）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彩云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华文彩云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华文彩云"/>
              </a:rPr>
              <a:t>【</a:t>
            </a:r>
            <a:r>
              <a:rPr b="0" lang="zh-CN" sz="4000" spc="-1" strike="noStrike">
                <a:solidFill>
                  <a:srgbClr val="000000"/>
                </a:solidFill>
                <a:latin typeface="华文彩云"/>
              </a:rPr>
              <a:t>清</a:t>
            </a:r>
            <a:r>
              <a:rPr b="0" lang="en-US" sz="4000" spc="-1" strike="noStrike">
                <a:solidFill>
                  <a:srgbClr val="000000"/>
                </a:solidFill>
                <a:latin typeface="华文彩云"/>
              </a:rPr>
              <a:t>】</a:t>
            </a:r>
            <a:r>
              <a:rPr b="0" lang="zh-CN" sz="4000" spc="-1" strike="noStrike">
                <a:solidFill>
                  <a:srgbClr val="000000"/>
                </a:solidFill>
                <a:latin typeface="华文彩云"/>
              </a:rPr>
              <a:t>龚自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彩云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华文彩云"/>
              </a:rPr>
              <a:t>浩荡离愁白日斜，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彩云"/>
              </a:rPr>
              <a:t>　　吟鞭东指即天涯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彩云"/>
              </a:rPr>
              <a:t>　　落红不是无情物，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彩云"/>
              </a:rPr>
              <a:t>　   化作春泥更护花 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A95B-8CA8-4633-AA67-2AB8E96C24B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Picture 4" descr="2009922193923987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5"/>
          <p:cNvSpPr txBox="1"/>
          <p:nvPr/>
        </p:nvSpPr>
        <p:spPr>
          <a:xfrm>
            <a:off x="0" y="0"/>
            <a:ext cx="1600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作者：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800600" y="685800"/>
            <a:ext cx="3505320" cy="2228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龚自珍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9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～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4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）清代思想家、文学家及改良主义的先驱者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中举人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中进士。曾任内阁中书、宗人府主事和礼部主事等官职。主张革除弊政，抵制外国侵略，曾全力支持林则徐禁除鸦片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辞官南归，次年暴卒于江苏丹阳云阳书院。他的诗文主张</a:t>
            </a:r>
            <a:r>
              <a:rPr b="1" lang="zh-CN" sz="20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法</a:t>
            </a:r>
            <a:r>
              <a:rPr b="1" lang="zh-CN" sz="20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图</a:t>
            </a:r>
            <a:r>
              <a:rPr b="1" lang="zh-CN" sz="20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揭露清统治者的腐朽，洋溢着爱国热情，被柳亚子誉为</a:t>
            </a:r>
            <a:r>
              <a:rPr b="1" lang="zh-CN" sz="20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百年来第一流</a:t>
            </a:r>
            <a:r>
              <a:rPr b="1" lang="zh-CN" sz="20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著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庵文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留存文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篇，诗词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，今人辑为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龚自珍全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著名诗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己亥杂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Picture 8" descr="gongzizhen3"/>
          <p:cNvPicPr/>
          <p:nvPr/>
        </p:nvPicPr>
        <p:blipFill>
          <a:blip r:embed="rId2"/>
          <a:stretch/>
        </p:blipFill>
        <p:spPr>
          <a:xfrm>
            <a:off x="762120" y="685800"/>
            <a:ext cx="377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3" name="Picture 4" descr="4157473ca5742aff7f1e71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304920" y="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作背景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85800" y="114300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己亥杂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清代诗人龚自珍创作的一组诗集。己亥为清道光十九年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3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这一年作者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因厌恶仕途，辞官离京返杭，后因迎接眷属，又往返一次。在往返京杭的途中，共写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七绝，总题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己亥杂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一组自叙诗，写了平生出处、著述、交游等，题材极为广泛，其中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及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被我国中小学语文课本收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cd49ceda2c3ee91d95ee3773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3399"/>
                </a:solidFill>
                <a:uFillTx/>
                <a:latin typeface="Arial"/>
              </a:rPr>
              <a:t>己亥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杂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3360" y="19807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                 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清  龚自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九州生气恃风雷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马齐喑究可哀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劝天公重抖擞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拘一格降人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8"/>
          <p:cNvSpPr/>
          <p:nvPr/>
        </p:nvSpPr>
        <p:spPr>
          <a:xfrm>
            <a:off x="2895480" y="30481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0" name="Picture 4" descr="20087310205383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【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注释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676160" y="1828800"/>
            <a:ext cx="71658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道光十九年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。这一年是龚自珍辞官南归，后来又北上迎接家属，在短途中写了三百五十首短诗，这是其中的第二百二十首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57200" y="1752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己亥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3" descr="20071224201749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3399"/>
                </a:solidFill>
                <a:uFillTx/>
                <a:latin typeface="Arial"/>
              </a:rPr>
              <a:t>己亥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杂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520" y="190512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             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清  龚自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九州生气恃风雷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万马齐喑究可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我劝天公重抖擞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拘一格降人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f6b923c5f4e93a91d00060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【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注释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3360" y="17521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九州：指中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189600" y="2362320"/>
            <a:ext cx="8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7a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  <a:ea typeface="宋体"/>
              </a:rPr>
              <a:t>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生气：焕发生机，生气勃勃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928680" y="2895480"/>
            <a:ext cx="101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7a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  <a:ea typeface="宋体"/>
              </a:rPr>
              <a:t>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恃风雷：恃，依靠。风雷，本指风神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雷神，这里比喻疾风迅雷般的社会变革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abc64c3d6e6e78ec7c1e711e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3399"/>
                </a:solidFill>
                <a:uFillTx/>
                <a:latin typeface="Arial"/>
              </a:rPr>
              <a:t>己亥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杂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             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清  龚自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九州生气恃风雷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万马齐喑究可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我劝天公重抖擞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拘一格降人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558800" y="3068640"/>
            <a:ext cx="7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7a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究：毕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6" name="Picture 5" descr="7eaac902d7e40e5c738b656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【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注释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喑：哑。比喻在高压政治下，大家都不敢说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5:48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9:47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