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E8B-B3DF-4826-A22E-3585ECE0B7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88F0-EC26-4943-9E71-80A8EC6D7B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474-C29E-4A23-841A-6D6274D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D94-4E6E-4BAF-9779-FB9CCA2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4CA-B21D-4BFB-A525-DB5C92AF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E6C-51BC-4839-BE45-8BAE177E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9ED-7CD1-4CDF-9DCB-D6823F2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95D-9C2D-44C6-B043-4B394E5B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335-E302-4B60-BC09-1C24B2C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13D-F17B-4A56-A238-70D90C8C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0A6-59E7-4115-AAC6-63F5D987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222-3998-49DD-999A-63670A9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7F3-291C-4A18-B3BE-FFA4935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91F-E120-434C-8ECA-ADEC650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130-EBE0-4F35-8455-8AA635DA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2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172200" cy="18622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2009880" y="5943600"/>
            <a:ext cx="559116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80880" y="9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的心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6586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50532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26816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58840" y="2113200"/>
            <a:ext cx="8624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男孩又来到树下。树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爬到我的树干上，在树枝上荡秋千，吃果子，到我的树荫下快快活活地玩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长大了，不想再这么玩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男孩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需要钱，你能给我钱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很抱歉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树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没钱。我只有树叶和果子，你采些果子去卖吧，卖到城里去，就有钱了，这样你会高兴的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男孩爬上去，采下果子，把果子拿走了。树感到很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此后，男孩很久很久没有来，树又感到悲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91520" y="4800600"/>
            <a:ext cx="1143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0880" y="5181480"/>
            <a:ext cx="12193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334120" y="5562720"/>
            <a:ext cx="2666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143000" y="4724280"/>
            <a:ext cx="3429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9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的心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6586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50532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26816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511488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8780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662004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3828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126240" y="24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少年）男孩与大树的第一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580080" y="25146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果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280" y="1540080"/>
            <a:ext cx="883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终于有一天，那男孩又来到树下，他已经长大了。树高兴得颤抖起来，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爬到我的树枝上来荡秋千，快活快活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忙得没空玩这个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男孩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要成家立业，我要间屋子取暖。你能给我一间屋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没有屋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树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森林是我的屋。我想，你可以把我的树枝砍下来做间屋，这样你会满意的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是，男孩砍下了树枝，背去造屋。树感到很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2057400" y="4191120"/>
            <a:ext cx="2514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6629400" y="419112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9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的心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6586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50532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26816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11488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8780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662004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3828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126240" y="24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少年）男孩与大树的第一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580080" y="25146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果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90512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667960" y="13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590120" y="3122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成人）男孩与大树的第二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573960" y="31845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树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90440" y="1703880"/>
            <a:ext cx="8763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男孩又有好久好久没有来了。有一天，他突然回到了树下，树是那样的兴奋，连话都说不出来了。过了一会儿，树轻轻地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来啊，来玩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很伤心，没心思玩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想要条船，远远地离开这儿。你给我条船好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我的树干锯下来做船吧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树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样你就能离开这里，你就会快乐的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人把树干砍下来拉走，他真的做了条船，离开了这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很欣慰，但心底里却很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990720" y="4343400"/>
            <a:ext cx="6400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752480" y="1752480"/>
            <a:ext cx="2514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182600" y="5181480"/>
            <a:ext cx="46483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9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的心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586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50532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26816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11488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8780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62004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73828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126240" y="24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少年）男孩与大树的第一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580080" y="25146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果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190512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667960" y="13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1590120" y="3122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成人）男孩与大树的第二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6573960" y="31845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树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351468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426816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兴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511488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6543000" y="1386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欣慰、难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1596600" y="38084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成人）男孩与大树的第三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580080" y="38703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树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33520" y="132300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又过了好久，这个人回到了树下。树轻轻地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真抱歉，孩子，我什么也没有剩，什么也不能给你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没有果子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的牙咬不动果子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没有树枝了，你没法荡秋千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老了，荡不动秋千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的树干也没了，你不能爬树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太累，不想爬树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39720" y="1891440"/>
            <a:ext cx="786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低声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很抱歉。我很想再给你一些东西，但什么也没剩下。我只是个老树墩，我真抱歉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现在我不要很多，只需要一个安静的地方坐一会儿，歇一会儿，我太累了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爽快地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吧，一个老树墩正好让你坐下歇歇脚，来吧，孩子，坐下，坐下休息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坐在树墩上，轻轻地抚摸着这个无私的朋友。这时，他仿佛看见了，看见了一棵很高很高的大树，看见了树下一个快乐的孩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3429000" y="1066680"/>
            <a:ext cx="48769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685800" y="1981080"/>
            <a:ext cx="14479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1295280" y="3276720"/>
            <a:ext cx="2286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9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的心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6586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350532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26816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11488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780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6620040" y="121932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38288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126240" y="24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少年）男孩与大树的第一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6580080" y="25146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果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90512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667960" y="13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590120" y="3122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成人）男孩与大树的第二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573960" y="31845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树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51468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6816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兴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114880" y="169056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543000" y="1386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欣慰、难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1596600" y="38084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成人）男孩与大树的第三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6580080" y="38703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树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590120" y="44942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老年）男孩与大树的第四次会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6573960" y="45561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5050"/>
                </a:solidFill>
                <a:latin typeface="Arial"/>
                <a:ea typeface="黑体"/>
              </a:rPr>
              <a:t>给予树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095560" y="1676520"/>
            <a:ext cx="4952880" cy="2476440"/>
          </a:xfrm>
          <a:prstGeom prst="cloudCallout">
            <a:avLst>
              <a:gd name="adj1" fmla="val -35129"/>
              <a:gd name="adj2" fmla="val 8608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会是一棵怎样的大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1143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962520" y="1447920"/>
            <a:ext cx="458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谢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西弗斯汀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930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9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诗人、插画家、剧作家、作曲家、乡村歌手。作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世纪最伟大的绘本作家之一，他的绘本作品被翻译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多种语言，全球销量超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亿册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97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爱心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出版轰动文坛，一举奠定了谢尔在当代美国文学界的地位。在此后几十年，该书畅销不衰，累计销量超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万。其他脍炙人口的作品还有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失落的一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失落的一角遇见大圆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阁楼上的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行道的尽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往上跌了一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等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Shel-Silverstein1"/>
          <p:cNvPicPr/>
          <p:nvPr/>
        </p:nvPicPr>
        <p:blipFill>
          <a:blip r:embed="rId1"/>
          <a:stretch/>
        </p:blipFill>
        <p:spPr>
          <a:xfrm>
            <a:off x="762120" y="1295280"/>
            <a:ext cx="2971800" cy="39816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"/>
          <p:cNvSpPr/>
          <p:nvPr/>
        </p:nvSpPr>
        <p:spPr>
          <a:xfrm>
            <a:off x="1298520" y="59878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413F-3D28-46DE-A3C9-D4126E1D99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2280" y="2208960"/>
            <a:ext cx="899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前，一棵树和一个男孩成了好朋友。男孩常到树下，把落叶拾起来，做成一个叶冠，装成森林之王。有时候，他爬上树去，抓住树枝荡秋千，或者吃树上结的果子，要是他累了，就在树荫下休息。男孩爱这棵大树，树感到很快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日子一天天过去，男孩渐渐长大了。树常常感到孤独，因为男孩不来玩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253040" y="304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大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8840" y="1218600"/>
            <a:ext cx="8624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男孩又来到树下。树说：“孩子，爬到我的树干上，在树枝上荡秋千，吃果子，到我的树荫下快快活活地玩吧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长大了，不想再这么玩，”男孩说，“我需要钱，你能给我钱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很抱歉，”树说，“我没钱。我只有树叶和果子，你采些果子去卖吧，卖到城里去，就有钱了，这样你会高兴的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52280" y="3313800"/>
            <a:ext cx="8839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男孩爬上去，采下果子，把果子拿走了。树感到很幸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此后，男孩很久很久没有来，树又感到悲伤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终于有一天，那男孩又来到树下，他已经长大了。树高兴得颤抖起来，说：“孩子，爬到我的树枝上来荡秋千，快活快活吧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忙得没空玩这个，”男孩说，“我要成家立业，我要间屋子取暖。你能给我一间屋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90440" y="181224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没有屋，”树说，“森林是我的屋。我想，你可以把我的树枝砍下来做间屋，这样你会满意的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是，男孩砍下了树枝，背去造屋。树感到很高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男孩又有好久好久没有来了。有一天，他突然回到了树下，树是那样的兴奋，连话都说不出来了。过了一会儿，树轻轻地说：“来啊，来玩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很伤心，没心思玩，”他说，“我想要条船，远远地离开这儿。你给我条船好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33520" y="169776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把我的树干锯下来做船吧，”树说，“这样你就能离开这里，你就会快乐的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人把树干砍下来拉走，他真的做了条船，离开了这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很欣慰，但心底里却很难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又过了好久，这个人回到了树下。树轻轻地说：“我真抱歉，孩子，我什么也没有剩，什么也不能给你了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1752480" y="6019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1513440"/>
            <a:ext cx="7864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说：“我没有果子了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“我的牙咬不动果子了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说：“我没有树枝了，你没法荡秋千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“我老了，荡不动秋千了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说：“我的树干也没了，你不能爬树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“我太累，不想爬树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低声说：“我很抱歉。我很想再给你一些东西，但什么也没剩下。我只是个老树墩，我真抱歉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说：“现在我不要很多，只需要一个安静的地方坐一会儿，歇一会儿，我太累了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树爽快地说：“好吧，一个老树墩正好让你坐下歇歇脚，来吧，孩子，坐下，坐下休息吧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坐在树墩上，轻轻地抚摸着这个无私的朋友。这时，他仿佛看见了，看见了一棵很高很高的大树，看见了树下一个快乐的孩子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2280" y="23292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前，一棵树和一个男孩成了好朋友。男孩常到树下，把落叶拾起来，做成一个叶冠，装成森林之王。有时候，他爬上树去，抓住树枝荡秋千，或者吃树上结的果子，要是他累了，就在树荫下休息。男孩爱这棵大树，树感到很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日子一天天过去，男孩渐渐长大了。树常常感到孤独，因为男孩不来玩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253040" y="304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大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72200" y="3048120"/>
            <a:ext cx="2666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04920" y="3429000"/>
            <a:ext cx="2971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553080" y="3886200"/>
            <a:ext cx="23623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28600" y="4267080"/>
            <a:ext cx="3657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20:20Z</dcterms:modified>
  <cp:revision>1</cp:revision>
  <dc:subject/>
  <dc:title>幻灯片 1</dc:title>
</cp:coreProperties>
</file>