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7.jpeg" ContentType="image/jpeg"/>
  <Override PartName="/ppt/media/voltage.wav" ContentType="audio/x-wav"/>
  <Override PartName="/ppt/media/type.wav" ContentType="audio/x-wav"/>
  <Override PartName="/ppt/media/image6.wmf" ContentType="image/x-wmf"/>
  <Override PartName="/ppt/media/image11.png" ContentType="image/png"/>
  <Override PartName="/ppt/media/hammer.wav" ContentType="audio/x-wav"/>
  <Override PartName="/ppt/media/image13.png" ContentType="image/png"/>
  <Override PartName="/ppt/media/cashreg.wav" ContentType="audio/x-wav"/>
  <Override PartName="/ppt/media/click.wav" ContentType="audio/x-wav"/>
  <Override PartName="/ppt/media/image5.jpeg" ContentType="image/jpeg"/>
  <Override PartName="/ppt/media/image4.png" ContentType="image/png"/>
  <Override PartName="/ppt/media/laser.wav" ContentType="audio/x-wav"/>
  <Override PartName="/ppt/media/image14.png" ContentType="image/png"/>
  <Override PartName="/ppt/media/image12.png" ContentType="image/png"/>
  <Override PartName="/ppt/media/explode.wav" ContentType="audio/x-wav"/>
  <Override PartName="/ppt/media/image10.png" ContentType="image/png"/>
  <Override PartName="/ppt/media/image1.jpeg" ContentType="image/jpeg"/>
  <Override PartName="/ppt/media/image9.jpeg" ContentType="image/jpeg"/>
  <Override PartName="/ppt/media/image2.png" ContentType="image/png"/>
  <Override PartName="/ppt/media/image15.png" ContentType="image/png"/>
  <Override PartName="/ppt/media/drumroll.wav" ContentType="audio/x-wav"/>
  <Override PartName="/ppt/media/image3.png" ContentType="image/png"/>
  <Override PartName="/ppt/media/wind.wav" ContentType="audio/x-wav"/>
  <Override PartName="/ppt/media/chimes.wav" ContentType="audio/x-wav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7290-3574-4ACE-8E75-BA01C21EE7A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EBB1-ABE0-41F3-9EA9-AC915389474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340-B94B-4011-92B0-1F0DAFF9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B81-881C-45B6-91F6-CEFA633D8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635-02FA-4BE7-A9FD-FCEC9B1D8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384-03CD-4F15-A695-0B61A910A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288-318B-4787-A700-18282F63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C73-8F29-432C-96F9-F3B70D15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9F7-BFEB-4D01-9B9D-26E2A0D1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F79-CF99-4B4D-938E-33FF6CAF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B46-CDBE-4886-8128-6AF7499A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0408-3E79-45A8-BFDD-FA698497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B267-5AA8-499A-9DB0-C536234B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73F4-E22D-4F1F-BB5D-61A8583D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6468-18F5-486D-8152-D47AF33C6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jpeg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jpe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d7256653cd0977588435244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5" descr="纸袋"/>
          <p:cNvPicPr/>
          <p:nvPr/>
        </p:nvPicPr>
        <p:blipFill>
          <a:blip r:embed="rId2"/>
          <a:stretch/>
        </p:blipFill>
        <p:spPr>
          <a:xfrm>
            <a:off x="539640" y="1957320"/>
            <a:ext cx="6048360" cy="1758960"/>
          </a:xfrm>
          <a:prstGeom prst="rect">
            <a:avLst/>
          </a:prstGeom>
          <a:ln w="0">
            <a:noFill/>
          </a:ln>
        </p:spPr>
      </p:pic>
      <p:pic>
        <p:nvPicPr>
          <p:cNvPr id="50" name="矩形 4" descr=""/>
          <p:cNvPicPr/>
          <p:nvPr/>
        </p:nvPicPr>
        <p:blipFill>
          <a:blip r:embed="rId3"/>
          <a:stretch/>
        </p:blipFill>
        <p:spPr>
          <a:xfrm>
            <a:off x="857160" y="5372280"/>
            <a:ext cx="5499360" cy="493560"/>
          </a:xfrm>
          <a:prstGeom prst="rect">
            <a:avLst/>
          </a:prstGeom>
          <a:ln w="0">
            <a:noFill/>
          </a:ln>
        </p:spPr>
      </p:pic>
    </p:spTree>
  </p:cSld>
  <p:transition>
    <p:comb dir="vert"/>
    <p:sndAc>
      <p:stSnd>
        <p:snd r:embed="rId4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苹果树24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4221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3"/>
          <p:cNvGrpSpPr/>
          <p:nvPr/>
        </p:nvGrpSpPr>
        <p:grpSpPr>
          <a:xfrm>
            <a:off x="324000" y="4869000"/>
            <a:ext cx="8135640" cy="520560"/>
            <a:chOff x="324000" y="4869000"/>
            <a:chExt cx="8135640" cy="520560"/>
          </a:xfrm>
        </p:grpSpPr>
        <p:sp>
          <p:nvSpPr>
            <p:cNvPr id="114" name="TextBox 4"/>
            <p:cNvSpPr/>
            <p:nvPr/>
          </p:nvSpPr>
          <p:spPr>
            <a:xfrm>
              <a:off x="324000" y="4869000"/>
              <a:ext cx="7632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这是一个老树墩，一个                                                                   的老树墩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6"/>
            <p:cNvSpPr/>
            <p:nvPr/>
          </p:nvSpPr>
          <p:spPr>
            <a:xfrm>
              <a:off x="4500720" y="5300640"/>
              <a:ext cx="3958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9"/>
          <p:cNvSpPr/>
          <p:nvPr/>
        </p:nvSpPr>
        <p:spPr>
          <a:xfrm>
            <a:off x="4716360" y="4797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孤独、寂寞、忧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7"/>
          <p:cNvGrpSpPr/>
          <p:nvPr/>
        </p:nvGrpSpPr>
        <p:grpSpPr>
          <a:xfrm>
            <a:off x="250920" y="5788080"/>
            <a:ext cx="8669160" cy="522000"/>
            <a:chOff x="250920" y="5788080"/>
            <a:chExt cx="8669160" cy="522000"/>
          </a:xfrm>
        </p:grpSpPr>
        <p:sp>
          <p:nvSpPr>
            <p:cNvPr id="118" name="TextBox 11"/>
            <p:cNvSpPr/>
            <p:nvPr/>
          </p:nvSpPr>
          <p:spPr>
            <a:xfrm>
              <a:off x="250920" y="5788080"/>
              <a:ext cx="8669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它曾经是一棵                                                 大树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12"/>
            <p:cNvSpPr/>
            <p:nvPr/>
          </p:nvSpPr>
          <p:spPr>
            <a:xfrm>
              <a:off x="3132000" y="6307200"/>
              <a:ext cx="44974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13"/>
          <p:cNvSpPr/>
          <p:nvPr/>
        </p:nvSpPr>
        <p:spPr>
          <a:xfrm>
            <a:off x="3276720" y="5786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果实累累、枝繁叶茂、参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2" name="chimes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"/>
          <p:cNvSpPr/>
          <p:nvPr/>
        </p:nvSpPr>
        <p:spPr>
          <a:xfrm>
            <a:off x="971640" y="1700280"/>
            <a:ext cx="727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故事情节随男孩年龄增长分几个阶段？男孩子与大树有几次会面？每次男孩要求什么？大树呢？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男孩子与大树的每次会面的情景是怎样的？大树的心情有什么变化？为什么大树有这样的心情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图片 5" descr="u=1497081733,1501323177&amp;fm=0&amp;gp=0.jpg"/>
          <p:cNvPicPr/>
          <p:nvPr/>
        </p:nvPicPr>
        <p:blipFill>
          <a:blip r:embed="rId1"/>
          <a:stretch/>
        </p:blipFill>
        <p:spPr>
          <a:xfrm>
            <a:off x="0" y="4869000"/>
            <a:ext cx="9144000" cy="1989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细读感悟"/>
          <p:cNvPicPr/>
          <p:nvPr/>
        </p:nvPicPr>
        <p:blipFill>
          <a:blip r:embed="rId2"/>
          <a:stretch/>
        </p:blipFill>
        <p:spPr>
          <a:xfrm>
            <a:off x="108000" y="333360"/>
            <a:ext cx="3311640" cy="136692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3" name="explod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287280"/>
          <a:ext cx="9144000" cy="6058080"/>
        </p:xfrm>
        <a:graphic>
          <a:graphicData uri="http://schemas.openxmlformats.org/drawingml/2006/table">
            <a:tbl>
              <a:tblPr/>
              <a:tblGrid>
                <a:gridCol w="1762200"/>
                <a:gridCol w="1474560"/>
                <a:gridCol w="879480"/>
                <a:gridCol w="1708200"/>
                <a:gridCol w="3319560"/>
              </a:tblGrid>
              <a:tr h="103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会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男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年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大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大树的心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第一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少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成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第三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成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第四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老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 gridSpan="3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8000"/>
                          </a:solidFill>
                          <a:latin typeface="Arial"/>
                          <a:ea typeface="楷体_GB2312"/>
                        </a:rPr>
                        <a:t>男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00"/>
                          </a:solidFill>
                          <a:latin typeface="宋体"/>
                          <a:ea typeface="楷体_GB2312"/>
                        </a:rPr>
                        <a:t>大树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5" name="矩形 2"/>
          <p:cNvSpPr/>
          <p:nvPr/>
        </p:nvSpPr>
        <p:spPr>
          <a:xfrm>
            <a:off x="2129040" y="153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要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4528080" y="126828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采果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卖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"/>
          <p:cNvSpPr/>
          <p:nvPr/>
        </p:nvSpPr>
        <p:spPr>
          <a:xfrm>
            <a:off x="6394680" y="141300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孤独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 幸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5"/>
          <p:cNvSpPr/>
          <p:nvPr/>
        </p:nvSpPr>
        <p:spPr>
          <a:xfrm>
            <a:off x="2058120" y="242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要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6"/>
          <p:cNvSpPr/>
          <p:nvPr/>
        </p:nvSpPr>
        <p:spPr>
          <a:xfrm>
            <a:off x="4462200" y="225900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砍树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做屋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"/>
          <p:cNvSpPr/>
          <p:nvPr/>
        </p:nvSpPr>
        <p:spPr>
          <a:xfrm>
            <a:off x="6675120" y="2411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高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/>
          <p:cNvSpPr/>
          <p:nvPr/>
        </p:nvSpPr>
        <p:spPr>
          <a:xfrm>
            <a:off x="2056680" y="3481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要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4462200" y="3338640"/>
            <a:ext cx="82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锯下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干做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0"/>
          <p:cNvSpPr/>
          <p:nvPr/>
        </p:nvSpPr>
        <p:spPr>
          <a:xfrm>
            <a:off x="5979600" y="3481560"/>
            <a:ext cx="27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兴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 欣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 难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1"/>
          <p:cNvSpPr/>
          <p:nvPr/>
        </p:nvSpPr>
        <p:spPr>
          <a:xfrm>
            <a:off x="1988640" y="4633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需要休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4248000" y="434664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坐在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树墩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6467040" y="4508640"/>
            <a:ext cx="167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抱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楷体_GB2312"/>
              </a:rPr>
              <a:t> 爽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5"/>
          <p:cNvSpPr/>
          <p:nvPr/>
        </p:nvSpPr>
        <p:spPr>
          <a:xfrm>
            <a:off x="5983200" y="542772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楷体_GB2312"/>
              </a:rPr>
              <a:t>无私奉献，不求回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楷体_GB2312"/>
              </a:rPr>
              <a:t>奉献爱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6"/>
          <p:cNvSpPr/>
          <p:nvPr/>
        </p:nvSpPr>
        <p:spPr>
          <a:xfrm>
            <a:off x="1275840" y="5445000"/>
            <a:ext cx="21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楷体_GB2312"/>
              </a:rPr>
              <a:t>不断索取，不知回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  <a:ea typeface="楷体_GB2312"/>
              </a:rPr>
              <a:t>感恩，后有醒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type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2"/>
          <p:cNvSpPr/>
          <p:nvPr/>
        </p:nvSpPr>
        <p:spPr>
          <a:xfrm>
            <a:off x="324000" y="1413000"/>
            <a:ext cx="8280360" cy="5205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坐在树墩上，轻轻地抚摸着这个无私的朋友。这时，他仿佛看见了，看见了一棵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很高很高的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大树，看见了树下一个快乐的孩子</a:t>
            </a:r>
            <a:r>
              <a:rPr b="1" lang="en-US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646200" y="-165240"/>
            <a:ext cx="3700440" cy="1217880"/>
            <a:chOff x="646200" y="-165240"/>
            <a:chExt cx="3700440" cy="1217880"/>
          </a:xfrm>
        </p:grpSpPr>
        <p:sp>
          <p:nvSpPr>
            <p:cNvPr id="141" name="线形标注 3(带边框和强调线) 4"/>
            <p:cNvSpPr/>
            <p:nvPr/>
          </p:nvSpPr>
          <p:spPr>
            <a:xfrm>
              <a:off x="900000" y="43920"/>
              <a:ext cx="3096000" cy="1008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4845" y="30115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矩形 5" descr=""/>
            <p:cNvPicPr/>
            <p:nvPr/>
          </p:nvPicPr>
          <p:blipFill>
            <a:blip r:embed="rId1"/>
            <a:stretch/>
          </p:blipFill>
          <p:spPr>
            <a:xfrm>
              <a:off x="646200" y="-165240"/>
              <a:ext cx="3700440" cy="1165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矩形 6"/>
          <p:cNvSpPr/>
          <p:nvPr/>
        </p:nvSpPr>
        <p:spPr>
          <a:xfrm>
            <a:off x="250920" y="285264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1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很高很高”是什么意思？你是怎么理解这段话的。最后的省略号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2.</a:t>
            </a:r>
            <a:r>
              <a:rPr b="1" lang="zh-CN" sz="2800" spc="-1" strike="noStrike">
                <a:solidFill>
                  <a:srgbClr val="0000ff"/>
                </a:solidFill>
                <a:latin typeface="华文楷体"/>
                <a:ea typeface="华文楷体"/>
              </a:rPr>
              <a:t>这段话在文中起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/>
          <p:cNvSpPr/>
          <p:nvPr/>
        </p:nvSpPr>
        <p:spPr>
          <a:xfrm>
            <a:off x="468360" y="4206960"/>
            <a:ext cx="7920000" cy="5205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“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很高很高”不仅是树本身高，更是</a:t>
            </a:r>
            <a:r>
              <a:rPr b="1" lang="zh-CN" sz="2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大树无私奉献、不求回报的高尚品质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这段话是男孩对过去的美好时光的美好回忆， 老了的男孩终于有了悔意，对大树有了感激之情，感谢大树给予他的快乐时光和无私帮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9"/>
          <p:cNvSpPr/>
          <p:nvPr/>
        </p:nvSpPr>
        <p:spPr>
          <a:xfrm>
            <a:off x="468360" y="4492800"/>
            <a:ext cx="7920000" cy="9471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     </a:t>
            </a: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文中的省略号为读者留下了许多的遐想空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这段话的作用是：呼应开头，使文章结构严谨，思路明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2" name="type.wav"/>
      </p:stSnd>
    </p:sndAc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900000" y="692280"/>
            <a:ext cx="3095640" cy="1008000"/>
            <a:chOff x="900000" y="692280"/>
            <a:chExt cx="3095640" cy="1008000"/>
          </a:xfrm>
        </p:grpSpPr>
        <p:sp>
          <p:nvSpPr>
            <p:cNvPr id="147" name="线形标注 3(带边框和强调线) 2"/>
            <p:cNvSpPr/>
            <p:nvPr/>
          </p:nvSpPr>
          <p:spPr>
            <a:xfrm>
              <a:off x="1112400" y="866160"/>
              <a:ext cx="2589840" cy="8341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4845" y="30115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矩形 3" descr=""/>
            <p:cNvPicPr/>
            <p:nvPr/>
          </p:nvPicPr>
          <p:blipFill>
            <a:blip r:embed="rId1"/>
            <a:stretch/>
          </p:blipFill>
          <p:spPr>
            <a:xfrm>
              <a:off x="900000" y="692280"/>
              <a:ext cx="3095640" cy="96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矩形 4"/>
          <p:cNvSpPr/>
          <p:nvPr/>
        </p:nvSpPr>
        <p:spPr>
          <a:xfrm>
            <a:off x="468360" y="2257560"/>
            <a:ext cx="7632720" cy="5205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认真读读课后练习第二题，说说你的看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5"/>
          <p:cNvSpPr/>
          <p:nvPr/>
        </p:nvSpPr>
        <p:spPr>
          <a:xfrm>
            <a:off x="468360" y="3341520"/>
            <a:ext cx="7775640" cy="1373760"/>
          </a:xfrm>
          <a:prstGeom prst="rect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    </a:t>
            </a:r>
            <a:r>
              <a:rPr b="1" lang="zh-CN" sz="2800" spc="-1" strike="noStrike">
                <a:solidFill>
                  <a:srgbClr val="c00000"/>
                </a:solidFill>
                <a:latin typeface="华文楷体"/>
                <a:ea typeface="华文楷体"/>
              </a:rPr>
              <a:t>文中始终把说话人放在句首，这样内容相关，结构相似，语气相同，连续说出来，既能全面深刻地表达作者的意图，又能为读者创造一个感人的境界，增强文章的感染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图片 5" descr="u=1497081733,1501323177&amp;fm=0&amp;gp=0.jpg"/>
          <p:cNvPicPr/>
          <p:nvPr/>
        </p:nvPicPr>
        <p:blipFill>
          <a:blip r:embed="rId2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p:transition>
    <p:cover dir="lu"/>
    <p:sndAc>
      <p:stSnd>
        <p:snd r:embed="rId3" name="wind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-360" y="2636640"/>
            <a:ext cx="777708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647640" y="1628280"/>
            <a:ext cx="7956720" cy="28083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树很欣慰，但心底却很难过”这句话在文章中出现了几次？大树为什么欣慰，又为什么难过？大树一定有很多话想对男孩说，试着写一小段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900000" y="189000"/>
            <a:ext cx="3095640" cy="1008000"/>
            <a:chOff x="900000" y="189000"/>
            <a:chExt cx="3095640" cy="1008000"/>
          </a:xfrm>
        </p:grpSpPr>
        <p:sp>
          <p:nvSpPr>
            <p:cNvPr id="155" name="线形标注 3(带边框和强调线) 6"/>
            <p:cNvSpPr/>
            <p:nvPr/>
          </p:nvSpPr>
          <p:spPr>
            <a:xfrm>
              <a:off x="1112400" y="365040"/>
              <a:ext cx="2589840" cy="83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6307" y="33788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矩形 5" descr=""/>
            <p:cNvPicPr/>
            <p:nvPr/>
          </p:nvPicPr>
          <p:blipFill>
            <a:blip r:embed="rId1"/>
            <a:stretch/>
          </p:blipFill>
          <p:spPr>
            <a:xfrm>
              <a:off x="900000" y="189000"/>
              <a:ext cx="3095640" cy="96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Box 7"/>
          <p:cNvSpPr/>
          <p:nvPr/>
        </p:nvSpPr>
        <p:spPr>
          <a:xfrm>
            <a:off x="647640" y="4535640"/>
            <a:ext cx="8028000" cy="155628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华文楷体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c00000"/>
                </a:solidFill>
                <a:latin typeface="华文楷体"/>
                <a:ea typeface="华文楷体"/>
              </a:rPr>
              <a:t>孩子，我能帮助你我心里很高兴，我喜欢看到你高兴地样子，但我也希望你来陪我，虽然你也有自己的生活，但是，孩子，你能不能在想起我的时候过来看看我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2" name="laser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755640" y="1844640"/>
            <a:ext cx="777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了这篇课文你受到了什么启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假如你是文中的大树或男孩，那你会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活中，谁最像这棵大树？请你说一说。我们应该怎样感谢他们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觉得大树这样无私的奉献到底是好还是不好？请说说你的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拓展学习"/>
          <p:cNvPicPr/>
          <p:nvPr/>
        </p:nvPicPr>
        <p:blipFill>
          <a:blip r:embed="rId1"/>
          <a:stretch/>
        </p:blipFill>
        <p:spPr>
          <a:xfrm>
            <a:off x="179280" y="404640"/>
            <a:ext cx="3240360" cy="10558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4"/>
          <p:cNvGrpSpPr/>
          <p:nvPr/>
        </p:nvGrpSpPr>
        <p:grpSpPr>
          <a:xfrm>
            <a:off x="3578400" y="241200"/>
            <a:ext cx="5400360" cy="1440000"/>
            <a:chOff x="3578400" y="241200"/>
            <a:chExt cx="5400360" cy="1440000"/>
          </a:xfrm>
        </p:grpSpPr>
        <p:sp>
          <p:nvSpPr>
            <p:cNvPr id="161" name="圆角矩形标注 4"/>
            <p:cNvSpPr/>
            <p:nvPr/>
          </p:nvSpPr>
          <p:spPr>
            <a:xfrm>
              <a:off x="3578400" y="241200"/>
              <a:ext cx="5400360" cy="1440000"/>
            </a:xfrm>
            <a:prstGeom prst="wedgeRoundRectCallout">
              <a:avLst>
                <a:gd name="adj1" fmla="val 1388"/>
                <a:gd name="adj2" fmla="val 77050"/>
                <a:gd name="adj3" fmla="val 16667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3"/>
            <p:cNvSpPr/>
            <p:nvPr/>
          </p:nvSpPr>
          <p:spPr>
            <a:xfrm>
              <a:off x="3649680" y="241200"/>
              <a:ext cx="532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华文楷体"/>
                  <a:ea typeface="华文楷体"/>
                </a:rPr>
                <a:t>    </a:t>
              </a:r>
              <a:r>
                <a:rPr b="1" lang="zh-CN" sz="2800" spc="-1" strike="noStrike">
                  <a:solidFill>
                    <a:srgbClr val="c00000"/>
                  </a:solidFill>
                  <a:latin typeface="华文楷体"/>
                  <a:ea typeface="华文楷体"/>
                </a:rPr>
                <a:t>爱不是一味付出，被爱不是一味地索取，在接受关爱的同时，要学会感恩，学会回报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图片 5" descr="u=1497081733,1501323177&amp;fm=0&amp;gp=0.jpg"/>
          <p:cNvPicPr/>
          <p:nvPr/>
        </p:nvPicPr>
        <p:blipFill>
          <a:blip r:embed="rId2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chimes.wav"/>
      </p:stSnd>
    </p:sndAc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6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900000" y="404640"/>
            <a:ext cx="3095640" cy="1008360"/>
            <a:chOff x="900000" y="404640"/>
            <a:chExt cx="3095640" cy="1008360"/>
          </a:xfrm>
        </p:grpSpPr>
        <p:sp>
          <p:nvSpPr>
            <p:cNvPr id="165" name="线形标注 3(带边框和强调线) 2"/>
            <p:cNvSpPr/>
            <p:nvPr/>
          </p:nvSpPr>
          <p:spPr>
            <a:xfrm>
              <a:off x="1112400" y="578160"/>
              <a:ext cx="2589840" cy="834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6307" y="33788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矩形 3" descr=""/>
            <p:cNvPicPr/>
            <p:nvPr/>
          </p:nvPicPr>
          <p:blipFill>
            <a:blip r:embed="rId1"/>
            <a:stretch/>
          </p:blipFill>
          <p:spPr>
            <a:xfrm>
              <a:off x="900000" y="404640"/>
              <a:ext cx="3095640" cy="964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矩形 4"/>
          <p:cNvSpPr/>
          <p:nvPr/>
        </p:nvSpPr>
        <p:spPr>
          <a:xfrm>
            <a:off x="1258920" y="1989000"/>
            <a:ext cx="6769080" cy="6426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大树因爱而给予，因爱而快乐；大树无私奉献，不求回报。男孩被爱，男孩一味索取，没有回报大树，没有感恩大树。我们要向大树学习，要学会感恩，学会关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图片 5" descr="u=1497081733,1501323177&amp;fm=0&amp;gp=0.jpg"/>
          <p:cNvPicPr/>
          <p:nvPr/>
        </p:nvPicPr>
        <p:blipFill>
          <a:blip r:embed="rId2"/>
          <a:stretch/>
        </p:blipFill>
        <p:spPr>
          <a:xfrm>
            <a:off x="0" y="5477040"/>
            <a:ext cx="9144000" cy="1380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  <p:sndAc>
      <p:stSnd>
        <p:snd r:embed="rId3" name="laser.wav"/>
      </p:stSnd>
    </p:sndAc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云形标注 3"/>
          <p:cNvSpPr/>
          <p:nvPr/>
        </p:nvSpPr>
        <p:spPr>
          <a:xfrm>
            <a:off x="611280" y="1197000"/>
            <a:ext cx="4032000" cy="1008000"/>
          </a:xfrm>
          <a:prstGeom prst="cloudCallout">
            <a:avLst>
              <a:gd name="adj1" fmla="val 54282"/>
              <a:gd name="adj2" fmla="val 70726"/>
            </a:avLst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"/>
          <p:cNvSpPr/>
          <p:nvPr/>
        </p:nvSpPr>
        <p:spPr>
          <a:xfrm>
            <a:off x="971640" y="1341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华文彩云"/>
                <a:ea typeface="华文彩云"/>
              </a:rPr>
              <a:t>读写结合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4"/>
          <p:cNvSpPr/>
          <p:nvPr/>
        </p:nvSpPr>
        <p:spPr>
          <a:xfrm>
            <a:off x="1258920" y="289872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d0d0d"/>
                </a:solidFill>
                <a:latin typeface="华文仿宋"/>
                <a:ea typeface="华文仿宋"/>
              </a:rPr>
              <a:t>     </a:t>
            </a:r>
            <a:r>
              <a:rPr b="1" lang="zh-CN" sz="3600" spc="-1" strike="noStrike">
                <a:solidFill>
                  <a:srgbClr val="0d0d0d"/>
                </a:solidFill>
                <a:latin typeface="华文仿宋"/>
                <a:ea typeface="华文仿宋"/>
              </a:rPr>
              <a:t>读了这篇课文后，你一定有很多话想说。请你以</a:t>
            </a:r>
            <a:r>
              <a:rPr b="1" lang="en-US" sz="3600" spc="-1" strike="noStrike">
                <a:solidFill>
                  <a:srgbClr val="0d0d0d"/>
                </a:solidFill>
                <a:latin typeface="华文仿宋"/>
                <a:ea typeface="华文仿宋"/>
              </a:rPr>
              <a:t>《</a:t>
            </a:r>
            <a:r>
              <a:rPr b="1" lang="zh-CN" sz="3600" spc="-1" strike="noStrike">
                <a:solidFill>
                  <a:srgbClr val="c00000"/>
                </a:solidFill>
                <a:latin typeface="Arial"/>
              </a:rPr>
              <a:t>与爱同行 ，不忘感恩</a:t>
            </a:r>
            <a:r>
              <a:rPr b="1" lang="en-US" sz="3600" spc="-1" strike="noStrike">
                <a:solidFill>
                  <a:srgbClr val="0d0d0d"/>
                </a:solidFill>
                <a:latin typeface="华文仿宋"/>
                <a:ea typeface="华文仿宋"/>
              </a:rPr>
              <a:t>》</a:t>
            </a:r>
            <a:r>
              <a:rPr b="1" lang="zh-CN" sz="3600" spc="-1" strike="noStrike">
                <a:solidFill>
                  <a:srgbClr val="0d0d0d"/>
                </a:solidFill>
                <a:latin typeface="华文仿宋"/>
                <a:ea typeface="华文仿宋"/>
              </a:rPr>
              <a:t>为题写一篇读后感。字数</a:t>
            </a:r>
            <a:r>
              <a:rPr b="1" lang="en-US" sz="3600" spc="-1" strike="noStrike">
                <a:solidFill>
                  <a:srgbClr val="0d0d0d"/>
                </a:solidFill>
                <a:latin typeface="华文仿宋"/>
                <a:ea typeface="华文仿宋"/>
              </a:rPr>
              <a:t>450</a:t>
            </a:r>
            <a:r>
              <a:rPr b="1" lang="zh-CN" sz="3600" spc="-1" strike="noStrike">
                <a:solidFill>
                  <a:srgbClr val="0d0d0d"/>
                </a:solidFill>
                <a:latin typeface="华文仿宋"/>
                <a:ea typeface="华文仿宋"/>
              </a:rPr>
              <a:t>字左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图片 5" descr="u=1497081733,1501323177&amp;fm=0&amp;gp=0.jpg"/>
          <p:cNvPicPr/>
          <p:nvPr/>
        </p:nvPicPr>
        <p:blipFill>
          <a:blip r:embed="rId1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  <p:sp>
        <p:nvSpPr>
          <p:cNvPr id="173" name="文本框 1"/>
          <p:cNvSpPr/>
          <p:nvPr/>
        </p:nvSpPr>
        <p:spPr>
          <a:xfrm>
            <a:off x="971640" y="563400"/>
            <a:ext cx="55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  <p:sndAc>
      <p:stSnd>
        <p:snd r:embed="rId2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D75C-9470-4878-A446-709DFB16EA4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3"/>
          <p:cNvGrpSpPr/>
          <p:nvPr/>
        </p:nvGrpSpPr>
        <p:grpSpPr>
          <a:xfrm>
            <a:off x="900000" y="333360"/>
            <a:ext cx="2697120" cy="1033560"/>
            <a:chOff x="900000" y="333360"/>
            <a:chExt cx="2697120" cy="1033560"/>
          </a:xfrm>
        </p:grpSpPr>
        <p:sp>
          <p:nvSpPr>
            <p:cNvPr id="52" name="线形标注 3(带边框和强调线) 4"/>
            <p:cNvSpPr/>
            <p:nvPr/>
          </p:nvSpPr>
          <p:spPr>
            <a:xfrm>
              <a:off x="900000" y="333360"/>
              <a:ext cx="2519640" cy="1008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none" w="21600" h="21600">
                  <a:moveTo>
                    <a:pt x="-1800" y="4000"/>
                  </a:moveTo>
                  <a:lnTo>
                    <a:pt x="-3600" y="4000"/>
                  </a:lnTo>
                  <a:lnTo>
                    <a:pt x="-3600" y="21600"/>
                  </a:lnTo>
                  <a:lnTo>
                    <a:pt x="8249" y="29124"/>
                  </a:lnTo>
                </a:path>
                <a:path w="21600" h="21600">
                  <a:moveTo>
                    <a:pt x="-1800" y="0"/>
                  </a:moveTo>
                  <a:lnTo>
                    <a:pt x="-1800" y="21600"/>
                  </a:lnTo>
                </a:path>
              </a:pathLst>
            </a:custGeom>
            <a:noFill/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矩形 6" descr=""/>
            <p:cNvPicPr/>
            <p:nvPr/>
          </p:nvPicPr>
          <p:blipFill>
            <a:blip r:embed="rId1"/>
            <a:stretch/>
          </p:blipFill>
          <p:spPr>
            <a:xfrm>
              <a:off x="1042920" y="555480"/>
              <a:ext cx="2554200" cy="81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94920" y="1952640"/>
            <a:ext cx="806292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自由读文，要读准字音，读通句子，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课文写了一个什么样的故事？请用一句话概括文章的中心内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标出自然段序号。找出文中具体描写大树帮助男孩的段落。给课文分段，概括段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、标出文中生字、新词，识记、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图片 5" descr="u=1497081733,1501323177&amp;fm=0&amp;gp=0.jpg"/>
          <p:cNvPicPr/>
          <p:nvPr/>
        </p:nvPicPr>
        <p:blipFill>
          <a:blip r:embed="rId2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755640" y="115920"/>
            <a:ext cx="2209680" cy="1143000"/>
            <a:chOff x="755640" y="115920"/>
            <a:chExt cx="2209680" cy="1143000"/>
          </a:xfrm>
        </p:grpSpPr>
        <p:sp>
          <p:nvSpPr>
            <p:cNvPr id="57" name="AutoShape 6"/>
            <p:cNvSpPr/>
            <p:nvPr/>
          </p:nvSpPr>
          <p:spPr>
            <a:xfrm>
              <a:off x="755640" y="115920"/>
              <a:ext cx="2209680" cy="1143000"/>
            </a:xfrm>
            <a:prstGeom prst="cloudCallout">
              <a:avLst>
                <a:gd name="adj1" fmla="val 115300"/>
                <a:gd name="adj2" fmla="val 42222"/>
              </a:avLst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7"/>
            <p:cNvSpPr/>
            <p:nvPr/>
          </p:nvSpPr>
          <p:spPr>
            <a:xfrm>
              <a:off x="914400" y="36360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华文彩云"/>
                  <a:ea typeface="华文彩云"/>
                </a:rPr>
                <a:t>主要内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4"/>
          <p:cNvSpPr/>
          <p:nvPr/>
        </p:nvSpPr>
        <p:spPr>
          <a:xfrm>
            <a:off x="900000" y="1484280"/>
            <a:ext cx="7272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文章叙述了一棵大树倾其所有帮助男孩实现心中的愿望，树很欣慰，但心里很难过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5" descr="u=1497081733,1501323177&amp;fm=0&amp;gp=0.jpg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7"/>
          <p:cNvGrpSpPr/>
          <p:nvPr/>
        </p:nvGrpSpPr>
        <p:grpSpPr>
          <a:xfrm>
            <a:off x="907920" y="3078000"/>
            <a:ext cx="2210040" cy="1143000"/>
            <a:chOff x="907920" y="3078000"/>
            <a:chExt cx="2210040" cy="1143000"/>
          </a:xfrm>
        </p:grpSpPr>
        <p:sp>
          <p:nvSpPr>
            <p:cNvPr id="62" name="AutoShape 6"/>
            <p:cNvSpPr/>
            <p:nvPr/>
          </p:nvSpPr>
          <p:spPr>
            <a:xfrm>
              <a:off x="907920" y="3078000"/>
              <a:ext cx="2210040" cy="1143000"/>
            </a:xfrm>
            <a:prstGeom prst="cloudCallout">
              <a:avLst>
                <a:gd name="adj1" fmla="val 115300"/>
                <a:gd name="adj2" fmla="val 42222"/>
              </a:avLst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7"/>
            <p:cNvSpPr/>
            <p:nvPr/>
          </p:nvSpPr>
          <p:spPr>
            <a:xfrm>
              <a:off x="1066680" y="3325680"/>
              <a:ext cx="190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华文彩云"/>
                  <a:ea typeface="华文彩云"/>
                </a:rPr>
                <a:t>中心思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Box 9"/>
          <p:cNvSpPr/>
          <p:nvPr/>
        </p:nvSpPr>
        <p:spPr>
          <a:xfrm>
            <a:off x="684360" y="4346640"/>
            <a:ext cx="7272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赞扬了大树无私奉献、不求回报的精神。告诉我们要学好感恩，懂得回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  <p:sndAc>
      <p:stSnd>
        <p:snd r:embed="rId2" name="type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2"/>
          <p:cNvGrpSpPr/>
          <p:nvPr/>
        </p:nvGrpSpPr>
        <p:grpSpPr>
          <a:xfrm>
            <a:off x="755640" y="557280"/>
            <a:ext cx="2209680" cy="1143000"/>
            <a:chOff x="755640" y="557280"/>
            <a:chExt cx="2209680" cy="1143000"/>
          </a:xfrm>
        </p:grpSpPr>
        <p:sp>
          <p:nvSpPr>
            <p:cNvPr id="66" name="AutoShape 6"/>
            <p:cNvSpPr/>
            <p:nvPr/>
          </p:nvSpPr>
          <p:spPr>
            <a:xfrm>
              <a:off x="755640" y="557280"/>
              <a:ext cx="2209680" cy="1143000"/>
            </a:xfrm>
            <a:prstGeom prst="cloudCallout">
              <a:avLst>
                <a:gd name="adj1" fmla="val 101509"/>
                <a:gd name="adj2" fmla="val 78888"/>
              </a:avLst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7"/>
            <p:cNvSpPr/>
            <p:nvPr/>
          </p:nvSpPr>
          <p:spPr>
            <a:xfrm>
              <a:off x="914400" y="80496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华文彩云"/>
                  <a:ea typeface="华文彩云"/>
                </a:rPr>
                <a:t>文章段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4"/>
          <p:cNvSpPr/>
          <p:nvPr/>
        </p:nvSpPr>
        <p:spPr>
          <a:xfrm>
            <a:off x="900000" y="2406600"/>
            <a:ext cx="7272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段（第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然段）：写一棵大树和一个男孩成了好朋友。男孩经常到树下玩耍，树感到很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二段（第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—26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然段）：写大树倾其所有帮助了男孩，树很欣慰，心底里却很难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图片 5" descr="u=1497081733,1501323177&amp;fm=0&amp;gp=0.jpg"/>
          <p:cNvPicPr/>
          <p:nvPr/>
        </p:nvPicPr>
        <p:blipFill>
          <a:blip r:embed="rId1"/>
          <a:stretch/>
        </p:blipFill>
        <p:spPr>
          <a:xfrm>
            <a:off x="0" y="4797360"/>
            <a:ext cx="9144000" cy="2060640"/>
          </a:xfrm>
          <a:prstGeom prst="rect">
            <a:avLst/>
          </a:prstGeom>
          <a:ln w="0">
            <a:noFill/>
          </a:ln>
        </p:spPr>
      </p:pic>
    </p:spTree>
  </p:cSld>
  <p:transition>
    <p:strips dir="ru"/>
    <p:sndAc>
      <p:stSnd>
        <p:snd r:embed="rId2" name="hammer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21"/>
          <p:cNvSpPr/>
          <p:nvPr/>
        </p:nvSpPr>
        <p:spPr>
          <a:xfrm>
            <a:off x="6708600" y="5300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云形标注 21"/>
          <p:cNvSpPr/>
          <p:nvPr/>
        </p:nvSpPr>
        <p:spPr>
          <a:xfrm>
            <a:off x="108000" y="404640"/>
            <a:ext cx="3672000" cy="1079640"/>
          </a:xfrm>
          <a:prstGeom prst="cloudCallout">
            <a:avLst>
              <a:gd name="adj1" fmla="val 89087"/>
              <a:gd name="adj2" fmla="val 79921"/>
            </a:avLst>
          </a:prstGeom>
          <a:noFill/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042920" y="2633760"/>
            <a:ext cx="7561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60360" y="220176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x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268360" y="21826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i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924360" y="220176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j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932360" y="21859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huǎ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6661080" y="21286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ī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684360" y="549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黑体"/>
              </a:rPr>
              <a:t>生字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1006560" y="3570120"/>
            <a:ext cx="183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需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急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1"/>
          <p:cNvSpPr/>
          <p:nvPr/>
        </p:nvSpPr>
        <p:spPr>
          <a:xfrm>
            <a:off x="2303640" y="2625840"/>
            <a:ext cx="69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3991680" y="26337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5288760" y="26337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5937480" y="2625840"/>
            <a:ext cx="141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8000"/>
                </a:solidFill>
                <a:latin typeface="Arial"/>
              </a:rPr>
              <a:t>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2305080" y="3570120"/>
            <a:ext cx="18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道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歉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歉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7"/>
          <p:cNvSpPr/>
          <p:nvPr/>
        </p:nvSpPr>
        <p:spPr>
          <a:xfrm>
            <a:off x="3889440" y="3497400"/>
            <a:ext cx="183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锯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钢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9"/>
          <p:cNvSpPr/>
          <p:nvPr/>
        </p:nvSpPr>
        <p:spPr>
          <a:xfrm>
            <a:off x="5184720" y="3497400"/>
            <a:ext cx="18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爽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凉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清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0"/>
          <p:cNvSpPr/>
          <p:nvPr/>
        </p:nvSpPr>
        <p:spPr>
          <a:xfrm>
            <a:off x="6553080" y="3497400"/>
            <a:ext cx="1835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私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无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MCj04289190000[1]"/>
          <p:cNvPicPr/>
          <p:nvPr/>
        </p:nvPicPr>
        <p:blipFill>
          <a:blip r:embed="rId1"/>
          <a:stretch/>
        </p:blipFill>
        <p:spPr>
          <a:xfrm>
            <a:off x="6804000" y="5805360"/>
            <a:ext cx="1793880" cy="7923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24" descr="u=1497081733,1501323177&amp;fm=0&amp;gp=0.jpg"/>
          <p:cNvPicPr/>
          <p:nvPr/>
        </p:nvPicPr>
        <p:blipFill>
          <a:blip r:embed="rId2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</p:spTree>
  </p:cSld>
  <p:transition>
    <p:cover dir="lu"/>
    <p:sndAc>
      <p:stSnd>
        <p:snd r:embed="rId3" name="voltage.wav"/>
      </p:stSnd>
    </p:sndAc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39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5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2011040520471416"/>
          <p:cNvPicPr/>
          <p:nvPr/>
        </p:nvPicPr>
        <p:blipFill>
          <a:blip r:embed="rId1"/>
          <a:stretch/>
        </p:blipFill>
        <p:spPr>
          <a:xfrm>
            <a:off x="-320760" y="0"/>
            <a:ext cx="971712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324000" y="1268280"/>
            <a:ext cx="849780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叶冠    树荫    孤独    需要   抱歉    幸福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悲伤    颤抖    满意    兴奋   欣慰    难过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树墩    爽快    抚摸    无私   仿 佛  锯下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成家立业     荡秋千    抱歉   歇歇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图片3.png"/>
          <p:cNvPicPr/>
          <p:nvPr/>
        </p:nvPicPr>
        <p:blipFill>
          <a:blip r:embed="rId2"/>
          <a:stretch/>
        </p:blipFill>
        <p:spPr>
          <a:xfrm>
            <a:off x="324000" y="476280"/>
            <a:ext cx="1584000" cy="1582560"/>
          </a:xfrm>
          <a:prstGeom prst="rect">
            <a:avLst/>
          </a:prstGeom>
          <a:ln w="0">
            <a:noFill/>
          </a:ln>
        </p:spPr>
      </p:pic>
      <p:sp>
        <p:nvSpPr>
          <p:cNvPr id="93" name="流程图: 顺序访问存储器 6"/>
          <p:cNvSpPr/>
          <p:nvPr/>
        </p:nvSpPr>
        <p:spPr>
          <a:xfrm>
            <a:off x="2340000" y="765000"/>
            <a:ext cx="2952720" cy="1151280"/>
          </a:xfrm>
          <a:prstGeom prst="flowChartMagneticTape">
            <a:avLst/>
          </a:prstGeom>
          <a:noFill/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读一读记一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3" name="drumroll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椭圆形标注 5"/>
          <p:cNvSpPr/>
          <p:nvPr/>
        </p:nvSpPr>
        <p:spPr>
          <a:xfrm>
            <a:off x="468360" y="71280"/>
            <a:ext cx="2590920" cy="1341720"/>
          </a:xfrm>
          <a:prstGeom prst="wedgeEllipseCallout">
            <a:avLst>
              <a:gd name="adj1" fmla="val 53388"/>
              <a:gd name="adj2" fmla="val 58453"/>
            </a:avLst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755640" y="3952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词语解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971640" y="1890720"/>
            <a:ext cx="7272360" cy="27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颤  抖：颤动，发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成家立业：指结了婚，有了家业或建立了某项事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欣  慰：喜欢而心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抚  摸：用手轻轻按着并来回移动，也作抚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抱  歉：心中不安，觉得对不住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爽  快：舒适畅快；痛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无  私：不自私，没有私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6" descr="u=1497081733,1501323177&amp;fm=0&amp;gp=0.jpg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611280" y="189000"/>
            <a:ext cx="2520720" cy="1008000"/>
            <a:chOff x="611280" y="189000"/>
            <a:chExt cx="2520720" cy="1008000"/>
          </a:xfrm>
        </p:grpSpPr>
        <p:sp>
          <p:nvSpPr>
            <p:cNvPr id="99" name="AutoShape 6"/>
            <p:cNvSpPr/>
            <p:nvPr/>
          </p:nvSpPr>
          <p:spPr>
            <a:xfrm>
              <a:off x="611280" y="189000"/>
              <a:ext cx="2520720" cy="1008000"/>
            </a:xfrm>
            <a:prstGeom prst="cloudCallout">
              <a:avLst>
                <a:gd name="adj1" fmla="val 115300"/>
                <a:gd name="adj2" fmla="val 42222"/>
              </a:avLst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7"/>
            <p:cNvSpPr/>
            <p:nvPr/>
          </p:nvSpPr>
          <p:spPr>
            <a:xfrm>
              <a:off x="1173240" y="439560"/>
              <a:ext cx="18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华文彩云"/>
                  <a:ea typeface="华文彩云"/>
                </a:rPr>
                <a:t>近义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4"/>
          <p:cNvSpPr/>
          <p:nvPr/>
        </p:nvSpPr>
        <p:spPr>
          <a:xfrm>
            <a:off x="1116000" y="1628640"/>
            <a:ext cx="802800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孤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孤单                      爽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痛快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欣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宽慰                      颤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颤动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抱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内疚                      满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满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5" descr="u=1497081733,1501323177&amp;fm=0&amp;gp=0.jpg"/>
          <p:cNvPicPr/>
          <p:nvPr/>
        </p:nvPicPr>
        <p:blipFill>
          <a:blip r:embed="rId1"/>
          <a:stretch/>
        </p:blipFill>
        <p:spPr>
          <a:xfrm>
            <a:off x="0" y="5477040"/>
            <a:ext cx="9144000" cy="1380960"/>
          </a:xfrm>
          <a:prstGeom prst="rect">
            <a:avLst/>
          </a:prstGeom>
          <a:ln w="0">
            <a:noFill/>
          </a:ln>
        </p:spPr>
      </p:pic>
      <p:grpSp>
        <p:nvGrpSpPr>
          <p:cNvPr id="103" name="Group 7"/>
          <p:cNvGrpSpPr/>
          <p:nvPr/>
        </p:nvGrpSpPr>
        <p:grpSpPr>
          <a:xfrm>
            <a:off x="763560" y="3068640"/>
            <a:ext cx="2521080" cy="1008000"/>
            <a:chOff x="763560" y="3068640"/>
            <a:chExt cx="2521080" cy="1008000"/>
          </a:xfrm>
        </p:grpSpPr>
        <p:sp>
          <p:nvSpPr>
            <p:cNvPr id="104" name="AutoShape 6"/>
            <p:cNvSpPr/>
            <p:nvPr/>
          </p:nvSpPr>
          <p:spPr>
            <a:xfrm>
              <a:off x="763560" y="3068640"/>
              <a:ext cx="2521080" cy="1008000"/>
            </a:xfrm>
            <a:prstGeom prst="cloudCallout">
              <a:avLst>
                <a:gd name="adj1" fmla="val 115300"/>
                <a:gd name="adj2" fmla="val 42222"/>
              </a:avLst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1325520" y="3319200"/>
              <a:ext cx="152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华文彩云"/>
                  <a:ea typeface="华文彩云"/>
                </a:rPr>
                <a:t>反义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矩形 10"/>
          <p:cNvSpPr/>
          <p:nvPr/>
        </p:nvSpPr>
        <p:spPr>
          <a:xfrm>
            <a:off x="773280" y="4221000"/>
            <a:ext cx="763236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难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高兴        安静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热闹        幸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悲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兴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沮丧       无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自私         兴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沮丧     快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痛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u"/>
    <p:sndAc>
      <p:stSnd>
        <p:snd r:embed="rId2" name="chimes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95480" y="135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冠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ān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树冠   鸡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兴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īng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兴建   兴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uà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冠军   夺冠）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ìng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扫兴  兴高采烈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ōng 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空中   空气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颤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hàn 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颤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òng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空隙   空地）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à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颤抖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ān   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干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累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èi    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劳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àn   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骨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                       lěi     (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积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611280" y="115920"/>
            <a:ext cx="2520720" cy="1008000"/>
            <a:chOff x="611280" y="115920"/>
            <a:chExt cx="2520720" cy="1008000"/>
          </a:xfrm>
        </p:grpSpPr>
        <p:sp>
          <p:nvSpPr>
            <p:cNvPr id="109" name="AutoShape 6"/>
            <p:cNvSpPr/>
            <p:nvPr/>
          </p:nvSpPr>
          <p:spPr>
            <a:xfrm>
              <a:off x="611280" y="115920"/>
              <a:ext cx="2520720" cy="1008000"/>
            </a:xfrm>
            <a:prstGeom prst="cloudCallout">
              <a:avLst>
                <a:gd name="adj1" fmla="val 115300"/>
                <a:gd name="adj2" fmla="val 42222"/>
              </a:avLst>
            </a:prstGeom>
            <a:noFill/>
            <a:ln w="936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7"/>
            <p:cNvSpPr/>
            <p:nvPr/>
          </p:nvSpPr>
          <p:spPr>
            <a:xfrm>
              <a:off x="1173240" y="366480"/>
              <a:ext cx="1527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9900"/>
                  </a:solidFill>
                  <a:latin typeface="华文彩云"/>
                  <a:ea typeface="华文彩云"/>
                </a:rPr>
                <a:t>多音字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图片 5" descr="u=1497081733,1501323177&amp;fm=0&amp;gp=0.jpg"/>
          <p:cNvPicPr/>
          <p:nvPr/>
        </p:nvPicPr>
        <p:blipFill>
          <a:blip r:embed="rId1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p:transition>
    <p:wipe dir="u"/>
    <p:sndAc>
      <p:stSnd>
        <p:snd r:embed="rId2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6T23:20:15Z</dcterms:modified>
  <cp:revision>1</cp:revision>
  <dc:subject/>
  <dc:title>幻灯片 1</dc:title>
</cp:coreProperties>
</file>