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1B1-D1C1-4A6A-87B8-7B18105452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5EC5-456B-4F0E-A474-770FC00E8F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B60-0B9A-4AB8-BE32-CEBA7F2F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832-2F72-419F-9CCD-723B7CA0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4FD-D102-499B-A9C4-22CAD585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763-64FB-4C65-8AA6-2A46B2E2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AC2-A418-4A3D-9184-2E5FDA7B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20F-F709-4EC7-8EF8-CAA59CBC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F53-CB9D-4984-809D-6FCC70D3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54D-7067-4CFB-84CC-E6C850DE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2FF-4066-4360-952D-29CD8E0E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DD6-231F-47B0-8127-D4D561AB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FE1-4349-48B2-AEE1-76588866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A10-DDEE-47BF-97AC-1149D808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A91A-7FF2-446C-8C7A-CAE5DC2C2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01680" y="762120"/>
            <a:ext cx="291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短文两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"/>
          <p:cNvSpPr/>
          <p:nvPr/>
        </p:nvSpPr>
        <p:spPr>
          <a:xfrm>
            <a:off x="762120" y="220968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音乐喷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762120" y="342900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大观览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29680" y="5638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2440080" y="167652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节节车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440080" y="315432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幅幅图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440080" y="4572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只只巨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983200" y="167652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节车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983200" y="315432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幅图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5983200" y="4572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只巨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152280" y="76320"/>
            <a:ext cx="3581640" cy="1752480"/>
          </a:xfrm>
          <a:prstGeom prst="cloudCallout">
            <a:avLst>
              <a:gd name="adj1" fmla="val -43750"/>
              <a:gd name="adj2" fmla="val 7264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你觉得这两组词的相同和不同在哪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09480" y="1355040"/>
            <a:ext cx="79250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它叫大观览车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谢谢你，大观览车，和你交上朋友，我们会飞得更高，看得更远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4191120" y="2362320"/>
            <a:ext cx="19047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7467480" y="236232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762120" y="2743200"/>
            <a:ext cx="19047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36480" y="318456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大观览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754960" y="3168720"/>
            <a:ext cx="2529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和你交朋友　　更高更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690640" y="144000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像火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690640" y="302436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像飞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881440" y="493704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像多臂机器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1981080" y="1584360"/>
            <a:ext cx="228600" cy="3733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4724280" y="1584360"/>
            <a:ext cx="228600" cy="3733920"/>
          </a:xfrm>
          <a:custGeom>
            <a:avLst/>
            <a:gdLst>
              <a:gd name="textAreaLeft" fmla="*/ 0 w 228600"/>
              <a:gd name="textAreaRight" fmla="*/ 8244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755640" y="60012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563480" y="129528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小仙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563480" y="242244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大家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16120" y="3657600"/>
            <a:ext cx="231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走动的图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754600" y="1295280"/>
            <a:ext cx="20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奇异的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613480" y="243828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车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553000" y="365760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巨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62680" y="3808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填一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828800" y="129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5943600" y="12952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828800" y="236232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5943600" y="243828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1828800" y="36576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943600" y="36576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888000" y="27702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EEEC-9E31-4B02-9DC5-95F950CCEB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28600" y="2683080"/>
            <a:ext cx="8839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天，爸爸带我去亚运村看音乐喷泉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灯光暗下来，乐曲响起来，我看见音乐了！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音乐是什么？以前，我只听见它美妙的声音；今天，我看见它的模样了，原来它是些美丽的小水珠。小水珠们像一群小仙人，和［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hè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］着旋律，在欢快地舞蹈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dǎo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。它们忽而轻盈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yínɡ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飞升，忽而袅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niǎo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袅落下；忽而散开，忽而聚拢；忽而化作春雨，忽而又变成波浪。这时候，我像乘着一朵奇异的云，也跟着飞起来，舞起来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回家路上，爸爸说，他要写诗了，心中的诗句呀，随着音乐喷泉喷了出来。我说，我也想写日记了，那些好句子呀，也像音乐喷泉一样涌了出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872520" y="272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音乐喷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6400800" y="9360"/>
            <a:ext cx="3124080" cy="1600200"/>
          </a:xfrm>
          <a:prstGeom prst="cloudCallout">
            <a:avLst>
              <a:gd name="adj1" fmla="val -37245"/>
              <a:gd name="adj2" fmla="val 86902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说说作者眼中的音乐到底是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5486400" y="3276720"/>
            <a:ext cx="2666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69880" y="303228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音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008080" y="160020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听见声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862440" y="16002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美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008080" y="356544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看见模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529520" y="2583000"/>
            <a:ext cx="497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像一群小仙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248720" y="3641760"/>
            <a:ext cx="2329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忽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忽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忽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179960" y="4471920"/>
            <a:ext cx="151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我也跟着舞起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1371600" y="1523880"/>
            <a:ext cx="304920" cy="3505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3276720" y="274320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04920" y="2431080"/>
            <a:ext cx="853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天，爸爸带我去亚运村看音乐喷泉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灯光暗下来，乐曲响起来，我看见音乐了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音乐是什么？以前，我只听见它美妙的声音；今天，我看见它的模样了，原来它是些美丽的小水珠。小水珠们像一群小仙人，和［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hè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］着旋律，在欢快地舞蹈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dǎo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。它们忽而轻盈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yínɡ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飞升，忽而袅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niǎo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袅落下；忽而散开，忽而聚拢；忽而化作春雨，忽而又变成波浪。这时候，我像乘着一朵奇异的云，也跟着飞起来，舞起来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72520" y="272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音乐喷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1447920" y="388620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2819520" y="388620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1752480" y="434340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3124080" y="5181480"/>
            <a:ext cx="5105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380880" y="5562720"/>
            <a:ext cx="31244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1523880" y="5943600"/>
            <a:ext cx="3048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7"/>
          <p:cNvSpPr/>
          <p:nvPr/>
        </p:nvSpPr>
        <p:spPr>
          <a:xfrm>
            <a:off x="2743200" y="298116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04920" y="2848320"/>
            <a:ext cx="8534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回家路上，爸爸说，他要写诗了，心中的诗句呀，随着音乐喷泉喷了出来。我说，我也想写日记了，那些好句子呀，也像音乐喷泉一样涌了出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>
            <a:off x="6324480" y="335268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876920" y="373392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69880" y="303228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音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008080" y="160020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听见声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862440" y="16002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美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008080" y="356544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看见模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529520" y="2583000"/>
            <a:ext cx="497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像一群小仙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248720" y="3641760"/>
            <a:ext cx="2329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忽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忽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忽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179960" y="4471920"/>
            <a:ext cx="151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我也跟着舞起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7369200" y="2651040"/>
            <a:ext cx="120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写日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涌”出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1371600" y="1523880"/>
            <a:ext cx="304920" cy="3505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7086600" y="1600200"/>
            <a:ext cx="152280" cy="335268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3276720" y="274320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90440" y="3466440"/>
            <a:ext cx="6591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游乐场上，有这么一个大家伙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它像火车，请我们坐进一节节车厢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xiānɡ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。它不是向前开，而是向上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它像飞船，载着我们向高空飞去。它请我们观看家乡的田野、山林，新建的高楼、厂房，像看一幅幅走动的图画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它像多臂机器人，一只只巨手稳稳地捧着我们，从地面升向高空，又从高空返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fǎn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回地面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491640" y="76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观览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5410080" y="228600"/>
            <a:ext cx="3353040" cy="2209680"/>
          </a:xfrm>
          <a:prstGeom prst="cloudCallout">
            <a:avLst>
              <a:gd name="adj1" fmla="val 57481"/>
              <a:gd name="adj2" fmla="val 6235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课文中的浏览车到底是什么样子呢？与你平常见过的一样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219320" y="3352680"/>
            <a:ext cx="990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1295280" y="41148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1295280" y="525780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36480" y="318456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大观览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90640" y="144000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像火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690640" y="302436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像飞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881440" y="493704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像多臂机器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1981080" y="1584360"/>
            <a:ext cx="228600" cy="3733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90440" y="3466440"/>
            <a:ext cx="6591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游乐场上，有这么一个大家伙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它像火车，请我们坐进一节节车厢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xiānɡ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。它不是向前开，而是向上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它像飞船，载着我们向高空飞去。它请我们观看家乡的田野、山林，新建的高楼、厂房，像看一幅幅走动的图画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它像多臂机器人，一只只巨手稳稳地捧着我们，从地面升向高空，又从高空返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fǎn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回地面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491640" y="76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观览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4076640" y="3352680"/>
            <a:ext cx="15620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1600200" y="487692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3462480" y="4876920"/>
            <a:ext cx="652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505320" y="5257800"/>
            <a:ext cx="14475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13:56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0:04Z</dcterms:modified>
  <cp:revision>1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