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5AFA-50F8-4EC0-8B9E-72903F524E85}" type="slidenum">
              <a:rPr b="0" lang="zh-CN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3EBE-7D31-40A7-86BE-5333322F7B67}" type="slidenum">
              <a:rPr b="0" lang="zh-CN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18F-3892-4D62-8DC8-6AB31441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6CE-C565-46C1-99E3-26501F83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F46-276D-48B3-841F-6FD98119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853-E28C-4A67-BFEC-6150D46C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B40-30E2-4938-9E19-BBA0AB76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029-0994-4D57-840D-62EC60D5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DDB-3388-43DB-B17F-6A66DBBC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276-6D56-40C1-B510-858DCBB5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5743-E824-432B-A2EB-E8291EDD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8F4-F696-4D9F-9ED1-BADFA774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F11-76F7-4AAC-AFE8-ACB41265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319-84A6-41D1-906A-D50ADB52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5403-41DD-4259-855C-C5C429385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4595_200906021511272655165383437554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790560" y="1125360"/>
            <a:ext cx="756144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ff6600"/>
                  </a:solidFill>
                  <a:round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中宋"/>
              </a:rPr>
              <a:t>一路鲜花</a:t>
            </a:r>
            <a:endParaRPr b="1" lang="en-US" sz="3200" spc="1" strike="noStrike">
              <a:ln w="12600">
                <a:solidFill>
                  <a:srgbClr val="ff6600"/>
                </a:solidFill>
                <a:round/>
              </a:ln>
              <a:gradFill rotWithShape="0">
                <a:gsLst>
                  <a:gs pos="0">
                    <a:srgbClr val="ffcc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446120" y="573264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1187-45322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xianhu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1511280" y="1413000"/>
            <a:ext cx="64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路上，汽车跑得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又快又稳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鲜花接连不断地从眼前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过。 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435400" y="4776840"/>
            <a:ext cx="46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这是怎么回事？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187-45322r"/>
          <p:cNvPicPr/>
          <p:nvPr/>
        </p:nvPicPr>
        <p:blipFill>
          <a:blip r:embed="rId1"/>
          <a:stretch/>
        </p:blipFill>
        <p:spPr>
          <a:xfrm>
            <a:off x="1764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826920" y="170028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4920" y="620640"/>
            <a:ext cx="90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位乘客告诉阿光爷爷，有位老司机在颠得最厉害的公路边种了花，后来，又有许多人铺平了这条路，还种了许多花。现在，这条路就成了“鲜花公路”。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1187-45322r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109440" y="119700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阿光爷爷笑了。他打开车窗，让阵阵花香飘进车里。   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文本框 1"/>
          <p:cNvSpPr/>
          <p:nvPr/>
        </p:nvSpPr>
        <p:spPr>
          <a:xfrm>
            <a:off x="1298520" y="533556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181080" y="2351160"/>
            <a:ext cx="864072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ff33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路鲜花，一路爱！</a:t>
            </a:r>
            <a:endParaRPr b="0" lang="en-US" sz="6600" spc="1" strike="noStrike">
              <a:ln w="19080">
                <a:solidFill>
                  <a:srgbClr val="ff33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4595_20090602151127265516538343755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008620937448164"/>
          <p:cNvPicPr/>
          <p:nvPr/>
        </p:nvPicPr>
        <p:blipFill>
          <a:blip r:embed="rId2"/>
          <a:stretch/>
        </p:blipFill>
        <p:spPr>
          <a:xfrm>
            <a:off x="11160" y="0"/>
            <a:ext cx="3311640" cy="4032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3348000" y="11736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如果你作为一名普通的乘客看到这一切，你想对阿光爷爷说些什么？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79280" y="4532400"/>
            <a:ext cx="89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你觉得阿光爷爷是什么样的人？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F7C0-D299-4516-AA51-15B5CC7178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C201106141521082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C20110614152106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C201106141521062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SC201106141521058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133720" y="762120"/>
            <a:ext cx="5486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2" name="10.MP3" descr=""/>
          <p:cNvPicPr/>
          <p:nvPr/>
        </p:nvPicPr>
        <p:blipFill>
          <a:blip r:embed="rId1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图片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18878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187-45322r"/>
          <p:cNvPicPr/>
          <p:nvPr/>
        </p:nvPicPr>
        <p:blipFill>
          <a:blip r:embed="rId1"/>
          <a:stretch/>
        </p:blipFill>
        <p:spPr>
          <a:xfrm>
            <a:off x="1440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41400" y="333360"/>
            <a:ext cx="9102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之间  返回   退休   麻袋  水壶      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锄头  好啦   掠过   颠簸  铺平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厉害   普通     鲜花公路  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簇花苗        又快又稳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187-45322r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0" y="260280"/>
            <a:ext cx="91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读一读课文，边读边想：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612720" y="1413000"/>
            <a:ext cx="56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爷爷去干什么了？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79280" y="2565360"/>
            <a:ext cx="88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阿光爷爷开一段路，就下车到路边种一簇花苗。 开呀开，种啊种，一直到太阳下山，才到了终点。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187-45322r"/>
          <p:cNvPicPr/>
          <p:nvPr/>
        </p:nvPicPr>
        <p:blipFill>
          <a:blip r:embed="rId1"/>
          <a:stretch/>
        </p:blipFill>
        <p:spPr>
          <a:xfrm>
            <a:off x="648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09440" y="1052640"/>
            <a:ext cx="88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好啦，我的工作结束了。”阿光爷爷开心地笑着。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1:24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0:55Z</dcterms:modified>
  <cp:revision>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