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A7FE-0D21-4758-8C78-04F794069B5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7323-0B3F-431B-87B9-722008A0BAD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D24A-4EC5-42D8-A048-E24A693D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6AE-059A-4784-84C3-518C9346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7D77-101D-4EA4-B376-CF62B146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7CFB-5076-4C8A-9913-ADE332E3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1328-F140-460C-92AF-746372CB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882D-A978-41C2-A50C-6691E328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5F7-82A5-4300-8810-8B73A395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643F-7754-47EE-9E01-19B8845D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A353-59CA-41A8-82D5-C3611B57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280E-AC00-47DE-9921-A88C1B7D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4D44-3DFE-48BD-A17A-65059D72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5A1A-428D-455E-A74F-0189799D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3267-89A5-46A3-8206-36B8E8CC5C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矩形 1" descr=""/>
          <p:cNvPicPr/>
          <p:nvPr/>
        </p:nvPicPr>
        <p:blipFill>
          <a:blip r:embed="rId1"/>
          <a:stretch/>
        </p:blipFill>
        <p:spPr>
          <a:xfrm>
            <a:off x="942840" y="1106640"/>
            <a:ext cx="7629840" cy="1861920"/>
          </a:xfrm>
          <a:prstGeom prst="rect">
            <a:avLst/>
          </a:prstGeom>
          <a:ln w="0">
            <a:noFill/>
          </a:ln>
        </p:spPr>
      </p:pic>
      <p:pic>
        <p:nvPicPr>
          <p:cNvPr id="49" name="矩形 2" descr=""/>
          <p:cNvPicPr/>
          <p:nvPr/>
        </p:nvPicPr>
        <p:blipFill>
          <a:blip r:embed="rId2"/>
          <a:stretch/>
        </p:blipFill>
        <p:spPr>
          <a:xfrm>
            <a:off x="1387440" y="5156280"/>
            <a:ext cx="640080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2300400" cy="3557520"/>
          </a:xfrm>
          <a:prstGeom prst="rect">
            <a:avLst/>
          </a:prstGeom>
          <a:ln w="0">
            <a:noFill/>
          </a:ln>
        </p:spPr>
      </p:pic>
      <p:sp>
        <p:nvSpPr>
          <p:cNvPr id="70" name="椭圆形标注 2"/>
          <p:cNvSpPr/>
          <p:nvPr/>
        </p:nvSpPr>
        <p:spPr>
          <a:xfrm>
            <a:off x="2695680" y="907920"/>
            <a:ext cx="6053040" cy="2808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ebf1d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你还知道哪些有关</a:t>
            </a:r>
            <a:r>
              <a:rPr b="1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诚信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的小故事？和大家一起交流交流吧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圆角矩形 3"/>
          <p:cNvSpPr/>
          <p:nvPr/>
        </p:nvSpPr>
        <p:spPr>
          <a:xfrm>
            <a:off x="324000" y="333360"/>
            <a:ext cx="2300040" cy="934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讨论交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1"/>
          <p:cNvSpPr/>
          <p:nvPr/>
        </p:nvSpPr>
        <p:spPr>
          <a:xfrm>
            <a:off x="2940120" y="5054760"/>
            <a:ext cx="52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2627280" y="1844640"/>
            <a:ext cx="51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再  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4EFB-2800-44C4-9966-2069589DA2F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5"/>
          <p:cNvSpPr/>
          <p:nvPr/>
        </p:nvSpPr>
        <p:spPr>
          <a:xfrm>
            <a:off x="2584440" y="4076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1258920" y="3357720"/>
            <a:ext cx="3384360" cy="289224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1187280" y="19890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你听过“一诺千金”的故事吗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你知道“一诺千金”是什么意思吗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2843280" y="18900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一诺千金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684360" y="1773360"/>
            <a:ext cx="777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诺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：许诺。许下的一个诺言有千金的价值。比喻说话算数，极有信用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成语出处：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西汉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司马迁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史记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季布栾布列传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：“得黄金百斤，不如得季布一诺。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913120" y="189000"/>
            <a:ext cx="49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生字学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539640" y="1773360"/>
            <a:ext cx="39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犹豫（</a:t>
            </a:r>
            <a:r>
              <a:rPr b="1" lang="en-US" sz="3600" spc="-1" strike="noStrike">
                <a:solidFill>
                  <a:srgbClr val="ff0000"/>
                </a:solidFill>
                <a:latin typeface="GB Pinyinok"/>
                <a:ea typeface="GB Pinyinok"/>
              </a:rPr>
              <a:t>yóu   yù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难堪（</a:t>
            </a:r>
            <a:r>
              <a:rPr b="1" lang="en-US" sz="3600" spc="-1" strike="noStrike">
                <a:solidFill>
                  <a:srgbClr val="ff0000"/>
                </a:solidFill>
                <a:latin typeface="GB Pinyinok"/>
                <a:ea typeface="GB Pinyinok"/>
              </a:rPr>
              <a:t>nán  kān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责怪（</a:t>
            </a:r>
            <a:r>
              <a:rPr b="1" lang="en-US" sz="3600" spc="-1" strike="noStrike">
                <a:solidFill>
                  <a:srgbClr val="ff0000"/>
                </a:solidFill>
                <a:latin typeface="GB Pinyinok"/>
                <a:ea typeface="GB Pinyinok"/>
              </a:rPr>
              <a:t>zé   guài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4465800" y="1773360"/>
            <a:ext cx="388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拳头（</a:t>
            </a:r>
            <a:r>
              <a:rPr b="1" lang="en-US" sz="3600" spc="-1" strike="noStrike">
                <a:solidFill>
                  <a:srgbClr val="ff0000"/>
                </a:solidFill>
                <a:latin typeface="GB Pinyinok"/>
                <a:ea typeface="GB Pinyinok"/>
              </a:rPr>
              <a:t>quán   tóu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喉咙（</a:t>
            </a:r>
            <a:r>
              <a:rPr b="1" lang="en-US" sz="3600" spc="-1" strike="noStrike">
                <a:solidFill>
                  <a:srgbClr val="ff0000"/>
                </a:solidFill>
                <a:latin typeface="GB Pinyinok"/>
                <a:ea typeface="GB Pinyinok"/>
              </a:rPr>
              <a:t>hóu   lóng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奔腾（</a:t>
            </a:r>
            <a:r>
              <a:rPr b="1" lang="en-US" sz="3600" spc="-1" strike="noStrike">
                <a:solidFill>
                  <a:srgbClr val="ff0000"/>
                </a:solidFill>
                <a:latin typeface="GB Pinyinok"/>
                <a:ea typeface="GB Pinyinok"/>
              </a:rPr>
              <a:t>bēn   téng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37960" y="404640"/>
            <a:ext cx="865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阅读课文，回答问题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568440" y="1628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那个男生问“我”借钱时，“我”为什么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犹豫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500040" y="3573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一方面是因为男生家里很贫穷，“我”怕他还不起；另一方面是因为这是“我”两个月的零花钱，借给他“我”就没有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755640" y="981000"/>
            <a:ext cx="784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男生还钱时，“我”为什么感到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惊喜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男生为什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快活的笑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了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684360" y="2852640"/>
            <a:ext cx="77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我”感到惊喜是因为“我”没有想到男生这么晚还会赶来送钱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男生快活的笑了是因为他实现了自己的诺言</a:t>
            </a:r>
            <a:r>
              <a:rPr b="1" lang="zh-CN" sz="3200" spc="-1" strike="noStrike">
                <a:solidFill>
                  <a:srgbClr val="0033cc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539640" y="8668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男生是怎么赚到这两块钱的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539640" y="285264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为了如期归还借款，他天天夜里到北站附近的旱桥下帮菜家推菜，到了第五天清晨他终于攒足了两元钱。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2800440" y="40464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楷体"/>
                <a:ea typeface="楷体"/>
              </a:rPr>
              <a:t>中心思想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615960" y="229068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课文以一个贫困生借钱并想尽办法赚钱、按时还钱为例，说明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一诺千金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道理，赞扬了这个男生坚守信用的优秀品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250920" y="1303200"/>
            <a:ext cx="856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诚信是一股清泉，它将洗去欺诈的肮脏，让世界的每一个角落都流淌着洁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诚信如一把钥匙，打开你我心中那扇门上的锁，让我们敞开心扉，沐浴那友谊的阳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诚信犹如一颗青涩的果，你咬一口，虽然很苦，却回味无穷，倘若你将它丢弃，便会终身遗憾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2916360" y="18900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楷体"/>
                <a:ea typeface="楷体"/>
              </a:rPr>
              <a:t>拓展欣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9T01:56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0:24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