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suction.wav" ContentType="audio/x-wav"/>
  <Override PartName="/ppt/media/image2.png" ContentType="image/png"/>
  <Override PartName="/ppt/media/image25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push.wav" ContentType="audio/x-wav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laser.wav" ContentType="audio/x-wav"/>
  <Override PartName="/ppt/media/image16.jpeg" ContentType="image/jpeg"/>
  <Override PartName="/ppt/media/image17.png" ContentType="image/png"/>
  <Override PartName="/ppt/media/type.wav" ContentType="audio/x-wav"/>
  <Override PartName="/ppt/media/image18.png" ContentType="image/png"/>
  <Override PartName="/ppt/media/hammer.wav" ContentType="audio/x-wav"/>
  <Override PartName="/ppt/media/image20.png" ContentType="image/png"/>
  <Override PartName="/ppt/media/image28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F454-7DA2-42D2-9697-07DBEE45DA3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C925-4DFF-4B72-81AB-E57513525DFC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FCA-A4D2-4C67-9DD1-EF85FA5C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BD3-50A8-4647-A973-069CCADA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1EF43-2DD5-4B06-908E-5F07011D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3389D-E3CA-44E5-8C2D-D28893D7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24953-C5DF-4E0A-8BC2-DB4B0DB5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FCCB8-6C67-4657-8211-A82465FC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40442-3083-4D68-97F0-C84E8C52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046A5-DA8E-4D2E-93C6-70F1E687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33042-6BEC-442D-8C9F-02581472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DF93D-C200-4238-8D04-2491477C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C9B2C-B80D-4A51-9356-B468EB43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5B81D-80D8-4AA3-9D45-B1EFC0B5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45E-C026-459E-B0F5-29CDDA84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7FF69-2D37-4DD4-8EF9-9F1037C7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1C4D8-7DD1-4E9D-BB6C-EE38BAB4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0C30E-7564-4FB3-81CD-7DD092EB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E52F6-E99B-47CA-B111-6C9D94A6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5598E-C5AB-4DEF-A112-7C38C443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7BAD4-4FD1-4B64-957E-324F2440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CE07E-8794-4FCC-9D7B-19291E9F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6E115-31E3-4EC2-9CF2-E652DD30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97069-442E-4054-A125-98DB79E7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71833-797E-42D8-8144-41B47316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B82-BB35-4C64-8DCC-BC38B60E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21B7F-F19F-4DA1-9D69-25118A21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83EDF-25B6-49EB-A675-8D9D456D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26C6A-A3E2-4C3A-B4E0-6E7F173F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EBBA1-4D98-4BDB-A1D5-397E45B0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D81AF-6012-495B-A124-13614E8A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EDB52-2BE9-44AA-95DC-D857E9EB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B7B49-BAFC-498B-8242-5BC542BC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839B0-346E-48A6-9740-D6D08410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FD9E9-667D-4FA0-AE2E-0DDF11C3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749C6-E0AF-4042-92E0-7ABB5B06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1C02-D16E-49D3-A1F2-C7CC3887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F7F0D-1F8B-4E7B-9E19-BC8734E9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0B473-AB18-4CB1-A57E-32F819C7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8FC18-48BC-4803-9BA1-65FBF25C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8FF18-34E7-48E1-9D15-5FD8A402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16893-EEE4-40EA-9263-235AF1AE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04911-8D65-4918-AB63-B5D95488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DE4BB-A613-4A14-B800-60D61BD1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4D06E-5F9F-4C4E-9BBF-6C0DC97A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300C3-7C3D-461F-BF82-CA2BCEC1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97DE3-A84D-4735-9F0C-36A15EE0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0427-7F0F-48E6-AA88-63D29BD9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C327E-D0FB-44FD-A5C4-5F9CA9BD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7D554-EECB-476A-A479-A6461C9F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127EF-1F6E-45A9-BF7B-8EEE8FDD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7B004-8DAB-4C01-B966-3A340822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495E0-AE5A-4B33-8C81-1A79E171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56E8C-E1E5-4636-AD39-1664339D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935F5-2CCF-467D-9679-E70E495B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44D37-CD55-497C-ABDC-AD7C9C01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0F43E-3DBB-4A1C-8DE1-2CA0E968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4B4F2-8667-44E3-9A3B-63D77454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0939-FCEE-46E0-B8B4-396D390F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7B33B-780E-4288-96EE-C0DC9B61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183BE-2D47-4750-AF27-99234D60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CF85D-DC3A-4BEA-887A-6953B245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4D967-5300-49A0-8111-C52D6F69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EA2B0-46D3-41DB-98B9-C9C8A51F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EA7AF-E3E9-422C-AD08-9CC75F30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786BB-8D1F-4B8A-B755-FDF6F4CB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5E2D4-51F8-4257-A5CD-3B145E47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50A3B3-65D5-43C5-93F1-5095D620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8FAD53-B221-45B5-BA25-DA914765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988D-2565-4044-A7EE-76800B50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D0767-EA95-423E-A70A-09AA2D71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816DCF-1A6F-40B8-85AD-6AABC912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71D1B-694F-4E7E-9D01-214D455A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872298-FDD1-45C9-82B2-3667AE77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B6A084-A73E-435D-92D0-94A24558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50537-F79E-4AD2-BB60-ED89F58C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55B295-EBEF-4DE4-A780-B46B9421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74160-28A4-4080-8609-9F27D594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A3D0F-3F4A-420A-B195-8C923361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759A-59F0-40BD-BE34-580A2AB0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3D89-415A-48D8-8F9C-694BCD38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4918-47FE-4C4A-9E74-9CEE4B34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996-ECC5-4B2B-81C5-B9A90E7D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7F66-C640-4103-9B0E-BCF11905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F0C2-EBEC-472D-BC36-607A9814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DF64-8AAD-4097-98BB-23E01670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4EDB-EE77-46BB-9556-B92B44FC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32B3-6771-4882-8B62-127B90D7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3E0D6-8CDC-4B02-8647-2DAB8F1E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F45E-70BF-4C5B-9F17-A6B25FAF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F60A0-F548-4562-A916-0E61E106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BC259-1888-4695-8CC0-38EE7C1A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A1E60-2207-4BDF-A6D5-D9A8EE80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DFE-93BF-4EB7-B649-3FC0FEA2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4497E-4832-4E81-A4DC-299DB593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AF4CD-A74B-45B9-9BCE-83303D9B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ED0DB-5C59-481F-98F3-088F2419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052FE-6B5E-4BA6-9AC5-A7C22590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B61A8-ABAE-4355-BFDF-65A9AF8A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1017F-80FD-4EA9-9E56-3EDA3BD2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8EAF6-129E-4118-8742-CE874FA0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20848-700B-4A20-ADCA-C35D9496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305A2-0B95-4894-ACE7-96BB2B04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E10FE-01DE-465D-9982-518598DF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8D7-989B-4B91-9DC5-7B69F6BA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791D9-09EC-485A-B8EE-9F160AD3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B9D4A-9912-4C72-8592-687A5CAD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F90BF-0B41-45F3-93CD-61816C22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02C0E-5B15-494F-BD9A-E5493DAF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52AC7-D35D-4B76-833B-30ACF685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076CC-BC27-4FB3-8556-CD183537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9DBC7-87B2-45CE-96AE-E4FEDDC2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46A5-EC4F-40AD-B11F-0E1FEEA4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1D490-6734-4E6E-B58F-97E993FD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BFEED-F771-48EB-B7F0-A128C587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A22-0F61-4ABC-BF13-6F4BE4D2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67BC9-0BF9-4D53-B61C-DA75826F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6CC15-AA7C-449F-9A1C-0CDA2919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85A2A-9C3A-4392-AFF6-93F5C5B3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91D14-8E50-4F3D-8D7A-62D18D48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24BEF-D571-40B4-B2E2-3162AB25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8A9AC-D9E5-4791-B8BA-05FCA582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84E3A-3096-4F09-9C10-E180E489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93EAA-6735-4D44-A048-86EFD171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95A1A-53BB-4DBC-8F58-9BE8510C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AC6A9-2DDB-490B-8EBE-21DD4346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F03-A41C-4AF3-910B-328B1EDC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F4CB8-83C2-47B6-B8C4-1B47E48E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975CC-27E7-4E6B-A7A3-13B8ACC6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7A0FE-956C-4297-8D0C-A9907DCD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90F9C-E590-4FA4-8BAF-131D2E8C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83DAA-2A90-41A4-8BD6-08ECD699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B621A-025E-4774-B360-2164D110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4F917-E55E-410A-814E-F8181E4C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1013D-BE09-4F54-B487-51C0CB5B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B8915-CB42-49EA-82C1-61DF070F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856BF-7931-4696-BD7F-4C098311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C1C-4E7C-45CE-9FB3-FB50718E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C7F86-018B-4BE0-BAA8-C2B8BEA3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F7DA2-D035-4585-84A6-222BE727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B6CA1-2DE6-465E-A953-CE10500B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3CA64-48A2-49F8-8FF4-106C6F0E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5B76C-05E0-41B8-8CDE-3D4243F9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367A2-8046-4678-81C0-14E1CA2C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494D9-DACE-495E-AE83-082E8A95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23F2D-F0FE-47A5-A88D-39E322EA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DC167-F17E-4753-B7AD-05BE9833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18065-A80C-4E44-BB8B-7A055B42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AD46-528F-4CF6-9DE8-0A9039D8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55943-563E-4927-82EF-E6D81AA0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EE52C-A9D4-465C-9969-EBBA8B12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541F3-84B7-45F8-B9CC-86EE19D4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EF946-0EEB-4620-BDB1-CE26530E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BA200-B0F6-45CC-9F63-B2606E3E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CEFEC-0DFD-4226-9737-2FC302F5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A2454-E4D7-4DE6-AE72-47746411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B1BD0-2357-4CEC-8EAF-3D1A5FE3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CF5E3-E786-41D0-82E4-7FFD4D43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4DA4F-B898-4403-A20C-B849E0E1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59A-B21B-4430-AF86-1024CAD6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03EBA-C5C4-46AF-8B38-41B1C6FF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99770-D63E-419D-8F3A-103BEDAB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F696F-230C-4E88-9150-631CAF59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52CBE-6758-4B30-99C2-39E213F9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09383-6F24-4A51-9076-F71CEC8A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B910C-A633-44B6-A84F-243BFB7A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C175A-028A-4543-95AB-C2571310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D1131-40BF-489A-A4CC-1D94D493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367C0-7112-4565-A86C-4BD00E1F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DBFF1-C17F-4D5C-BC01-A42D98F7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75A3-8AAE-4AE6-B19B-C9A5835014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6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1321-5634-45D0-AAC5-979921C087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592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593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F50F-082C-4146-B69A-53CFBFF873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7" name="Picture 3" descr="框a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" descr="框a2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5" descr="框a3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" descr="框a4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1" name="Picture 7" descr="麒靈"/>
          <p:cNvPicPr/>
          <p:nvPr/>
        </p:nvPicPr>
        <p:blipFill>
          <a:blip r:embed="rId7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4"/>
          </p:nvPr>
        </p:nvSpPr>
        <p:spPr>
          <a:xfrm>
            <a:off x="4568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6"/>
          </p:nvPr>
        </p:nvSpPr>
        <p:spPr>
          <a:xfrm>
            <a:off x="655272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EDB9-8BCF-4874-9494-8D38D7CC46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84" name="Rectangle 3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5" name="Oval 4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4" name="未知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5" name="未知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6" name="未知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7" name="未知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8" name="未知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9" name="未知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0" name="未知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3" name="Rectangle 32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4" name="Rectangle 33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5" name="AutoShape 34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741E-587F-4C53-8E74-BAA3C0EE5DC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-310320" y="798480"/>
            <a:ext cx="7080480" cy="6861240"/>
            <a:chOff x="-310320" y="798480"/>
            <a:chExt cx="7080480" cy="6861240"/>
          </a:xfrm>
        </p:grpSpPr>
        <p:grpSp>
          <p:nvGrpSpPr>
            <p:cNvPr id="760" name="Group 3"/>
            <p:cNvGrpSpPr/>
            <p:nvPr/>
          </p:nvGrpSpPr>
          <p:grpSpPr>
            <a:xfrm>
              <a:off x="-310320" y="798480"/>
              <a:ext cx="7080480" cy="6861240"/>
              <a:chOff x="-310320" y="798480"/>
              <a:chExt cx="7080480" cy="6861240"/>
            </a:xfrm>
          </p:grpSpPr>
          <p:grpSp>
            <p:nvGrpSpPr>
              <p:cNvPr id="761" name="Group 4"/>
              <p:cNvGrpSpPr/>
              <p:nvPr/>
            </p:nvGrpSpPr>
            <p:grpSpPr>
              <a:xfrm>
                <a:off x="-310320" y="798480"/>
                <a:ext cx="7080480" cy="6861240"/>
                <a:chOff x="-310320" y="798480"/>
                <a:chExt cx="7080480" cy="6861240"/>
              </a:xfrm>
            </p:grpSpPr>
            <p:sp>
              <p:nvSpPr>
                <p:cNvPr id="762" name="未知"/>
                <p:cNvSpPr/>
                <p:nvPr/>
              </p:nvSpPr>
              <p:spPr>
                <a:xfrm>
                  <a:off x="368640" y="1940040"/>
                  <a:ext cx="5207040" cy="488124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763" name="Group 6"/>
                <p:cNvGrpSpPr/>
                <p:nvPr/>
              </p:nvGrpSpPr>
              <p:grpSpPr>
                <a:xfrm>
                  <a:off x="-310320" y="798480"/>
                  <a:ext cx="7080480" cy="6861240"/>
                  <a:chOff x="-310320" y="798480"/>
                  <a:chExt cx="7080480" cy="6861240"/>
                </a:xfrm>
              </p:grpSpPr>
              <p:sp>
                <p:nvSpPr>
                  <p:cNvPr id="764" name="未知"/>
                  <p:cNvSpPr/>
                  <p:nvPr/>
                </p:nvSpPr>
                <p:spPr>
                  <a:xfrm>
                    <a:off x="7200" y="1263600"/>
                    <a:ext cx="628380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未知"/>
                  <p:cNvSpPr/>
                  <p:nvPr/>
                </p:nvSpPr>
                <p:spPr>
                  <a:xfrm>
                    <a:off x="16560" y="1482840"/>
                    <a:ext cx="6028920" cy="533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未知"/>
                  <p:cNvSpPr/>
                  <p:nvPr/>
                </p:nvSpPr>
                <p:spPr>
                  <a:xfrm>
                    <a:off x="188280" y="1701720"/>
                    <a:ext cx="561132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7" name="Group 10"/>
                  <p:cNvGrpSpPr/>
                  <p:nvPr/>
                </p:nvGrpSpPr>
                <p:grpSpPr>
                  <a:xfrm>
                    <a:off x="-310320" y="798480"/>
                    <a:ext cx="7080480" cy="6861240"/>
                    <a:chOff x="-310320" y="798480"/>
                    <a:chExt cx="7080480" cy="6861240"/>
                  </a:xfrm>
                </p:grpSpPr>
                <p:sp>
                  <p:nvSpPr>
                    <p:cNvPr id="768" name="未知"/>
                    <p:cNvSpPr/>
                    <p:nvPr/>
                  </p:nvSpPr>
                  <p:spPr>
                    <a:xfrm>
                      <a:off x="7200" y="798480"/>
                      <a:ext cx="676296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69" name="Group 12"/>
                    <p:cNvGrpSpPr/>
                    <p:nvPr/>
                  </p:nvGrpSpPr>
                  <p:grpSpPr>
                    <a:xfrm>
                      <a:off x="-310320" y="806040"/>
                      <a:ext cx="7071120" cy="6853680"/>
                      <a:chOff x="-310320" y="806040"/>
                      <a:chExt cx="7071120" cy="6853680"/>
                    </a:xfrm>
                  </p:grpSpPr>
                  <p:sp>
                    <p:nvSpPr>
                      <p:cNvPr id="770" name="未知"/>
                      <p:cNvSpPr/>
                      <p:nvPr/>
                    </p:nvSpPr>
                    <p:spPr>
                      <a:xfrm>
                        <a:off x="7200" y="1015920"/>
                        <a:ext cx="653328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71" name="Group 14"/>
                      <p:cNvGrpSpPr/>
                      <p:nvPr/>
                    </p:nvGrpSpPr>
                    <p:grpSpPr>
                      <a:xfrm>
                        <a:off x="-310320" y="806040"/>
                        <a:ext cx="7071120" cy="6853680"/>
                        <a:chOff x="-310320" y="806040"/>
                        <a:chExt cx="7071120" cy="6853680"/>
                      </a:xfrm>
                    </p:grpSpPr>
                    <p:sp>
                      <p:nvSpPr>
                        <p:cNvPr id="772" name="Line 15"/>
                        <p:cNvSpPr/>
                        <p:nvPr/>
                      </p:nvSpPr>
                      <p:spPr>
                        <a:xfrm flipH="1" flipV="1">
                          <a:off x="2223000" y="968760"/>
                          <a:ext cx="317520" cy="3601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3" name="Line 16"/>
                        <p:cNvSpPr/>
                        <p:nvPr/>
                      </p:nvSpPr>
                      <p:spPr>
                        <a:xfrm flipH="1" flipV="1">
                          <a:off x="-6840" y="2651040"/>
                          <a:ext cx="2408760" cy="1960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4" name="Line 17"/>
                        <p:cNvSpPr/>
                        <p:nvPr/>
                      </p:nvSpPr>
                      <p:spPr>
                        <a:xfrm flipH="1" flipV="1">
                          <a:off x="7560" y="2264040"/>
                          <a:ext cx="2402280" cy="2337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5" name="Line 18"/>
                        <p:cNvSpPr/>
                        <p:nvPr/>
                      </p:nvSpPr>
                      <p:spPr>
                        <a:xfrm flipH="1" flipV="1">
                          <a:off x="6840" y="1777680"/>
                          <a:ext cx="2412360" cy="281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6" name="Line 19"/>
                        <p:cNvSpPr/>
                        <p:nvPr/>
                      </p:nvSpPr>
                      <p:spPr>
                        <a:xfrm flipH="1" flipV="1">
                          <a:off x="22680" y="1208520"/>
                          <a:ext cx="2401920" cy="336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7" name="Line 20"/>
                        <p:cNvSpPr/>
                        <p:nvPr/>
                      </p:nvSpPr>
                      <p:spPr>
                        <a:xfrm flipH="1" flipV="1">
                          <a:off x="1091520" y="806040"/>
                          <a:ext cx="1397160" cy="37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8" name="Line 21"/>
                        <p:cNvSpPr/>
                        <p:nvPr/>
                      </p:nvSpPr>
                      <p:spPr>
                        <a:xfrm flipH="1" flipV="1">
                          <a:off x="9000" y="3013200"/>
                          <a:ext cx="2385360" cy="1615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9" name="Line 22"/>
                        <p:cNvSpPr/>
                        <p:nvPr/>
                      </p:nvSpPr>
                      <p:spPr>
                        <a:xfrm flipH="1" flipV="1">
                          <a:off x="4320" y="3324600"/>
                          <a:ext cx="2384280" cy="1319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0" name="Line 23"/>
                        <p:cNvSpPr/>
                        <p:nvPr/>
                      </p:nvSpPr>
                      <p:spPr>
                        <a:xfrm flipH="1">
                          <a:off x="651600" y="4781160"/>
                          <a:ext cx="1786320" cy="49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1" name="Line 24"/>
                        <p:cNvSpPr/>
                        <p:nvPr/>
                      </p:nvSpPr>
                      <p:spPr>
                        <a:xfrm flipH="1" flipV="1">
                          <a:off x="184680" y="4562640"/>
                          <a:ext cx="2228400" cy="177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2" name="Line 25"/>
                        <p:cNvSpPr/>
                        <p:nvPr/>
                      </p:nvSpPr>
                      <p:spPr>
                        <a:xfrm flipH="1" flipV="1">
                          <a:off x="7920" y="3858840"/>
                          <a:ext cx="2387160" cy="82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3" name="Line 26"/>
                        <p:cNvSpPr/>
                        <p:nvPr/>
                      </p:nvSpPr>
                      <p:spPr>
                        <a:xfrm flipH="1">
                          <a:off x="1537200" y="4857480"/>
                          <a:ext cx="972360" cy="1354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4" name="Line 27"/>
                        <p:cNvSpPr/>
                        <p:nvPr/>
                      </p:nvSpPr>
                      <p:spPr>
                        <a:xfrm flipH="1">
                          <a:off x="166644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5" name="Line 28"/>
                        <p:cNvSpPr/>
                        <p:nvPr/>
                      </p:nvSpPr>
                      <p:spPr>
                        <a:xfrm flipH="1">
                          <a:off x="1785600" y="4869000"/>
                          <a:ext cx="73944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6" name="Line 29"/>
                        <p:cNvSpPr/>
                        <p:nvPr/>
                      </p:nvSpPr>
                      <p:spPr>
                        <a:xfrm flipH="1">
                          <a:off x="1911960" y="4874760"/>
                          <a:ext cx="619920" cy="1649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7" name="Line 30"/>
                        <p:cNvSpPr/>
                        <p:nvPr/>
                      </p:nvSpPr>
                      <p:spPr>
                        <a:xfrm flipH="1">
                          <a:off x="2059920" y="4885200"/>
                          <a:ext cx="482760" cy="17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8" name="Line 31"/>
                        <p:cNvSpPr/>
                        <p:nvPr/>
                      </p:nvSpPr>
                      <p:spPr>
                        <a:xfrm flipH="1">
                          <a:off x="2207880" y="4889160"/>
                          <a:ext cx="342360" cy="1872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9" name="Line 32"/>
                        <p:cNvSpPr/>
                        <p:nvPr/>
                      </p:nvSpPr>
                      <p:spPr>
                        <a:xfrm flipH="1">
                          <a:off x="2571840" y="4908960"/>
                          <a:ext cx="7920" cy="1924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0" name="Line 33"/>
                        <p:cNvSpPr/>
                        <p:nvPr/>
                      </p:nvSpPr>
                      <p:spPr>
                        <a:xfrm>
                          <a:off x="2595600" y="4912200"/>
                          <a:ext cx="169920" cy="192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1" name="Line 34"/>
                        <p:cNvSpPr/>
                        <p:nvPr/>
                      </p:nvSpPr>
                      <p:spPr>
                        <a:xfrm>
                          <a:off x="2613240" y="4921920"/>
                          <a:ext cx="331560" cy="1896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2" name="Line 35"/>
                        <p:cNvSpPr/>
                        <p:nvPr/>
                      </p:nvSpPr>
                      <p:spPr>
                        <a:xfrm>
                          <a:off x="2634120" y="4922280"/>
                          <a:ext cx="51480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3" name="Line 36"/>
                        <p:cNvSpPr/>
                        <p:nvPr/>
                      </p:nvSpPr>
                      <p:spPr>
                        <a:xfrm>
                          <a:off x="2653560" y="4922640"/>
                          <a:ext cx="696240" cy="1908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4" name="Line 37"/>
                        <p:cNvSpPr/>
                        <p:nvPr/>
                      </p:nvSpPr>
                      <p:spPr>
                        <a:xfrm>
                          <a:off x="2665080" y="4921560"/>
                          <a:ext cx="895320" cy="18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5" name="Line 38"/>
                        <p:cNvSpPr/>
                        <p:nvPr/>
                      </p:nvSpPr>
                      <p:spPr>
                        <a:xfrm>
                          <a:off x="2689560" y="4928760"/>
                          <a:ext cx="1101240" cy="1891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6" name="Line 39"/>
                        <p:cNvSpPr/>
                        <p:nvPr/>
                      </p:nvSpPr>
                      <p:spPr>
                        <a:xfrm>
                          <a:off x="2706480" y="4920840"/>
                          <a:ext cx="1347120" cy="191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7" name="Line 40"/>
                        <p:cNvSpPr/>
                        <p:nvPr/>
                      </p:nvSpPr>
                      <p:spPr>
                        <a:xfrm>
                          <a:off x="2728800" y="4916520"/>
                          <a:ext cx="1622160" cy="191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8" name="Line 41"/>
                        <p:cNvSpPr/>
                        <p:nvPr/>
                      </p:nvSpPr>
                      <p:spPr>
                        <a:xfrm>
                          <a:off x="2740680" y="4901400"/>
                          <a:ext cx="1941120" cy="1920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9" name="Line 42"/>
                        <p:cNvSpPr/>
                        <p:nvPr/>
                      </p:nvSpPr>
                      <p:spPr>
                        <a:xfrm>
                          <a:off x="2746800" y="4888080"/>
                          <a:ext cx="2360160" cy="193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0" name="Line 43"/>
                        <p:cNvSpPr/>
                        <p:nvPr/>
                      </p:nvSpPr>
                      <p:spPr>
                        <a:xfrm>
                          <a:off x="2759040" y="4877640"/>
                          <a:ext cx="286092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1" name="Line 44"/>
                        <p:cNvSpPr/>
                        <p:nvPr/>
                      </p:nvSpPr>
                      <p:spPr>
                        <a:xfrm>
                          <a:off x="2764800" y="4861440"/>
                          <a:ext cx="3497040" cy="196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2" name="Line 45"/>
                        <p:cNvSpPr/>
                        <p:nvPr/>
                      </p:nvSpPr>
                      <p:spPr>
                        <a:xfrm>
                          <a:off x="2765880" y="4844520"/>
                          <a:ext cx="3955320" cy="178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3" name="Line 46"/>
                        <p:cNvSpPr/>
                        <p:nvPr/>
                      </p:nvSpPr>
                      <p:spPr>
                        <a:xfrm>
                          <a:off x="2769120" y="4826520"/>
                          <a:ext cx="3991680" cy="1395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4" name="Line 47"/>
                        <p:cNvSpPr/>
                        <p:nvPr/>
                      </p:nvSpPr>
                      <p:spPr>
                        <a:xfrm>
                          <a:off x="2759400" y="4783320"/>
                          <a:ext cx="3907440" cy="657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5" name="Line 48"/>
                        <p:cNvSpPr/>
                        <p:nvPr/>
                      </p:nvSpPr>
                      <p:spPr>
                        <a:xfrm flipV="1">
                          <a:off x="2720880" y="3834720"/>
                          <a:ext cx="3217680" cy="88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6" name="Line 49"/>
                        <p:cNvSpPr/>
                        <p:nvPr/>
                      </p:nvSpPr>
                      <p:spPr>
                        <a:xfrm flipV="1">
                          <a:off x="2707920" y="3315960"/>
                          <a:ext cx="2920680" cy="1376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7" name="未知"/>
                        <p:cNvSpPr/>
                        <p:nvPr/>
                      </p:nvSpPr>
                      <p:spPr>
                        <a:xfrm>
                          <a:off x="7200" y="4014720"/>
                          <a:ext cx="244260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08" name="Group 51"/>
                        <p:cNvGrpSpPr/>
                        <p:nvPr/>
                      </p:nvGrpSpPr>
                      <p:grpSpPr>
                        <a:xfrm>
                          <a:off x="-310320" y="1285560"/>
                          <a:ext cx="6459120" cy="6374160"/>
                          <a:chOff x="-310320" y="1285560"/>
                          <a:chExt cx="6459120" cy="6374160"/>
                        </a:xfrm>
                      </p:grpSpPr>
                      <p:sp>
                        <p:nvSpPr>
                          <p:cNvPr id="809" name="Oval 52"/>
                          <p:cNvSpPr/>
                          <p:nvPr/>
                        </p:nvSpPr>
                        <p:spPr>
                          <a:xfrm rot="18780000">
                            <a:off x="2444760" y="4509720"/>
                            <a:ext cx="255600" cy="44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0" name="Oval 53"/>
                          <p:cNvSpPr/>
                          <p:nvPr/>
                        </p:nvSpPr>
                        <p:spPr>
                          <a:xfrm rot="18780000">
                            <a:off x="2360160" y="4322520"/>
                            <a:ext cx="446040" cy="794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1" name="Oval 54"/>
                          <p:cNvSpPr/>
                          <p:nvPr/>
                        </p:nvSpPr>
                        <p:spPr>
                          <a:xfrm rot="18780000">
                            <a:off x="2239560" y="4025880"/>
                            <a:ext cx="747720" cy="1289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2" name="Oval 55"/>
                          <p:cNvSpPr/>
                          <p:nvPr/>
                        </p:nvSpPr>
                        <p:spPr>
                          <a:xfrm rot="18780000">
                            <a:off x="2147400" y="3767760"/>
                            <a:ext cx="989280" cy="1790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3" name="Oval 56"/>
                          <p:cNvSpPr/>
                          <p:nvPr/>
                        </p:nvSpPr>
                        <p:spPr>
                          <a:xfrm rot="18780000">
                            <a:off x="2045160" y="3448080"/>
                            <a:ext cx="1247760" cy="2326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4" name="Oval 57"/>
                          <p:cNvSpPr/>
                          <p:nvPr/>
                        </p:nvSpPr>
                        <p:spPr>
                          <a:xfrm rot="18780000">
                            <a:off x="1954440" y="3194280"/>
                            <a:ext cx="1542960" cy="2821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5" name="Oval 58"/>
                          <p:cNvSpPr/>
                          <p:nvPr/>
                        </p:nvSpPr>
                        <p:spPr>
                          <a:xfrm rot="18780000">
                            <a:off x="1826280" y="2918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6" name="Oval 59"/>
                          <p:cNvSpPr/>
                          <p:nvPr/>
                        </p:nvSpPr>
                        <p:spPr>
                          <a:xfrm rot="18780000">
                            <a:off x="1725120" y="2660400"/>
                            <a:ext cx="2136960" cy="3803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7" name="Oval 60"/>
                          <p:cNvSpPr/>
                          <p:nvPr/>
                        </p:nvSpPr>
                        <p:spPr>
                          <a:xfrm rot="18780000">
                            <a:off x="1576800" y="2407320"/>
                            <a:ext cx="2481120" cy="4272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8" name="Oval 61"/>
                          <p:cNvSpPr/>
                          <p:nvPr/>
                        </p:nvSpPr>
                        <p:spPr>
                          <a:xfrm rot="18780000">
                            <a:off x="1474920" y="2123280"/>
                            <a:ext cx="2716200" cy="4783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9" name="Oval 62"/>
                          <p:cNvSpPr/>
                          <p:nvPr/>
                        </p:nvSpPr>
                        <p:spPr>
                          <a:xfrm rot="18734400">
                            <a:off x="1381320" y="1853640"/>
                            <a:ext cx="2984760" cy="5305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0" name="Oval 63"/>
                          <p:cNvSpPr/>
                          <p:nvPr/>
                        </p:nvSpPr>
                        <p:spPr>
                          <a:xfrm rot="18819600">
                            <a:off x="1292760" y="1560240"/>
                            <a:ext cx="3252960" cy="5824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21" name="Line 64"/>
                        <p:cNvSpPr/>
                        <p:nvPr/>
                      </p:nvSpPr>
                      <p:spPr>
                        <a:xfrm flipV="1">
                          <a:off x="2633760" y="1817280"/>
                          <a:ext cx="132120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Line 65"/>
                        <p:cNvSpPr/>
                        <p:nvPr/>
                      </p:nvSpPr>
                      <p:spPr>
                        <a:xfrm flipV="1">
                          <a:off x="2646000" y="2169360"/>
                          <a:ext cx="1766160" cy="2464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Line 66"/>
                        <p:cNvSpPr/>
                        <p:nvPr/>
                      </p:nvSpPr>
                      <p:spPr>
                        <a:xfrm flipV="1">
                          <a:off x="2647800" y="1972440"/>
                          <a:ext cx="155376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Line 67"/>
                        <p:cNvSpPr/>
                        <p:nvPr/>
                      </p:nvSpPr>
                      <p:spPr>
                        <a:xfrm flipV="1">
                          <a:off x="2656440" y="2329560"/>
                          <a:ext cx="197604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Line 68"/>
                        <p:cNvSpPr/>
                        <p:nvPr/>
                      </p:nvSpPr>
                      <p:spPr>
                        <a:xfrm flipV="1">
                          <a:off x="2662920" y="2504880"/>
                          <a:ext cx="221472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Line 69"/>
                        <p:cNvSpPr/>
                        <p:nvPr/>
                      </p:nvSpPr>
                      <p:spPr>
                        <a:xfrm flipV="1">
                          <a:off x="2682720" y="2921400"/>
                          <a:ext cx="2536200" cy="1748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7" name="Line 70"/>
                        <p:cNvSpPr/>
                        <p:nvPr/>
                      </p:nvSpPr>
                      <p:spPr>
                        <a:xfrm flipV="1">
                          <a:off x="2696040" y="3132000"/>
                          <a:ext cx="2706480" cy="1548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8" name="Line 71"/>
                        <p:cNvSpPr/>
                        <p:nvPr/>
                      </p:nvSpPr>
                      <p:spPr>
                        <a:xfrm flipV="1">
                          <a:off x="2716560" y="3593160"/>
                          <a:ext cx="3029760" cy="1115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9" name="Line 72"/>
                        <p:cNvSpPr/>
                        <p:nvPr/>
                      </p:nvSpPr>
                      <p:spPr>
                        <a:xfrm flipV="1">
                          <a:off x="2729520" y="4080240"/>
                          <a:ext cx="3371400" cy="646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0" name="Line 73"/>
                        <p:cNvSpPr/>
                        <p:nvPr/>
                      </p:nvSpPr>
                      <p:spPr>
                        <a:xfrm flipV="1">
                          <a:off x="2734200" y="4413600"/>
                          <a:ext cx="3545280" cy="31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1" name="Line 74"/>
                        <p:cNvSpPr/>
                        <p:nvPr/>
                      </p:nvSpPr>
                      <p:spPr>
                        <a:xfrm flipV="1">
                          <a:off x="2732400" y="4739760"/>
                          <a:ext cx="3701880" cy="3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2" name="Line 75"/>
                        <p:cNvSpPr/>
                        <p:nvPr/>
                      </p:nvSpPr>
                      <p:spPr>
                        <a:xfrm>
                          <a:off x="2748960" y="4761720"/>
                          <a:ext cx="3826800" cy="315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3" name="Line 76"/>
                        <p:cNvSpPr/>
                        <p:nvPr/>
                      </p:nvSpPr>
                      <p:spPr>
                        <a:xfrm>
                          <a:off x="2767320" y="4806000"/>
                          <a:ext cx="3986640" cy="1014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4" name="Line 77"/>
                        <p:cNvSpPr/>
                        <p:nvPr/>
                      </p:nvSpPr>
                      <p:spPr>
                        <a:xfrm flipH="1">
                          <a:off x="2392200" y="4899600"/>
                          <a:ext cx="175320" cy="1919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Line 78"/>
                        <p:cNvSpPr/>
                        <p:nvPr/>
                      </p:nvSpPr>
                      <p:spPr>
                        <a:xfrm flipH="1">
                          <a:off x="142848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6" name="Line 79"/>
                        <p:cNvSpPr/>
                        <p:nvPr/>
                      </p:nvSpPr>
                      <p:spPr>
                        <a:xfrm flipH="1">
                          <a:off x="1317240" y="4833720"/>
                          <a:ext cx="1163160" cy="1161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7" name="Line 80"/>
                        <p:cNvSpPr/>
                        <p:nvPr/>
                      </p:nvSpPr>
                      <p:spPr>
                        <a:xfrm flipH="1">
                          <a:off x="1199520" y="4825800"/>
                          <a:ext cx="1274760" cy="106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8" name="Line 81"/>
                        <p:cNvSpPr/>
                        <p:nvPr/>
                      </p:nvSpPr>
                      <p:spPr>
                        <a:xfrm flipH="1">
                          <a:off x="109620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9" name="Line 82"/>
                        <p:cNvSpPr/>
                        <p:nvPr/>
                      </p:nvSpPr>
                      <p:spPr>
                        <a:xfrm flipH="1">
                          <a:off x="990360" y="4807800"/>
                          <a:ext cx="1463400" cy="85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0" name="Line 83"/>
                        <p:cNvSpPr/>
                        <p:nvPr/>
                      </p:nvSpPr>
                      <p:spPr>
                        <a:xfrm flipH="1">
                          <a:off x="878400" y="4798080"/>
                          <a:ext cx="1575360" cy="741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1" name="Line 84"/>
                        <p:cNvSpPr/>
                        <p:nvPr/>
                      </p:nvSpPr>
                      <p:spPr>
                        <a:xfrm flipH="1">
                          <a:off x="763920" y="4788360"/>
                          <a:ext cx="1680840" cy="621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2" name="Line 85"/>
                        <p:cNvSpPr/>
                        <p:nvPr/>
                      </p:nvSpPr>
                      <p:spPr>
                        <a:xfrm flipH="1">
                          <a:off x="547920" y="4769640"/>
                          <a:ext cx="1884240" cy="349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3" name="Line 86"/>
                        <p:cNvSpPr/>
                        <p:nvPr/>
                      </p:nvSpPr>
                      <p:spPr>
                        <a:xfrm flipH="1">
                          <a:off x="425160" y="4759920"/>
                          <a:ext cx="2000160" cy="18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4" name="Line 87"/>
                        <p:cNvSpPr/>
                        <p:nvPr/>
                      </p:nvSpPr>
                      <p:spPr>
                        <a:xfrm flipH="1">
                          <a:off x="299160" y="4746960"/>
                          <a:ext cx="2117880" cy="18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440" bIns="-28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5" name="Line 88"/>
                        <p:cNvSpPr/>
                        <p:nvPr/>
                      </p:nvSpPr>
                      <p:spPr>
                        <a:xfrm flipH="1" flipV="1">
                          <a:off x="47520" y="4335120"/>
                          <a:ext cx="2359800" cy="38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6" name="Line 89"/>
                        <p:cNvSpPr/>
                        <p:nvPr/>
                      </p:nvSpPr>
                      <p:spPr>
                        <a:xfrm flipH="1" flipV="1">
                          <a:off x="7200" y="4100760"/>
                          <a:ext cx="2393280" cy="604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7" name="Line 90"/>
                        <p:cNvSpPr/>
                        <p:nvPr/>
                      </p:nvSpPr>
                      <p:spPr>
                        <a:xfrm flipH="1" flipV="1">
                          <a:off x="5760" y="3597120"/>
                          <a:ext cx="2385360" cy="1074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8" name="Line 91"/>
                        <p:cNvSpPr/>
                        <p:nvPr/>
                      </p:nvSpPr>
                      <p:spPr>
                        <a:xfrm flipH="1" flipV="1">
                          <a:off x="344880" y="1009440"/>
                          <a:ext cx="2093040" cy="3562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9" name="Line 92"/>
                        <p:cNvSpPr/>
                        <p:nvPr/>
                      </p:nvSpPr>
                      <p:spPr>
                        <a:xfrm flipH="1" flipV="1">
                          <a:off x="704520" y="869040"/>
                          <a:ext cx="1753920" cy="3701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0" name="Line 93"/>
                        <p:cNvSpPr/>
                        <p:nvPr/>
                      </p:nvSpPr>
                      <p:spPr>
                        <a:xfrm flipH="1" flipV="1">
                          <a:off x="1487520" y="824040"/>
                          <a:ext cx="1016640" cy="3739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1" name="Line 94"/>
                        <p:cNvSpPr/>
                        <p:nvPr/>
                      </p:nvSpPr>
                      <p:spPr>
                        <a:xfrm flipH="1" flipV="1">
                          <a:off x="1838520" y="875880"/>
                          <a:ext cx="684360" cy="369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2" name="Line 95"/>
                        <p:cNvSpPr/>
                        <p:nvPr/>
                      </p:nvSpPr>
                      <p:spPr>
                        <a:xfrm flipV="1">
                          <a:off x="2556000" y="1079640"/>
                          <a:ext cx="5400" cy="3493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3" name="Line 96"/>
                        <p:cNvSpPr/>
                        <p:nvPr/>
                      </p:nvSpPr>
                      <p:spPr>
                        <a:xfrm flipV="1">
                          <a:off x="2576160" y="1204200"/>
                          <a:ext cx="305640" cy="337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4" name="Line 97"/>
                        <p:cNvSpPr/>
                        <p:nvPr/>
                      </p:nvSpPr>
                      <p:spPr>
                        <a:xfrm flipV="1">
                          <a:off x="2591280" y="1347480"/>
                          <a:ext cx="583560" cy="324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5" name="Line 98"/>
                        <p:cNvSpPr/>
                        <p:nvPr/>
                      </p:nvSpPr>
                      <p:spPr>
                        <a:xfrm flipV="1">
                          <a:off x="2601360" y="1497960"/>
                          <a:ext cx="846360" cy="310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6" name="Line 99"/>
                        <p:cNvSpPr/>
                        <p:nvPr/>
                      </p:nvSpPr>
                      <p:spPr>
                        <a:xfrm flipV="1">
                          <a:off x="261540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857" name="Group 100"/>
              <p:cNvGrpSpPr/>
              <p:nvPr/>
            </p:nvGrpSpPr>
            <p:grpSpPr>
              <a:xfrm>
                <a:off x="10440" y="2714760"/>
                <a:ext cx="5014440" cy="4113000"/>
                <a:chOff x="10440" y="2714760"/>
                <a:chExt cx="5014440" cy="4113000"/>
              </a:xfrm>
            </p:grpSpPr>
            <p:sp>
              <p:nvSpPr>
                <p:cNvPr id="858" name="Line 101"/>
                <p:cNvSpPr/>
                <p:nvPr/>
              </p:nvSpPr>
              <p:spPr>
                <a:xfrm flipV="1">
                  <a:off x="2675160" y="2714760"/>
                  <a:ext cx="2349720" cy="194796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02"/>
                <p:cNvSpPr/>
                <p:nvPr/>
              </p:nvSpPr>
              <p:spPr>
                <a:xfrm flipH="1" flipV="1">
                  <a:off x="1387080" y="6087960"/>
                  <a:ext cx="35352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860" name="Group 103"/>
                <p:cNvGrpSpPr/>
                <p:nvPr/>
              </p:nvGrpSpPr>
              <p:grpSpPr>
                <a:xfrm>
                  <a:off x="10440" y="4316040"/>
                  <a:ext cx="2088000" cy="2511720"/>
                  <a:chOff x="10440" y="4316040"/>
                  <a:chExt cx="2088000" cy="2511720"/>
                </a:xfrm>
              </p:grpSpPr>
              <p:sp>
                <p:nvSpPr>
                  <p:cNvPr id="861" name="Line 104"/>
                  <p:cNvSpPr/>
                  <p:nvPr/>
                </p:nvSpPr>
                <p:spPr>
                  <a:xfrm flipH="1">
                    <a:off x="1112400" y="6089760"/>
                    <a:ext cx="274320" cy="2966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未知"/>
                  <p:cNvSpPr/>
                  <p:nvPr/>
                </p:nvSpPr>
                <p:spPr>
                  <a:xfrm>
                    <a:off x="10440" y="5078520"/>
                    <a:ext cx="1595160" cy="174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106"/>
                  <p:cNvSpPr/>
                  <p:nvPr/>
                </p:nvSpPr>
                <p:spPr>
                  <a:xfrm flipH="1">
                    <a:off x="1976400" y="6686640"/>
                    <a:ext cx="12204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107"/>
                  <p:cNvSpPr/>
                  <p:nvPr/>
                </p:nvSpPr>
                <p:spPr>
                  <a:xfrm flipH="1" flipV="1">
                    <a:off x="549360" y="5792760"/>
                    <a:ext cx="84024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108"/>
                  <p:cNvSpPr/>
                  <p:nvPr/>
                </p:nvSpPr>
                <p:spPr>
                  <a:xfrm flipH="1" flipV="1">
                    <a:off x="38592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Line 109"/>
                  <p:cNvSpPr/>
                  <p:nvPr/>
                </p:nvSpPr>
                <p:spPr>
                  <a:xfrm flipH="1" flipV="1">
                    <a:off x="10440" y="4746600"/>
                    <a:ext cx="37224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Line 110"/>
                  <p:cNvSpPr/>
                  <p:nvPr/>
                </p:nvSpPr>
                <p:spPr>
                  <a:xfrm flipV="1">
                    <a:off x="9252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Line 111"/>
                  <p:cNvSpPr/>
                  <p:nvPr/>
                </p:nvSpPr>
                <p:spPr>
                  <a:xfrm flipH="1">
                    <a:off x="54288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Line 112"/>
                  <p:cNvSpPr/>
                  <p:nvPr/>
                </p:nvSpPr>
                <p:spPr>
                  <a:xfrm flipV="1">
                    <a:off x="1152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70" name="Group 113"/>
            <p:cNvGrpSpPr/>
            <p:nvPr/>
          </p:nvGrpSpPr>
          <p:grpSpPr>
            <a:xfrm>
              <a:off x="7200" y="2141640"/>
              <a:ext cx="5216040" cy="4679280"/>
              <a:chOff x="7200" y="2141640"/>
              <a:chExt cx="5216040" cy="4679280"/>
            </a:xfrm>
          </p:grpSpPr>
          <p:sp>
            <p:nvSpPr>
              <p:cNvPr id="871" name="未知"/>
              <p:cNvSpPr/>
              <p:nvPr/>
            </p:nvSpPr>
            <p:spPr>
              <a:xfrm>
                <a:off x="7200" y="4252680"/>
                <a:ext cx="2283840" cy="256824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72" name="未知"/>
              <p:cNvSpPr/>
              <p:nvPr/>
            </p:nvSpPr>
            <p:spPr>
              <a:xfrm>
                <a:off x="7200" y="3624120"/>
                <a:ext cx="2650320" cy="319680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73" name="Rectangle 116"/>
              <p:cNvSpPr/>
              <p:nvPr/>
            </p:nvSpPr>
            <p:spPr>
              <a:xfrm rot="19111200">
                <a:off x="3134880" y="3082320"/>
                <a:ext cx="21456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74" name="Rectangle 117"/>
              <p:cNvSpPr/>
              <p:nvPr/>
            </p:nvSpPr>
            <p:spPr>
              <a:xfrm rot="16512000">
                <a:off x="3088800" y="4177440"/>
                <a:ext cx="35190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75" name="Rectangle 118"/>
              <p:cNvSpPr/>
              <p:nvPr/>
            </p:nvSpPr>
            <p:spPr>
              <a:xfrm rot="18182400">
                <a:off x="1585440" y="4303800"/>
                <a:ext cx="425088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76" name="Rectangle 119"/>
              <p:cNvSpPr/>
              <p:nvPr/>
            </p:nvSpPr>
            <p:spPr>
              <a:xfrm rot="20763600">
                <a:off x="1072440" y="2810880"/>
                <a:ext cx="37908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877" name="Group 120"/>
              <p:cNvGrpSpPr/>
              <p:nvPr/>
            </p:nvGrpSpPr>
            <p:grpSpPr>
              <a:xfrm>
                <a:off x="4728240" y="2141640"/>
                <a:ext cx="495000" cy="493200"/>
                <a:chOff x="4728240" y="2141640"/>
                <a:chExt cx="495000" cy="493200"/>
              </a:xfrm>
            </p:grpSpPr>
            <p:sp>
              <p:nvSpPr>
                <p:cNvPr id="878" name="Oval 121"/>
                <p:cNvSpPr/>
                <p:nvPr/>
              </p:nvSpPr>
              <p:spPr>
                <a:xfrm rot="2828400">
                  <a:off x="4743720" y="2365920"/>
                  <a:ext cx="318240" cy="18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79" name="未知"/>
                <p:cNvSpPr/>
                <p:nvPr/>
              </p:nvSpPr>
              <p:spPr>
                <a:xfrm>
                  <a:off x="4843800" y="2264760"/>
                  <a:ext cx="254160" cy="2494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0" name="未知"/>
                <p:cNvSpPr/>
                <p:nvPr/>
              </p:nvSpPr>
              <p:spPr>
                <a:xfrm>
                  <a:off x="4926960" y="2255400"/>
                  <a:ext cx="182520" cy="1760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1" name="未知"/>
                <p:cNvSpPr/>
                <p:nvPr/>
              </p:nvSpPr>
              <p:spPr>
                <a:xfrm>
                  <a:off x="4991760" y="2149560"/>
                  <a:ext cx="227160" cy="2246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2" name="未知"/>
                <p:cNvSpPr/>
                <p:nvPr/>
              </p:nvSpPr>
              <p:spPr>
                <a:xfrm>
                  <a:off x="5135040" y="2141640"/>
                  <a:ext cx="88200" cy="8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98F9-358D-479D-AAB4-280A923ACD63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7EBD-06E2-4D98-BA6B-B5F71268BA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84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A93D-1271-4B83-A655-B8BE2CBF77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-222120" y="666720"/>
            <a:ext cx="8681400" cy="6191280"/>
            <a:chOff x="-222120" y="666720"/>
            <a:chExt cx="8681400" cy="6191280"/>
          </a:xfrm>
        </p:grpSpPr>
        <p:sp>
          <p:nvSpPr>
            <p:cNvPr id="130" name="Rectangle 3"/>
            <p:cNvSpPr/>
            <p:nvPr/>
          </p:nvSpPr>
          <p:spPr>
            <a:xfrm>
              <a:off x="691560" y="666720"/>
              <a:ext cx="776772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31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34720" y="3733920"/>
              <a:ext cx="124812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2120" y="4916520"/>
              <a:ext cx="378000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EB0B-EAF4-4AD5-B8BF-974E2022B0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5" name="Picture 3" descr="框a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" descr="框a2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5" descr="框a3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6" descr="框a4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4862-A1A4-4818-A85C-D44857F488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21" name="Rectangle 3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2" name="Oval 4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Rectangle 32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1" name="Rectangle 33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2" name="AutoShape 34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14D9-8780-46A3-A5E5-B829D07FF48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-286560" y="762120"/>
            <a:ext cx="7080480" cy="6861240"/>
            <a:chOff x="-286560" y="762120"/>
            <a:chExt cx="7080480" cy="6861240"/>
          </a:xfrm>
        </p:grpSpPr>
        <p:grpSp>
          <p:nvGrpSpPr>
            <p:cNvPr id="297" name="Group 3"/>
            <p:cNvGrpSpPr/>
            <p:nvPr/>
          </p:nvGrpSpPr>
          <p:grpSpPr>
            <a:xfrm>
              <a:off x="-286560" y="762120"/>
              <a:ext cx="7080480" cy="6861240"/>
              <a:chOff x="-286560" y="762120"/>
              <a:chExt cx="7080480" cy="6861240"/>
            </a:xfrm>
          </p:grpSpPr>
          <p:grpSp>
            <p:nvGrpSpPr>
              <p:cNvPr id="298" name="Group 4"/>
              <p:cNvGrpSpPr/>
              <p:nvPr/>
            </p:nvGrpSpPr>
            <p:grpSpPr>
              <a:xfrm>
                <a:off x="-286560" y="762120"/>
                <a:ext cx="7080480" cy="6861240"/>
                <a:chOff x="-286560" y="762120"/>
                <a:chExt cx="7080480" cy="6861240"/>
              </a:xfrm>
            </p:grpSpPr>
            <p:sp>
              <p:nvSpPr>
                <p:cNvPr id="299" name="未知"/>
                <p:cNvSpPr/>
                <p:nvPr/>
              </p:nvSpPr>
              <p:spPr>
                <a:xfrm>
                  <a:off x="392400" y="1903680"/>
                  <a:ext cx="5207040" cy="488124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Group 6"/>
                <p:cNvGrpSpPr/>
                <p:nvPr/>
              </p:nvGrpSpPr>
              <p:grpSpPr>
                <a:xfrm>
                  <a:off x="-286560" y="762120"/>
                  <a:ext cx="7080480" cy="6861240"/>
                  <a:chOff x="-286560" y="762120"/>
                  <a:chExt cx="7080480" cy="6861240"/>
                </a:xfrm>
              </p:grpSpPr>
              <p:sp>
                <p:nvSpPr>
                  <p:cNvPr id="301" name="未知"/>
                  <p:cNvSpPr/>
                  <p:nvPr/>
                </p:nvSpPr>
                <p:spPr>
                  <a:xfrm>
                    <a:off x="30960" y="1227240"/>
                    <a:ext cx="628380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未知"/>
                  <p:cNvSpPr/>
                  <p:nvPr/>
                </p:nvSpPr>
                <p:spPr>
                  <a:xfrm>
                    <a:off x="40320" y="1446480"/>
                    <a:ext cx="6028920" cy="533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未知"/>
                  <p:cNvSpPr/>
                  <p:nvPr/>
                </p:nvSpPr>
                <p:spPr>
                  <a:xfrm>
                    <a:off x="212040" y="1665360"/>
                    <a:ext cx="561132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" name="Group 10"/>
                  <p:cNvGrpSpPr/>
                  <p:nvPr/>
                </p:nvGrpSpPr>
                <p:grpSpPr>
                  <a:xfrm>
                    <a:off x="-286560" y="762120"/>
                    <a:ext cx="7080480" cy="6861240"/>
                    <a:chOff x="-286560" y="762120"/>
                    <a:chExt cx="7080480" cy="6861240"/>
                  </a:xfrm>
                </p:grpSpPr>
                <p:sp>
                  <p:nvSpPr>
                    <p:cNvPr id="305" name="未知"/>
                    <p:cNvSpPr/>
                    <p:nvPr/>
                  </p:nvSpPr>
                  <p:spPr>
                    <a:xfrm>
                      <a:off x="30960" y="762120"/>
                      <a:ext cx="676296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6" name="Group 12"/>
                    <p:cNvGrpSpPr/>
                    <p:nvPr/>
                  </p:nvGrpSpPr>
                  <p:grpSpPr>
                    <a:xfrm>
                      <a:off x="-286560" y="769680"/>
                      <a:ext cx="7071120" cy="6853680"/>
                      <a:chOff x="-286560" y="769680"/>
                      <a:chExt cx="7071120" cy="6853680"/>
                    </a:xfrm>
                  </p:grpSpPr>
                  <p:sp>
                    <p:nvSpPr>
                      <p:cNvPr id="307" name="未知"/>
                      <p:cNvSpPr/>
                      <p:nvPr/>
                    </p:nvSpPr>
                    <p:spPr>
                      <a:xfrm>
                        <a:off x="30960" y="979560"/>
                        <a:ext cx="653328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08" name="Group 14"/>
                      <p:cNvGrpSpPr/>
                      <p:nvPr/>
                    </p:nvGrpSpPr>
                    <p:grpSpPr>
                      <a:xfrm>
                        <a:off x="-286560" y="769680"/>
                        <a:ext cx="7071120" cy="6853680"/>
                        <a:chOff x="-286560" y="769680"/>
                        <a:chExt cx="7071120" cy="6853680"/>
                      </a:xfrm>
                    </p:grpSpPr>
                    <p:sp>
                      <p:nvSpPr>
                        <p:cNvPr id="309" name="Line 15"/>
                        <p:cNvSpPr/>
                        <p:nvPr/>
                      </p:nvSpPr>
                      <p:spPr>
                        <a:xfrm flipH="1" flipV="1">
                          <a:off x="2246760" y="932400"/>
                          <a:ext cx="317520" cy="3601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Line 16"/>
                        <p:cNvSpPr/>
                        <p:nvPr/>
                      </p:nvSpPr>
                      <p:spPr>
                        <a:xfrm flipH="1" flipV="1">
                          <a:off x="16920" y="2614680"/>
                          <a:ext cx="2408760" cy="1960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Line 17"/>
                        <p:cNvSpPr/>
                        <p:nvPr/>
                      </p:nvSpPr>
                      <p:spPr>
                        <a:xfrm flipH="1" flipV="1">
                          <a:off x="31320" y="2227680"/>
                          <a:ext cx="2402280" cy="2337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18"/>
                        <p:cNvSpPr/>
                        <p:nvPr/>
                      </p:nvSpPr>
                      <p:spPr>
                        <a:xfrm flipH="1" flipV="1">
                          <a:off x="30600" y="1741320"/>
                          <a:ext cx="2412360" cy="281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Line 19"/>
                        <p:cNvSpPr/>
                        <p:nvPr/>
                      </p:nvSpPr>
                      <p:spPr>
                        <a:xfrm flipH="1" flipV="1">
                          <a:off x="46440" y="1172160"/>
                          <a:ext cx="2401920" cy="336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" name="Line 20"/>
                        <p:cNvSpPr/>
                        <p:nvPr/>
                      </p:nvSpPr>
                      <p:spPr>
                        <a:xfrm flipH="1" flipV="1">
                          <a:off x="1115280" y="769680"/>
                          <a:ext cx="1397160" cy="37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" name="Line 21"/>
                        <p:cNvSpPr/>
                        <p:nvPr/>
                      </p:nvSpPr>
                      <p:spPr>
                        <a:xfrm flipH="1" flipV="1">
                          <a:off x="32760" y="2976840"/>
                          <a:ext cx="2385360" cy="1615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6" name="Line 22"/>
                        <p:cNvSpPr/>
                        <p:nvPr/>
                      </p:nvSpPr>
                      <p:spPr>
                        <a:xfrm flipH="1" flipV="1">
                          <a:off x="28080" y="3288240"/>
                          <a:ext cx="2384280" cy="1319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" name="Line 23"/>
                        <p:cNvSpPr/>
                        <p:nvPr/>
                      </p:nvSpPr>
                      <p:spPr>
                        <a:xfrm flipH="1">
                          <a:off x="675360" y="4744800"/>
                          <a:ext cx="1786320" cy="49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Line 24"/>
                        <p:cNvSpPr/>
                        <p:nvPr/>
                      </p:nvSpPr>
                      <p:spPr>
                        <a:xfrm flipH="1" flipV="1">
                          <a:off x="208440" y="4526280"/>
                          <a:ext cx="2228400" cy="177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9" name="Line 25"/>
                        <p:cNvSpPr/>
                        <p:nvPr/>
                      </p:nvSpPr>
                      <p:spPr>
                        <a:xfrm flipH="1" flipV="1">
                          <a:off x="31680" y="3822480"/>
                          <a:ext cx="2387160" cy="82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" name="Line 26"/>
                        <p:cNvSpPr/>
                        <p:nvPr/>
                      </p:nvSpPr>
                      <p:spPr>
                        <a:xfrm flipH="1">
                          <a:off x="1560960" y="4821120"/>
                          <a:ext cx="972360" cy="1354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1" name="Line 27"/>
                        <p:cNvSpPr/>
                        <p:nvPr/>
                      </p:nvSpPr>
                      <p:spPr>
                        <a:xfrm flipH="1">
                          <a:off x="169020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2" name="Line 28"/>
                        <p:cNvSpPr/>
                        <p:nvPr/>
                      </p:nvSpPr>
                      <p:spPr>
                        <a:xfrm flipH="1">
                          <a:off x="1809360" y="4832640"/>
                          <a:ext cx="73944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Line 29"/>
                        <p:cNvSpPr/>
                        <p:nvPr/>
                      </p:nvSpPr>
                      <p:spPr>
                        <a:xfrm flipH="1">
                          <a:off x="1935720" y="4838400"/>
                          <a:ext cx="619920" cy="1649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Line 30"/>
                        <p:cNvSpPr/>
                        <p:nvPr/>
                      </p:nvSpPr>
                      <p:spPr>
                        <a:xfrm flipH="1">
                          <a:off x="2083680" y="4848840"/>
                          <a:ext cx="482760" cy="17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Line 31"/>
                        <p:cNvSpPr/>
                        <p:nvPr/>
                      </p:nvSpPr>
                      <p:spPr>
                        <a:xfrm flipH="1">
                          <a:off x="2231640" y="4852800"/>
                          <a:ext cx="342360" cy="1872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Line 32"/>
                        <p:cNvSpPr/>
                        <p:nvPr/>
                      </p:nvSpPr>
                      <p:spPr>
                        <a:xfrm flipH="1">
                          <a:off x="2595600" y="4872600"/>
                          <a:ext cx="7920" cy="1924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Line 33"/>
                        <p:cNvSpPr/>
                        <p:nvPr/>
                      </p:nvSpPr>
                      <p:spPr>
                        <a:xfrm>
                          <a:off x="2619360" y="4875840"/>
                          <a:ext cx="169920" cy="192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Line 34"/>
                        <p:cNvSpPr/>
                        <p:nvPr/>
                      </p:nvSpPr>
                      <p:spPr>
                        <a:xfrm>
                          <a:off x="2637000" y="4885560"/>
                          <a:ext cx="331560" cy="1896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Line 35"/>
                        <p:cNvSpPr/>
                        <p:nvPr/>
                      </p:nvSpPr>
                      <p:spPr>
                        <a:xfrm>
                          <a:off x="2657880" y="4885920"/>
                          <a:ext cx="51480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Line 36"/>
                        <p:cNvSpPr/>
                        <p:nvPr/>
                      </p:nvSpPr>
                      <p:spPr>
                        <a:xfrm>
                          <a:off x="2677320" y="4886280"/>
                          <a:ext cx="696240" cy="1908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Line 37"/>
                        <p:cNvSpPr/>
                        <p:nvPr/>
                      </p:nvSpPr>
                      <p:spPr>
                        <a:xfrm>
                          <a:off x="2688840" y="4885200"/>
                          <a:ext cx="895320" cy="18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Line 38"/>
                        <p:cNvSpPr/>
                        <p:nvPr/>
                      </p:nvSpPr>
                      <p:spPr>
                        <a:xfrm>
                          <a:off x="2713320" y="4892400"/>
                          <a:ext cx="1101240" cy="1891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Line 39"/>
                        <p:cNvSpPr/>
                        <p:nvPr/>
                      </p:nvSpPr>
                      <p:spPr>
                        <a:xfrm>
                          <a:off x="2730240" y="4884480"/>
                          <a:ext cx="1347120" cy="191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Line 40"/>
                        <p:cNvSpPr/>
                        <p:nvPr/>
                      </p:nvSpPr>
                      <p:spPr>
                        <a:xfrm>
                          <a:off x="2752560" y="4880160"/>
                          <a:ext cx="1622160" cy="191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Line 41"/>
                        <p:cNvSpPr/>
                        <p:nvPr/>
                      </p:nvSpPr>
                      <p:spPr>
                        <a:xfrm>
                          <a:off x="2764440" y="4865040"/>
                          <a:ext cx="1941120" cy="1920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Line 42"/>
                        <p:cNvSpPr/>
                        <p:nvPr/>
                      </p:nvSpPr>
                      <p:spPr>
                        <a:xfrm>
                          <a:off x="2770560" y="4851720"/>
                          <a:ext cx="2360160" cy="193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Line 43"/>
                        <p:cNvSpPr/>
                        <p:nvPr/>
                      </p:nvSpPr>
                      <p:spPr>
                        <a:xfrm>
                          <a:off x="2782800" y="4841280"/>
                          <a:ext cx="286092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Line 44"/>
                        <p:cNvSpPr/>
                        <p:nvPr/>
                      </p:nvSpPr>
                      <p:spPr>
                        <a:xfrm>
                          <a:off x="2788560" y="4825080"/>
                          <a:ext cx="3497040" cy="196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Line 45"/>
                        <p:cNvSpPr/>
                        <p:nvPr/>
                      </p:nvSpPr>
                      <p:spPr>
                        <a:xfrm>
                          <a:off x="2789640" y="4808160"/>
                          <a:ext cx="3955320" cy="178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Line 46"/>
                        <p:cNvSpPr/>
                        <p:nvPr/>
                      </p:nvSpPr>
                      <p:spPr>
                        <a:xfrm>
                          <a:off x="2792880" y="4790160"/>
                          <a:ext cx="3991680" cy="1395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Line 47"/>
                        <p:cNvSpPr/>
                        <p:nvPr/>
                      </p:nvSpPr>
                      <p:spPr>
                        <a:xfrm>
                          <a:off x="2783160" y="4746960"/>
                          <a:ext cx="3907440" cy="657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Line 48"/>
                        <p:cNvSpPr/>
                        <p:nvPr/>
                      </p:nvSpPr>
                      <p:spPr>
                        <a:xfrm flipV="1">
                          <a:off x="2744640" y="3798360"/>
                          <a:ext cx="3217680" cy="88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Line 49"/>
                        <p:cNvSpPr/>
                        <p:nvPr/>
                      </p:nvSpPr>
                      <p:spPr>
                        <a:xfrm flipV="1">
                          <a:off x="2731680" y="3279600"/>
                          <a:ext cx="2920680" cy="1376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未知"/>
                        <p:cNvSpPr/>
                        <p:nvPr/>
                      </p:nvSpPr>
                      <p:spPr>
                        <a:xfrm>
                          <a:off x="30960" y="3978360"/>
                          <a:ext cx="244260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45" name="Group 51"/>
                        <p:cNvGrpSpPr/>
                        <p:nvPr/>
                      </p:nvGrpSpPr>
                      <p:grpSpPr>
                        <a:xfrm>
                          <a:off x="-286560" y="1249200"/>
                          <a:ext cx="6459120" cy="6374160"/>
                          <a:chOff x="-286560" y="1249200"/>
                          <a:chExt cx="6459120" cy="6374160"/>
                        </a:xfrm>
                      </p:grpSpPr>
                      <p:sp>
                        <p:nvSpPr>
                          <p:cNvPr id="346" name="Oval 52"/>
                          <p:cNvSpPr/>
                          <p:nvPr/>
                        </p:nvSpPr>
                        <p:spPr>
                          <a:xfrm rot="18780000">
                            <a:off x="2468520" y="4473360"/>
                            <a:ext cx="255600" cy="44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Oval 53"/>
                          <p:cNvSpPr/>
                          <p:nvPr/>
                        </p:nvSpPr>
                        <p:spPr>
                          <a:xfrm rot="18780000">
                            <a:off x="2383920" y="4286160"/>
                            <a:ext cx="446040" cy="794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8" name="Oval 54"/>
                          <p:cNvSpPr/>
                          <p:nvPr/>
                        </p:nvSpPr>
                        <p:spPr>
                          <a:xfrm rot="18780000">
                            <a:off x="2263320" y="3989520"/>
                            <a:ext cx="747720" cy="1289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Oval 55"/>
                          <p:cNvSpPr/>
                          <p:nvPr/>
                        </p:nvSpPr>
                        <p:spPr>
                          <a:xfrm rot="18780000">
                            <a:off x="2171160" y="3731400"/>
                            <a:ext cx="989280" cy="1790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0" name="Oval 56"/>
                          <p:cNvSpPr/>
                          <p:nvPr/>
                        </p:nvSpPr>
                        <p:spPr>
                          <a:xfrm rot="18780000">
                            <a:off x="2068920" y="3411720"/>
                            <a:ext cx="1247760" cy="2326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1" name="Oval 57"/>
                          <p:cNvSpPr/>
                          <p:nvPr/>
                        </p:nvSpPr>
                        <p:spPr>
                          <a:xfrm rot="18780000">
                            <a:off x="1978200" y="3157920"/>
                            <a:ext cx="1542960" cy="2821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2" name="Oval 58"/>
                          <p:cNvSpPr/>
                          <p:nvPr/>
                        </p:nvSpPr>
                        <p:spPr>
                          <a:xfrm rot="18780000">
                            <a:off x="1850040" y="288216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3" name="Oval 59"/>
                          <p:cNvSpPr/>
                          <p:nvPr/>
                        </p:nvSpPr>
                        <p:spPr>
                          <a:xfrm rot="18780000">
                            <a:off x="1748880" y="2624040"/>
                            <a:ext cx="2136960" cy="3803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Oval 60"/>
                          <p:cNvSpPr/>
                          <p:nvPr/>
                        </p:nvSpPr>
                        <p:spPr>
                          <a:xfrm rot="18780000">
                            <a:off x="1600560" y="2370960"/>
                            <a:ext cx="2481120" cy="4272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5" name="Oval 61"/>
                          <p:cNvSpPr/>
                          <p:nvPr/>
                        </p:nvSpPr>
                        <p:spPr>
                          <a:xfrm rot="18780000">
                            <a:off x="1498680" y="2086920"/>
                            <a:ext cx="2716200" cy="4783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6" name="Oval 62"/>
                          <p:cNvSpPr/>
                          <p:nvPr/>
                        </p:nvSpPr>
                        <p:spPr>
                          <a:xfrm rot="18734400">
                            <a:off x="1405080" y="1817280"/>
                            <a:ext cx="2984760" cy="5305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7" name="Oval 63"/>
                          <p:cNvSpPr/>
                          <p:nvPr/>
                        </p:nvSpPr>
                        <p:spPr>
                          <a:xfrm rot="18819600">
                            <a:off x="1316520" y="1523880"/>
                            <a:ext cx="3252960" cy="5824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8" name="Line 64"/>
                        <p:cNvSpPr/>
                        <p:nvPr/>
                      </p:nvSpPr>
                      <p:spPr>
                        <a:xfrm flipV="1">
                          <a:off x="2657520" y="1780920"/>
                          <a:ext cx="132120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Line 65"/>
                        <p:cNvSpPr/>
                        <p:nvPr/>
                      </p:nvSpPr>
                      <p:spPr>
                        <a:xfrm flipV="1">
                          <a:off x="2669760" y="2133000"/>
                          <a:ext cx="1766160" cy="2464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Line 66"/>
                        <p:cNvSpPr/>
                        <p:nvPr/>
                      </p:nvSpPr>
                      <p:spPr>
                        <a:xfrm flipV="1">
                          <a:off x="2671560" y="1936080"/>
                          <a:ext cx="155376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Line 67"/>
                        <p:cNvSpPr/>
                        <p:nvPr/>
                      </p:nvSpPr>
                      <p:spPr>
                        <a:xfrm flipV="1">
                          <a:off x="2680200" y="2293200"/>
                          <a:ext cx="197604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2" name="Line 68"/>
                        <p:cNvSpPr/>
                        <p:nvPr/>
                      </p:nvSpPr>
                      <p:spPr>
                        <a:xfrm flipV="1">
                          <a:off x="2686680" y="2468520"/>
                          <a:ext cx="221472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3" name="Line 69"/>
                        <p:cNvSpPr/>
                        <p:nvPr/>
                      </p:nvSpPr>
                      <p:spPr>
                        <a:xfrm flipV="1">
                          <a:off x="2706480" y="2885040"/>
                          <a:ext cx="2536200" cy="1748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4" name="Line 70"/>
                        <p:cNvSpPr/>
                        <p:nvPr/>
                      </p:nvSpPr>
                      <p:spPr>
                        <a:xfrm flipV="1">
                          <a:off x="2719800" y="3095640"/>
                          <a:ext cx="2706480" cy="1548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5" name="Line 71"/>
                        <p:cNvSpPr/>
                        <p:nvPr/>
                      </p:nvSpPr>
                      <p:spPr>
                        <a:xfrm flipV="1">
                          <a:off x="2740320" y="3556800"/>
                          <a:ext cx="3029760" cy="1115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6" name="Line 72"/>
                        <p:cNvSpPr/>
                        <p:nvPr/>
                      </p:nvSpPr>
                      <p:spPr>
                        <a:xfrm flipV="1">
                          <a:off x="2753280" y="4043880"/>
                          <a:ext cx="3371400" cy="646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7" name="Line 73"/>
                        <p:cNvSpPr/>
                        <p:nvPr/>
                      </p:nvSpPr>
                      <p:spPr>
                        <a:xfrm flipV="1">
                          <a:off x="2757960" y="4377240"/>
                          <a:ext cx="3545280" cy="31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Line 74"/>
                        <p:cNvSpPr/>
                        <p:nvPr/>
                      </p:nvSpPr>
                      <p:spPr>
                        <a:xfrm flipV="1">
                          <a:off x="2756160" y="4703400"/>
                          <a:ext cx="3701880" cy="3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Line 75"/>
                        <p:cNvSpPr/>
                        <p:nvPr/>
                      </p:nvSpPr>
                      <p:spPr>
                        <a:xfrm>
                          <a:off x="2772720" y="4725360"/>
                          <a:ext cx="3826800" cy="315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Line 76"/>
                        <p:cNvSpPr/>
                        <p:nvPr/>
                      </p:nvSpPr>
                      <p:spPr>
                        <a:xfrm>
                          <a:off x="2791080" y="4769640"/>
                          <a:ext cx="3986640" cy="1014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Line 77"/>
                        <p:cNvSpPr/>
                        <p:nvPr/>
                      </p:nvSpPr>
                      <p:spPr>
                        <a:xfrm flipH="1">
                          <a:off x="2415960" y="4863240"/>
                          <a:ext cx="175320" cy="1919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78"/>
                        <p:cNvSpPr/>
                        <p:nvPr/>
                      </p:nvSpPr>
                      <p:spPr>
                        <a:xfrm flipH="1">
                          <a:off x="145224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3" name="Line 79"/>
                        <p:cNvSpPr/>
                        <p:nvPr/>
                      </p:nvSpPr>
                      <p:spPr>
                        <a:xfrm flipH="1">
                          <a:off x="1341000" y="4797360"/>
                          <a:ext cx="1163160" cy="1161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4" name="Line 80"/>
                        <p:cNvSpPr/>
                        <p:nvPr/>
                      </p:nvSpPr>
                      <p:spPr>
                        <a:xfrm flipH="1">
                          <a:off x="1223280" y="4789440"/>
                          <a:ext cx="1274760" cy="106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Line 81"/>
                        <p:cNvSpPr/>
                        <p:nvPr/>
                      </p:nvSpPr>
                      <p:spPr>
                        <a:xfrm flipH="1">
                          <a:off x="111996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82"/>
                        <p:cNvSpPr/>
                        <p:nvPr/>
                      </p:nvSpPr>
                      <p:spPr>
                        <a:xfrm flipH="1">
                          <a:off x="1014120" y="4771440"/>
                          <a:ext cx="1463400" cy="85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83"/>
                        <p:cNvSpPr/>
                        <p:nvPr/>
                      </p:nvSpPr>
                      <p:spPr>
                        <a:xfrm flipH="1">
                          <a:off x="902160" y="4761720"/>
                          <a:ext cx="1575360" cy="741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8" name="Line 84"/>
                        <p:cNvSpPr/>
                        <p:nvPr/>
                      </p:nvSpPr>
                      <p:spPr>
                        <a:xfrm flipH="1">
                          <a:off x="787680" y="4752000"/>
                          <a:ext cx="1680840" cy="621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9" name="Line 85"/>
                        <p:cNvSpPr/>
                        <p:nvPr/>
                      </p:nvSpPr>
                      <p:spPr>
                        <a:xfrm flipH="1">
                          <a:off x="571680" y="4733280"/>
                          <a:ext cx="1884240" cy="349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86"/>
                        <p:cNvSpPr/>
                        <p:nvPr/>
                      </p:nvSpPr>
                      <p:spPr>
                        <a:xfrm flipH="1">
                          <a:off x="448920" y="4723560"/>
                          <a:ext cx="2000160" cy="18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87"/>
                        <p:cNvSpPr/>
                        <p:nvPr/>
                      </p:nvSpPr>
                      <p:spPr>
                        <a:xfrm flipH="1">
                          <a:off x="322920" y="4710600"/>
                          <a:ext cx="2117880" cy="18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440" bIns="-28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88"/>
                        <p:cNvSpPr/>
                        <p:nvPr/>
                      </p:nvSpPr>
                      <p:spPr>
                        <a:xfrm flipH="1" flipV="1">
                          <a:off x="71280" y="4298760"/>
                          <a:ext cx="2359800" cy="38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3" name="Line 89"/>
                        <p:cNvSpPr/>
                        <p:nvPr/>
                      </p:nvSpPr>
                      <p:spPr>
                        <a:xfrm flipH="1" flipV="1">
                          <a:off x="30960" y="4064400"/>
                          <a:ext cx="2393280" cy="604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4" name="Line 90"/>
                        <p:cNvSpPr/>
                        <p:nvPr/>
                      </p:nvSpPr>
                      <p:spPr>
                        <a:xfrm flipH="1" flipV="1">
                          <a:off x="29520" y="3560760"/>
                          <a:ext cx="2385360" cy="1074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91"/>
                        <p:cNvSpPr/>
                        <p:nvPr/>
                      </p:nvSpPr>
                      <p:spPr>
                        <a:xfrm flipH="1" flipV="1">
                          <a:off x="368640" y="973080"/>
                          <a:ext cx="2093040" cy="3562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Line 92"/>
                        <p:cNvSpPr/>
                        <p:nvPr/>
                      </p:nvSpPr>
                      <p:spPr>
                        <a:xfrm flipH="1" flipV="1">
                          <a:off x="728280" y="832680"/>
                          <a:ext cx="1753920" cy="3701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Line 93"/>
                        <p:cNvSpPr/>
                        <p:nvPr/>
                      </p:nvSpPr>
                      <p:spPr>
                        <a:xfrm flipH="1" flipV="1">
                          <a:off x="1511280" y="787680"/>
                          <a:ext cx="1016640" cy="3739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8" name="Line 94"/>
                        <p:cNvSpPr/>
                        <p:nvPr/>
                      </p:nvSpPr>
                      <p:spPr>
                        <a:xfrm flipH="1" flipV="1">
                          <a:off x="1862280" y="839520"/>
                          <a:ext cx="684360" cy="369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9" name="Line 95"/>
                        <p:cNvSpPr/>
                        <p:nvPr/>
                      </p:nvSpPr>
                      <p:spPr>
                        <a:xfrm flipV="1">
                          <a:off x="2579760" y="1043280"/>
                          <a:ext cx="5400" cy="3493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Line 96"/>
                        <p:cNvSpPr/>
                        <p:nvPr/>
                      </p:nvSpPr>
                      <p:spPr>
                        <a:xfrm flipV="1">
                          <a:off x="2599920" y="1167840"/>
                          <a:ext cx="305640" cy="337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Line 97"/>
                        <p:cNvSpPr/>
                        <p:nvPr/>
                      </p:nvSpPr>
                      <p:spPr>
                        <a:xfrm flipV="1">
                          <a:off x="2615040" y="1311120"/>
                          <a:ext cx="583560" cy="324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2" name="Line 98"/>
                        <p:cNvSpPr/>
                        <p:nvPr/>
                      </p:nvSpPr>
                      <p:spPr>
                        <a:xfrm flipV="1">
                          <a:off x="2625120" y="1461600"/>
                          <a:ext cx="846360" cy="310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3" name="Line 99"/>
                        <p:cNvSpPr/>
                        <p:nvPr/>
                      </p:nvSpPr>
                      <p:spPr>
                        <a:xfrm flipV="1">
                          <a:off x="263916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94" name="Group 100"/>
              <p:cNvGrpSpPr/>
              <p:nvPr/>
            </p:nvGrpSpPr>
            <p:grpSpPr>
              <a:xfrm>
                <a:off x="34200" y="2678400"/>
                <a:ext cx="5014440" cy="4113000"/>
                <a:chOff x="34200" y="2678400"/>
                <a:chExt cx="5014440" cy="4113000"/>
              </a:xfrm>
            </p:grpSpPr>
            <p:sp>
              <p:nvSpPr>
                <p:cNvPr id="395" name="Line 101"/>
                <p:cNvSpPr/>
                <p:nvPr/>
              </p:nvSpPr>
              <p:spPr>
                <a:xfrm flipV="1">
                  <a:off x="2698920" y="2678400"/>
                  <a:ext cx="2349720" cy="194796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02"/>
                <p:cNvSpPr/>
                <p:nvPr/>
              </p:nvSpPr>
              <p:spPr>
                <a:xfrm flipH="1" flipV="1">
                  <a:off x="1410840" y="6051600"/>
                  <a:ext cx="35352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103"/>
                <p:cNvGrpSpPr/>
                <p:nvPr/>
              </p:nvGrpSpPr>
              <p:grpSpPr>
                <a:xfrm>
                  <a:off x="34200" y="4279680"/>
                  <a:ext cx="2088000" cy="2511720"/>
                  <a:chOff x="34200" y="4279680"/>
                  <a:chExt cx="2088000" cy="2511720"/>
                </a:xfrm>
              </p:grpSpPr>
              <p:sp>
                <p:nvSpPr>
                  <p:cNvPr id="398" name="Line 104"/>
                  <p:cNvSpPr/>
                  <p:nvPr/>
                </p:nvSpPr>
                <p:spPr>
                  <a:xfrm flipH="1">
                    <a:off x="1136160" y="6053400"/>
                    <a:ext cx="274320" cy="2966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未知"/>
                  <p:cNvSpPr/>
                  <p:nvPr/>
                </p:nvSpPr>
                <p:spPr>
                  <a:xfrm>
                    <a:off x="34200" y="5042160"/>
                    <a:ext cx="1595160" cy="174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106"/>
                  <p:cNvSpPr/>
                  <p:nvPr/>
                </p:nvSpPr>
                <p:spPr>
                  <a:xfrm flipH="1">
                    <a:off x="2000160" y="6650280"/>
                    <a:ext cx="12204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107"/>
                  <p:cNvSpPr/>
                  <p:nvPr/>
                </p:nvSpPr>
                <p:spPr>
                  <a:xfrm flipH="1" flipV="1">
                    <a:off x="573120" y="5756400"/>
                    <a:ext cx="84024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108"/>
                  <p:cNvSpPr/>
                  <p:nvPr/>
                </p:nvSpPr>
                <p:spPr>
                  <a:xfrm flipH="1" flipV="1">
                    <a:off x="40968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109"/>
                  <p:cNvSpPr/>
                  <p:nvPr/>
                </p:nvSpPr>
                <p:spPr>
                  <a:xfrm flipH="1" flipV="1">
                    <a:off x="34200" y="4710240"/>
                    <a:ext cx="37224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110"/>
                  <p:cNvSpPr/>
                  <p:nvPr/>
                </p:nvSpPr>
                <p:spPr>
                  <a:xfrm flipV="1">
                    <a:off x="11628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111"/>
                  <p:cNvSpPr/>
                  <p:nvPr/>
                </p:nvSpPr>
                <p:spPr>
                  <a:xfrm flipH="1">
                    <a:off x="56664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112"/>
                  <p:cNvSpPr/>
                  <p:nvPr/>
                </p:nvSpPr>
                <p:spPr>
                  <a:xfrm flipV="1">
                    <a:off x="3528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7" name="Group 113"/>
            <p:cNvGrpSpPr/>
            <p:nvPr/>
          </p:nvGrpSpPr>
          <p:grpSpPr>
            <a:xfrm>
              <a:off x="30960" y="2105280"/>
              <a:ext cx="5216040" cy="4679280"/>
              <a:chOff x="30960" y="2105280"/>
              <a:chExt cx="5216040" cy="4679280"/>
            </a:xfrm>
          </p:grpSpPr>
          <p:sp>
            <p:nvSpPr>
              <p:cNvPr id="408" name="未知"/>
              <p:cNvSpPr/>
              <p:nvPr/>
            </p:nvSpPr>
            <p:spPr>
              <a:xfrm>
                <a:off x="30960" y="4216320"/>
                <a:ext cx="2283840" cy="256824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9" name="未知"/>
              <p:cNvSpPr/>
              <p:nvPr/>
            </p:nvSpPr>
            <p:spPr>
              <a:xfrm>
                <a:off x="30960" y="3587760"/>
                <a:ext cx="2650320" cy="319680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0" name="Rectangle 116"/>
              <p:cNvSpPr/>
              <p:nvPr/>
            </p:nvSpPr>
            <p:spPr>
              <a:xfrm rot="19111200">
                <a:off x="3158640" y="3045960"/>
                <a:ext cx="21456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1" name="Rectangle 117"/>
              <p:cNvSpPr/>
              <p:nvPr/>
            </p:nvSpPr>
            <p:spPr>
              <a:xfrm rot="16512000">
                <a:off x="3112560" y="4141080"/>
                <a:ext cx="35190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2" name="Rectangle 118"/>
              <p:cNvSpPr/>
              <p:nvPr/>
            </p:nvSpPr>
            <p:spPr>
              <a:xfrm rot="18182400">
                <a:off x="1609200" y="4267440"/>
                <a:ext cx="425088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3" name="Rectangle 119"/>
              <p:cNvSpPr/>
              <p:nvPr/>
            </p:nvSpPr>
            <p:spPr>
              <a:xfrm rot="20763600">
                <a:off x="1096200" y="2774520"/>
                <a:ext cx="37908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14" name="Group 120"/>
              <p:cNvGrpSpPr/>
              <p:nvPr/>
            </p:nvGrpSpPr>
            <p:grpSpPr>
              <a:xfrm>
                <a:off x="4752000" y="2105280"/>
                <a:ext cx="495000" cy="493200"/>
                <a:chOff x="4752000" y="2105280"/>
                <a:chExt cx="495000" cy="493200"/>
              </a:xfrm>
            </p:grpSpPr>
            <p:sp>
              <p:nvSpPr>
                <p:cNvPr id="415" name="Oval 121"/>
                <p:cNvSpPr/>
                <p:nvPr/>
              </p:nvSpPr>
              <p:spPr>
                <a:xfrm rot="2828400">
                  <a:off x="4767480" y="2329560"/>
                  <a:ext cx="318240" cy="18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16" name="未知"/>
                <p:cNvSpPr/>
                <p:nvPr/>
              </p:nvSpPr>
              <p:spPr>
                <a:xfrm>
                  <a:off x="4867560" y="2228400"/>
                  <a:ext cx="254160" cy="2494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17" name="未知"/>
                <p:cNvSpPr/>
                <p:nvPr/>
              </p:nvSpPr>
              <p:spPr>
                <a:xfrm>
                  <a:off x="4950720" y="2219040"/>
                  <a:ext cx="182520" cy="1760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18" name="未知"/>
                <p:cNvSpPr/>
                <p:nvPr/>
              </p:nvSpPr>
              <p:spPr>
                <a:xfrm>
                  <a:off x="5015520" y="2113200"/>
                  <a:ext cx="227160" cy="2246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19" name="未知"/>
                <p:cNvSpPr/>
                <p:nvPr/>
              </p:nvSpPr>
              <p:spPr>
                <a:xfrm>
                  <a:off x="5158800" y="2105280"/>
                  <a:ext cx="88200" cy="8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0" name="PlaceHolder 1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1FDF-620E-4A1E-A665-475B50EC5DA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4C2E-67BC-4434-8163-E31E0795CB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03" name="Picture 3" descr="紙角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8F12-189E-4E72-B22A-F2D912A13B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ush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audio" Target="../media/push.wav"/><Relationship Id="rId6" Type="http://schemas.openxmlformats.org/officeDocument/2006/relationships/audio" Target="../media/push.wav"/><Relationship Id="rId7" Type="http://schemas.openxmlformats.org/officeDocument/2006/relationships/audio" Target="../media/push.wav"/><Relationship Id="rId8" Type="http://schemas.openxmlformats.org/officeDocument/2006/relationships/audio" Target="../media/push.wav"/><Relationship Id="rId9" Type="http://schemas.openxmlformats.org/officeDocument/2006/relationships/audio" Target="../media/push.wav"/><Relationship Id="rId10" Type="http://schemas.openxmlformats.org/officeDocument/2006/relationships/audio" Target="../media/push.wav"/><Relationship Id="rId11" Type="http://schemas.openxmlformats.org/officeDocument/2006/relationships/audio" Target="../media/push.wav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Box 5"/>
          <p:cNvSpPr/>
          <p:nvPr/>
        </p:nvSpPr>
        <p:spPr>
          <a:xfrm>
            <a:off x="1258920" y="242100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起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歌</a:t>
            </a:r>
            <a:r>
              <a:rPr b="1" lang="en-US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2" name="矩形 3"/>
          <p:cNvSpPr/>
          <p:nvPr/>
        </p:nvSpPr>
        <p:spPr>
          <a:xfrm>
            <a:off x="2057400" y="50846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29527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gē</a:t>
            </a:r>
            <a:br>
              <a:rPr sz="8000"/>
            </a:br>
            <a:r>
              <a:rPr b="0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歌</a:t>
            </a:r>
            <a:endParaRPr b="0" lang="en-US" sz="8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1116000" y="3068640"/>
            <a:ext cx="483408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歌曲　唱歌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歌声　歌谣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2663640" cy="19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hái</a:t>
            </a:r>
            <a:br>
              <a:rPr sz="8800"/>
            </a:br>
            <a:r>
              <a:rPr b="0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孩</a:t>
            </a:r>
            <a:endParaRPr b="0" lang="en-US" sz="8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1042920" y="3284640"/>
            <a:ext cx="58435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孩子　小孩儿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孩童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2952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hé</a:t>
            </a:r>
            <a:br>
              <a:rPr sz="8800"/>
            </a:br>
            <a:r>
              <a:rPr b="0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和</a:t>
            </a:r>
            <a:endParaRPr b="0" lang="en-US" sz="8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1116000" y="3500280"/>
            <a:ext cx="5338800" cy="24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和平　和气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和好　你和我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316692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lā</a:t>
            </a:r>
            <a:br>
              <a:rPr sz="8800"/>
            </a:br>
            <a:r>
              <a:rPr b="0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拉</a:t>
            </a:r>
            <a:endParaRPr b="0" lang="en-US" sz="8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1186920" y="3284640"/>
            <a:ext cx="5185080" cy="22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拉手　拉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拉萨　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2808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liǎn</a:t>
            </a:r>
            <a:br>
              <a:rPr sz="6600"/>
            </a:br>
            <a:r>
              <a:rPr b="0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脸</a:t>
            </a:r>
            <a:endParaRPr b="0" lang="en-US" sz="8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1258920" y="3141360"/>
            <a:ext cx="4680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脸红　脸色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脸蛋　脸皮</a:t>
            </a:r>
            <a:r>
              <a:rPr b="0" lang="zh-CN" sz="6600" spc="-1" strike="noStrike">
                <a:solidFill>
                  <a:srgbClr val="ff33cc"/>
                </a:solidFill>
                <a:latin typeface="Verdana"/>
              </a:rPr>
              <a:t>　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4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338472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nán</a:t>
            </a:r>
            <a:br>
              <a:rPr sz="8800"/>
            </a:br>
            <a:r>
              <a:rPr b="0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男</a:t>
            </a:r>
            <a:endParaRPr b="0" lang="en-US" sz="8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1258560" y="3284280"/>
            <a:ext cx="4608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男孩　男生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男子汉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4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3382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nǚ</a:t>
            </a:r>
            <a:br>
              <a:rPr sz="8800"/>
            </a:br>
            <a:r>
              <a:rPr b="0" lang="zh-CN" sz="8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女</a:t>
            </a:r>
            <a:endParaRPr b="0" lang="en-US" sz="8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1116000" y="3933360"/>
            <a:ext cx="4834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女生　女孩</a:t>
            </a:r>
            <a:r>
              <a:rPr b="0" lang="zh-CN" sz="6600" spc="-1" strike="noStrike">
                <a:solidFill>
                  <a:srgbClr val="ff33cc"/>
                </a:solidFill>
                <a:latin typeface="Verdana"/>
              </a:rPr>
              <a:t>　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39718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quán</a:t>
            </a:r>
            <a:br>
              <a:rPr sz="8800"/>
            </a:br>
            <a:r>
              <a:rPr b="0" lang="zh-CN" sz="8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全</a:t>
            </a:r>
            <a:endParaRPr b="0" lang="en-US" sz="8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826920" y="3429000"/>
            <a:ext cx="7128000" cy="23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全国　全班　全家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全部　完全</a:t>
            </a:r>
            <a:r>
              <a:rPr b="0" lang="zh-CN" sz="6600" spc="-1" strike="noStrike">
                <a:solidFill>
                  <a:srgbClr val="ff33cc"/>
                </a:solidFill>
                <a:latin typeface="Verdana"/>
              </a:rPr>
              <a:t>　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403236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shì</a:t>
            </a:r>
            <a:br>
              <a:rPr sz="6600"/>
            </a:br>
            <a:r>
              <a:rPr b="0" lang="zh-CN" sz="8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世</a:t>
            </a:r>
            <a:endParaRPr b="0" lang="en-US" sz="8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899640" y="3068640"/>
            <a:ext cx="5194440" cy="29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世界　世上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世家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30243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jiè</a:t>
            </a:r>
            <a:br>
              <a:rPr sz="6600"/>
            </a:br>
            <a:r>
              <a:rPr b="0" lang="zh-CN" sz="8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界</a:t>
            </a:r>
            <a:endParaRPr b="0" lang="en-US" sz="8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971280" y="4076640"/>
            <a:ext cx="48956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世界　界限</a:t>
            </a:r>
            <a:r>
              <a:rPr b="0" lang="zh-CN" sz="6600" spc="-1" strike="noStrike">
                <a:solidFill>
                  <a:srgbClr val="ff33cc"/>
                </a:solidFill>
                <a:latin typeface="Verdana"/>
              </a:rPr>
              <a:t>　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2"/>
          <p:cNvSpPr/>
          <p:nvPr/>
        </p:nvSpPr>
        <p:spPr>
          <a:xfrm>
            <a:off x="611280" y="4869000"/>
            <a:ext cx="33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男孩子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4" name="Text Box 3"/>
          <p:cNvSpPr/>
          <p:nvPr/>
        </p:nvSpPr>
        <p:spPr>
          <a:xfrm>
            <a:off x="4284720" y="486900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女孩子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5" name="Picture 4" descr="2457331_205029016528_2[1]"/>
          <p:cNvPicPr/>
          <p:nvPr/>
        </p:nvPicPr>
        <p:blipFill>
          <a:blip r:embed="rId2"/>
          <a:stretch/>
        </p:blipFill>
        <p:spPr>
          <a:xfrm>
            <a:off x="611280" y="692280"/>
            <a:ext cx="3470040" cy="42480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5" descr="6421580388394487057[1]"/>
          <p:cNvPicPr/>
          <p:nvPr/>
        </p:nvPicPr>
        <p:blipFill>
          <a:blip r:embed="rId3"/>
          <a:stretch/>
        </p:blipFill>
        <p:spPr>
          <a:xfrm>
            <a:off x="4356000" y="692280"/>
            <a:ext cx="3044880" cy="4236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-252720" y="981000"/>
            <a:ext cx="4537080" cy="19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xīn</a:t>
            </a:r>
            <a:br>
              <a:rPr sz="8800"/>
            </a:br>
            <a:r>
              <a:rPr b="0" lang="zh-CN" sz="8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心</a:t>
            </a:r>
            <a:endParaRPr b="0" lang="en-US" sz="8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755280" y="3213000"/>
            <a:ext cx="7343640" cy="25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心里　心情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心事　心疼　心胸</a:t>
            </a:r>
            <a:r>
              <a:rPr b="0" lang="en-US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4" name="Group 2"/>
          <p:cNvGrpSpPr/>
          <p:nvPr/>
        </p:nvGrpSpPr>
        <p:grpSpPr>
          <a:xfrm>
            <a:off x="1403280" y="1052640"/>
            <a:ext cx="1960200" cy="1960200"/>
            <a:chOff x="1403280" y="1052640"/>
            <a:chExt cx="1960200" cy="1960200"/>
          </a:xfrm>
        </p:grpSpPr>
        <p:sp>
          <p:nvSpPr>
            <p:cNvPr id="975" name="Rectangle 3"/>
            <p:cNvSpPr/>
            <p:nvPr/>
          </p:nvSpPr>
          <p:spPr>
            <a:xfrm>
              <a:off x="1403280" y="1052640"/>
              <a:ext cx="1960200" cy="196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6" name="Line 4"/>
            <p:cNvSpPr/>
            <p:nvPr/>
          </p:nvSpPr>
          <p:spPr>
            <a:xfrm>
              <a:off x="1403280" y="2032560"/>
              <a:ext cx="196020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7" name="Line 5"/>
            <p:cNvSpPr/>
            <p:nvPr/>
          </p:nvSpPr>
          <p:spPr>
            <a:xfrm>
              <a:off x="2383200" y="1052640"/>
              <a:ext cx="0" cy="196020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8" name="Group 6"/>
          <p:cNvGrpSpPr/>
          <p:nvPr/>
        </p:nvGrpSpPr>
        <p:grpSpPr>
          <a:xfrm>
            <a:off x="4643280" y="1125360"/>
            <a:ext cx="1960200" cy="1960560"/>
            <a:chOff x="4643280" y="1125360"/>
            <a:chExt cx="1960200" cy="1960560"/>
          </a:xfrm>
        </p:grpSpPr>
        <p:sp>
          <p:nvSpPr>
            <p:cNvPr id="979" name="Rectangle 7"/>
            <p:cNvSpPr/>
            <p:nvPr/>
          </p:nvSpPr>
          <p:spPr>
            <a:xfrm>
              <a:off x="4643280" y="1125360"/>
              <a:ext cx="1960200" cy="196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0" name="Line 8"/>
            <p:cNvSpPr/>
            <p:nvPr/>
          </p:nvSpPr>
          <p:spPr>
            <a:xfrm>
              <a:off x="4643280" y="2105640"/>
              <a:ext cx="196020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1" name="Line 9"/>
            <p:cNvSpPr/>
            <p:nvPr/>
          </p:nvSpPr>
          <p:spPr>
            <a:xfrm>
              <a:off x="5623200" y="1125360"/>
              <a:ext cx="0" cy="196056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82" name="Group 10"/>
          <p:cNvGrpSpPr/>
          <p:nvPr/>
        </p:nvGrpSpPr>
        <p:grpSpPr>
          <a:xfrm>
            <a:off x="1403280" y="3645000"/>
            <a:ext cx="1960200" cy="1960200"/>
            <a:chOff x="1403280" y="3645000"/>
            <a:chExt cx="1960200" cy="1960200"/>
          </a:xfrm>
        </p:grpSpPr>
        <p:sp>
          <p:nvSpPr>
            <p:cNvPr id="983" name="Rectangle 11"/>
            <p:cNvSpPr/>
            <p:nvPr/>
          </p:nvSpPr>
          <p:spPr>
            <a:xfrm>
              <a:off x="1403280" y="3645000"/>
              <a:ext cx="1960200" cy="196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4" name="Line 12"/>
            <p:cNvSpPr/>
            <p:nvPr/>
          </p:nvSpPr>
          <p:spPr>
            <a:xfrm>
              <a:off x="1403280" y="4624920"/>
              <a:ext cx="196020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5" name="Line 13"/>
            <p:cNvSpPr/>
            <p:nvPr/>
          </p:nvSpPr>
          <p:spPr>
            <a:xfrm>
              <a:off x="2383200" y="3645000"/>
              <a:ext cx="0" cy="196020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86" name="Group 14"/>
          <p:cNvGrpSpPr/>
          <p:nvPr/>
        </p:nvGrpSpPr>
        <p:grpSpPr>
          <a:xfrm>
            <a:off x="4643280" y="3573360"/>
            <a:ext cx="1960200" cy="1960200"/>
            <a:chOff x="4643280" y="3573360"/>
            <a:chExt cx="1960200" cy="1960200"/>
          </a:xfrm>
        </p:grpSpPr>
        <p:sp>
          <p:nvSpPr>
            <p:cNvPr id="987" name="Rectangle 15"/>
            <p:cNvSpPr/>
            <p:nvPr/>
          </p:nvSpPr>
          <p:spPr>
            <a:xfrm>
              <a:off x="4643280" y="3573360"/>
              <a:ext cx="1960200" cy="196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8" name="Line 16"/>
            <p:cNvSpPr/>
            <p:nvPr/>
          </p:nvSpPr>
          <p:spPr>
            <a:xfrm>
              <a:off x="4643280" y="4553280"/>
              <a:ext cx="196020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9" name="Line 17"/>
            <p:cNvSpPr/>
            <p:nvPr/>
          </p:nvSpPr>
          <p:spPr>
            <a:xfrm>
              <a:off x="5623200" y="3573360"/>
              <a:ext cx="0" cy="196020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90" name="Text Box 18"/>
          <p:cNvSpPr/>
          <p:nvPr/>
        </p:nvSpPr>
        <p:spPr>
          <a:xfrm>
            <a:off x="1476360" y="981000"/>
            <a:ext cx="1513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33cc"/>
                </a:solidFill>
                <a:latin typeface="Arial"/>
                <a:ea typeface="楷体_GB2312"/>
              </a:rPr>
              <a:t>女</a:t>
            </a:r>
            <a:endParaRPr b="0" lang="en-US" sz="1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1" name="Text Box 19"/>
          <p:cNvSpPr/>
          <p:nvPr/>
        </p:nvSpPr>
        <p:spPr>
          <a:xfrm>
            <a:off x="4788000" y="1052640"/>
            <a:ext cx="13683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33cc"/>
                </a:solidFill>
                <a:latin typeface="Arial"/>
                <a:ea typeface="楷体_GB2312"/>
              </a:rPr>
              <a:t>手</a:t>
            </a:r>
            <a:endParaRPr b="0" lang="en-US" sz="1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2" name="Text Box 20"/>
          <p:cNvSpPr/>
          <p:nvPr/>
        </p:nvSpPr>
        <p:spPr>
          <a:xfrm>
            <a:off x="1476360" y="3573360"/>
            <a:ext cx="20160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33cc"/>
                </a:solidFill>
                <a:latin typeface="Arial"/>
                <a:ea typeface="楷体_GB2312"/>
              </a:rPr>
              <a:t>大</a:t>
            </a:r>
            <a:endParaRPr b="0" lang="en-US" sz="1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3" name="Text Box 21"/>
          <p:cNvSpPr/>
          <p:nvPr/>
        </p:nvSpPr>
        <p:spPr>
          <a:xfrm>
            <a:off x="4716360" y="3500280"/>
            <a:ext cx="19447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33cc"/>
                </a:solidFill>
                <a:latin typeface="Arial"/>
                <a:ea typeface="楷体_GB2312"/>
              </a:rPr>
              <a:t>心</a:t>
            </a:r>
            <a:endParaRPr b="0" lang="en-US" sz="1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4" name="TextBox 21"/>
          <p:cNvSpPr/>
          <p:nvPr/>
        </p:nvSpPr>
        <p:spPr>
          <a:xfrm>
            <a:off x="6154560" y="981000"/>
            <a:ext cx="2374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0" lang="en-US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会 写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5" name="文本框 1"/>
          <p:cNvSpPr/>
          <p:nvPr/>
        </p:nvSpPr>
        <p:spPr>
          <a:xfrm>
            <a:off x="1224000" y="597996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AutoShape 2"/>
          <p:cNvSpPr/>
          <p:nvPr/>
        </p:nvSpPr>
        <p:spPr>
          <a:xfrm>
            <a:off x="6227640" y="189000"/>
            <a:ext cx="2714760" cy="2087640"/>
          </a:xfrm>
          <a:custGeom>
            <a:avLst/>
            <a:gdLst>
              <a:gd name="textAreaLeft" fmla="*/ 619560 w 2714760"/>
              <a:gd name="textAreaRight" fmla="*/ 2095200 w 2714760"/>
              <a:gd name="textAreaTop" fmla="*/ 476640 h 2087640"/>
              <a:gd name="textAreaBottom" fmla="*/ 1611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>
              <a:alpha val="99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7" name="Text Box 3"/>
          <p:cNvSpPr/>
          <p:nvPr/>
        </p:nvSpPr>
        <p:spPr>
          <a:xfrm>
            <a:off x="6227640" y="62064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反义词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8" name="Text Box 4"/>
          <p:cNvSpPr/>
          <p:nvPr/>
        </p:nvSpPr>
        <p:spPr>
          <a:xfrm>
            <a:off x="3203640" y="620640"/>
            <a:ext cx="24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男</a:t>
            </a:r>
            <a:r>
              <a:rPr b="0" lang="en-US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─</a:t>
            </a: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女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9" name="Text Box 5"/>
          <p:cNvSpPr/>
          <p:nvPr/>
        </p:nvSpPr>
        <p:spPr>
          <a:xfrm>
            <a:off x="3276720" y="177336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大</a:t>
            </a:r>
            <a:r>
              <a:rPr b="0" lang="en-US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─</a:t>
            </a: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小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0" name="Text Box 6"/>
          <p:cNvSpPr/>
          <p:nvPr/>
        </p:nvSpPr>
        <p:spPr>
          <a:xfrm>
            <a:off x="53964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白</a:t>
            </a:r>
            <a:r>
              <a:rPr b="0" lang="en-US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─</a:t>
            </a: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黑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1" name="Text Box 7"/>
          <p:cNvSpPr/>
          <p:nvPr/>
        </p:nvSpPr>
        <p:spPr>
          <a:xfrm>
            <a:off x="468360" y="270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东</a:t>
            </a:r>
            <a:r>
              <a:rPr b="0" lang="en-US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─</a:t>
            </a: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西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2" name="Text Box 8"/>
          <p:cNvSpPr/>
          <p:nvPr/>
        </p:nvSpPr>
        <p:spPr>
          <a:xfrm>
            <a:off x="468360" y="422100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北</a:t>
            </a:r>
            <a:r>
              <a:rPr b="0" lang="en-US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─</a:t>
            </a: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南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3" name="Text Box 9"/>
          <p:cNvSpPr/>
          <p:nvPr/>
        </p:nvSpPr>
        <p:spPr>
          <a:xfrm>
            <a:off x="3276720" y="314172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上</a:t>
            </a:r>
            <a:r>
              <a:rPr b="0" lang="en-US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─</a:t>
            </a: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下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4" name="Text Box 10"/>
          <p:cNvSpPr/>
          <p:nvPr/>
        </p:nvSpPr>
        <p:spPr>
          <a:xfrm>
            <a:off x="3276720" y="4508640"/>
            <a:ext cx="24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热</a:t>
            </a:r>
            <a:r>
              <a:rPr b="0" lang="en-US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─</a:t>
            </a: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5" name="Text Box 11"/>
          <p:cNvSpPr/>
          <p:nvPr/>
        </p:nvSpPr>
        <p:spPr>
          <a:xfrm>
            <a:off x="6084720" y="285264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天</a:t>
            </a:r>
            <a:r>
              <a:rPr b="0" lang="en-US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─</a:t>
            </a: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地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6" name="Text Box 12"/>
          <p:cNvSpPr/>
          <p:nvPr/>
        </p:nvSpPr>
        <p:spPr>
          <a:xfrm>
            <a:off x="6084720" y="4292640"/>
            <a:ext cx="28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去</a:t>
            </a:r>
            <a:r>
              <a:rPr b="0" lang="en-US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─</a:t>
            </a: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来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Box 1"/>
          <p:cNvSpPr/>
          <p:nvPr/>
        </p:nvSpPr>
        <p:spPr>
          <a:xfrm>
            <a:off x="1476360" y="2205000"/>
            <a:ext cx="61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再 见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2DE0-4F4C-4C64-8D63-E60BA91584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Picture 2" descr="001fc67952d10c40d1c720[1]"/>
          <p:cNvPicPr/>
          <p:nvPr/>
        </p:nvPicPr>
        <p:blipFill>
          <a:blip r:embed="rId1"/>
          <a:stretch/>
        </p:blipFill>
        <p:spPr>
          <a:xfrm>
            <a:off x="2771640" y="1123920"/>
            <a:ext cx="3889440" cy="4579920"/>
          </a:xfrm>
          <a:prstGeom prst="rect">
            <a:avLst/>
          </a:prstGeom>
          <a:ln w="0">
            <a:noFill/>
          </a:ln>
        </p:spPr>
      </p:pic>
      <p:sp>
        <p:nvSpPr>
          <p:cNvPr id="938" name="Text Box 3"/>
          <p:cNvSpPr/>
          <p:nvPr/>
        </p:nvSpPr>
        <p:spPr>
          <a:xfrm>
            <a:off x="6877080" y="1484280"/>
            <a:ext cx="1150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大孩子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9" name="Text Box 4"/>
          <p:cNvSpPr/>
          <p:nvPr/>
        </p:nvSpPr>
        <p:spPr>
          <a:xfrm>
            <a:off x="1403280" y="1413000"/>
            <a:ext cx="122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小孩子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 Box 2"/>
          <p:cNvSpPr/>
          <p:nvPr/>
        </p:nvSpPr>
        <p:spPr>
          <a:xfrm>
            <a:off x="1258920" y="4005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白孩子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1" name="Text Box 3"/>
          <p:cNvSpPr/>
          <p:nvPr/>
        </p:nvSpPr>
        <p:spPr>
          <a:xfrm>
            <a:off x="5496120" y="400536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黑孩子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2" name="Picture 5" descr="photograph_hd_organic_babies_photograph_1920_1600_02_8210_10[1]"/>
          <p:cNvPicPr/>
          <p:nvPr/>
        </p:nvPicPr>
        <p:blipFill>
          <a:blip r:embed="rId2"/>
          <a:stretch/>
        </p:blipFill>
        <p:spPr>
          <a:xfrm>
            <a:off x="4429080" y="765000"/>
            <a:ext cx="3957840" cy="298944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5" descr="一起歌-白孩子.jpg"/>
          <p:cNvPicPr/>
          <p:nvPr/>
        </p:nvPicPr>
        <p:blipFill>
          <a:blip r:embed="rId3"/>
          <a:stretch/>
        </p:blipFill>
        <p:spPr>
          <a:xfrm>
            <a:off x="663480" y="692280"/>
            <a:ext cx="3943440" cy="3070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矩形 3"/>
          <p:cNvSpPr/>
          <p:nvPr/>
        </p:nvSpPr>
        <p:spPr>
          <a:xfrm>
            <a:off x="363528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5" name="Text Box 3"/>
          <p:cNvSpPr/>
          <p:nvPr/>
        </p:nvSpPr>
        <p:spPr>
          <a:xfrm>
            <a:off x="826920" y="692280"/>
            <a:ext cx="76327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起歌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男孩子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女孩子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手和手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拉一起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大孩子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小孩子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脸和脸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贴一起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白孩子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黑孩子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头和头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靠一起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全世界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小孩子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心和心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连一起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Box 1"/>
          <p:cNvSpPr/>
          <p:nvPr/>
        </p:nvSpPr>
        <p:spPr>
          <a:xfrm>
            <a:off x="0" y="18900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男孩子，女孩子，手和手，拉一起。</a:t>
            </a:r>
            <a:endParaRPr b="0" lang="en-US" sz="4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Text Box 7"/>
          <p:cNvSpPr/>
          <p:nvPr/>
        </p:nvSpPr>
        <p:spPr>
          <a:xfrm>
            <a:off x="1252800" y="6024600"/>
            <a:ext cx="6652440" cy="825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全世界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小孩子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心和心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连一起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1512720" cy="16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qǐ</a:t>
            </a:r>
            <a:br>
              <a:rPr sz="8000"/>
            </a:br>
            <a:r>
              <a:rPr b="1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起</a:t>
            </a:r>
            <a:endParaRPr b="0" lang="en-US" sz="8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971280" y="3068280"/>
            <a:ext cx="583236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起来　　起床　　　　　　　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起劲　　起火</a:t>
            </a:r>
            <a:r>
              <a:rPr b="0" lang="zh-CN" sz="5400" spc="-1" strike="noStrike">
                <a:solidFill>
                  <a:srgbClr val="ff33cc"/>
                </a:solidFill>
                <a:latin typeface="Verdana"/>
                <a:ea typeface="黑体"/>
              </a:rPr>
              <a:t>　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30240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lián</a:t>
            </a:r>
            <a:br>
              <a:rPr sz="6600"/>
            </a:br>
            <a:r>
              <a:rPr b="1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连</a:t>
            </a:r>
            <a:endParaRPr b="0" lang="en-US" sz="8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1042920" y="2997000"/>
            <a:ext cx="5400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连忙　连环画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心连心　连接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4:57:2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0:36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