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45CDB-B37D-4D12-99FC-2A1B678979D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29D1C-ECA6-4E1F-90C2-58D0F6B06C8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2E32-09C2-4CE8-B3C5-90C820365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4613-F205-4FD0-A2EE-6389FE631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A213-F14F-4AC3-9545-7FBA4D915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77E8-A5BC-4B5A-B178-7E7385CA4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E724-DAAA-42D1-8362-C17FE67AF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EFDC-104C-4331-BFDC-537A1823A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1A70-D1EF-44DB-8835-BD7C90758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2FFD-A8B6-4FB9-9108-54CAF2892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C89E-8B53-4E52-92C3-7220235BD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F421-9241-4585-B911-F6A7F4FC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D455-9EBE-4339-B6C5-45E11715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E567-0291-4C44-9B4F-93EB71EC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AEF8C-F8E2-43E4-99F8-3ADB4E9C4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13738601859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WordArt 5"/>
          <p:cNvSpPr txBox="1"/>
          <p:nvPr/>
        </p:nvSpPr>
        <p:spPr>
          <a:xfrm>
            <a:off x="1258920" y="1413000"/>
            <a:ext cx="6697800" cy="188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中宋"/>
              </a:rPr>
              <a:t>仰望地球之巅</a:t>
            </a:r>
            <a:endParaRPr b="1" lang="en-US" sz="8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52" name="矩形 7"/>
          <p:cNvSpPr/>
          <p:nvPr/>
        </p:nvSpPr>
        <p:spPr>
          <a:xfrm>
            <a:off x="1786320" y="5877000"/>
            <a:ext cx="5642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edt465y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6"/>
          <p:cNvSpPr/>
          <p:nvPr/>
        </p:nvSpPr>
        <p:spPr>
          <a:xfrm>
            <a:off x="6948360" y="4842000"/>
            <a:ext cx="2016360" cy="2016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ccf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539640" y="4762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背景资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324000" y="1268280"/>
            <a:ext cx="659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珠穆朗玛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Qomolangma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简称珠峰，又意译作圣母峰，尼泊尔称为萨加马塔峰，也叫“埃非勒士峰”，位于中华人民共和国和尼泊尔交界的喜马拉雅山脉之上，终年积雪。是世界第一高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珠穆朗玛峰，峰高势伟，地理环境独特，峰顶的最低气温常年在零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4℃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山上一些地方常年积雪不化，冰川、冰坡、冰塔林到处可见。峰顶空气稀薄，空气的含氧量只有东部平原地区的四分之一，经常刮七八级大风。十二级大风也不少见。风吹积雪，四溅飞舞，弥漫天际。珠峰具有重大的科学研究价值，很早就为人们所注目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6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中国登山运动员和科学工作者不畏艰险，克服重重困难，首次从北坡登上了珠穆朗玛峰顶，创造了世界登山史上前所未有的奇迹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ryhfrt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782640" y="97164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学习建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782640" y="2128680"/>
            <a:ext cx="73184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用自己喜欢的方式读课文，将课文读通，读顺，读准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边读边在你喜欢的句子或者段落上作记号并写下你的感受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遇到有疑问的地方也作上笔记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累积好词好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awqer"/>
          <p:cNvPicPr/>
          <p:nvPr/>
        </p:nvPicPr>
        <p:blipFill>
          <a:blip r:embed="rId1"/>
          <a:stretch/>
        </p:blipFill>
        <p:spPr>
          <a:xfrm>
            <a:off x="0" y="0"/>
            <a:ext cx="9144000" cy="74613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861840" y="731880"/>
            <a:ext cx="29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学习生字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812880" y="1989000"/>
            <a:ext cx="741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日喀则      巅峰      大鹏鸟   拜谒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帷幕         雾霭      巍峨       山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阳光灿烂     席地而坐    凌空展翅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重重叠叠     袅袅青烟    垂头丧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心灰意冷     珍禽异兽    兴风作浪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昂首挺立     瞬息万变    巍峨壮丽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ryhfrt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971640" y="333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想一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971640" y="907920"/>
            <a:ext cx="6767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默读课文，看看文中作者几次仰望珠峰，分别见到了什么样的美景？作者是怎么样表现出来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1116000" y="1484280"/>
            <a:ext cx="763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一次仰望：山脚下         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主要描写珠峰高大险峻的美和瞬息万变的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8"/>
          <p:cNvSpPr/>
          <p:nvPr/>
        </p:nvSpPr>
        <p:spPr>
          <a:xfrm>
            <a:off x="2843280" y="2421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1042920" y="1773360"/>
            <a:ext cx="6551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向南望去，珠穆朗玛峰就像一只凌空展翅的大鹏鸟，兀立在连绵的山峦之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0" descr="8"/>
          <p:cNvPicPr/>
          <p:nvPr/>
        </p:nvPicPr>
        <p:blipFill>
          <a:blip r:embed="rId2"/>
          <a:stretch/>
        </p:blipFill>
        <p:spPr>
          <a:xfrm>
            <a:off x="307800" y="3573360"/>
            <a:ext cx="3959280" cy="28814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1"/>
          <p:cNvSpPr/>
          <p:nvPr/>
        </p:nvSpPr>
        <p:spPr>
          <a:xfrm>
            <a:off x="4788000" y="3429000"/>
            <a:ext cx="374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0000"/>
                </a:solidFill>
                <a:latin typeface="Arial"/>
              </a:rPr>
              <a:t>这是远望珠峰时的轮廓，把珠峰比作一只凌空展翅的大鹏鸟，新奇贴切，不仅形象地写出了珠峰的高大险峻，还写出了珠峰的气势，给人一种鹤立鸡群的感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2195640" y="549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1116000" y="2421000"/>
            <a:ext cx="6985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就在选择角度的一瞬间，旗云由西向东飞走了，山下一团团棉絮般的云朵向山尖涌去。不一会，峰顶隐没在云朵里，大家不得不垂头丧气地放下相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4" descr="7"/>
          <p:cNvPicPr/>
          <p:nvPr/>
        </p:nvPicPr>
        <p:blipFill>
          <a:blip r:embed="rId3"/>
          <a:stretch/>
        </p:blipFill>
        <p:spPr>
          <a:xfrm>
            <a:off x="700200" y="3573360"/>
            <a:ext cx="3959280" cy="26305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5" descr=""/>
          <p:cNvPicPr/>
          <p:nvPr/>
        </p:nvPicPr>
        <p:blipFill>
          <a:blip r:embed="rId4"/>
          <a:stretch/>
        </p:blipFill>
        <p:spPr>
          <a:xfrm>
            <a:off x="4500720" y="3849840"/>
            <a:ext cx="4321080" cy="28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ryhfrt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755640" y="62064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二次仰望：傍晚时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6"/>
          <p:cNvSpPr/>
          <p:nvPr/>
        </p:nvSpPr>
        <p:spPr>
          <a:xfrm>
            <a:off x="3203640" y="836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3851280" y="620640"/>
            <a:ext cx="458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3708360" y="69228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Arial"/>
              </a:rPr>
              <a:t>主要描写珠峰在傍晚晚霞中的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1042920" y="1413000"/>
            <a:ext cx="6842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到了九点，周围的山峦已隐入帷幕之中，唯独珠峰仍身披金甲，昂首挺立，头盔上散发着光芒。这时的珠峰，就像一位威武的将军，金盔金甲，屹立在千军万马之中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1042920" y="3576600"/>
            <a:ext cx="6842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因为珠峰很高，所以当其他山峰隐没在暮霭中时，珠峰仍身披霞光，被傍晚时的霞光辉映得金光灿灿。把珠峰比作将军，非常形象，无论是珠峰在其他峰中的地位，还是就整个山峰都被霞光染成一色的金色来讲，都符合喻体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——“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将军”的特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0" y="-36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yrrt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755640" y="476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三次仰望：早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"/>
          <p:cNvSpPr/>
          <p:nvPr/>
        </p:nvSpPr>
        <p:spPr>
          <a:xfrm>
            <a:off x="2771640" y="69228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3564000" y="47628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3300"/>
                </a:solidFill>
                <a:latin typeface="Arial"/>
              </a:rPr>
              <a:t>主要描写珠峰早晨在雾海和阳光中的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826920" y="1197000"/>
            <a:ext cx="67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0000"/>
                </a:solidFill>
                <a:latin typeface="Arial"/>
              </a:rPr>
              <a:t>感悟“早晨的珠峰，在雾海里，在阳光下，瞬息万变的”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9" descr="1254209653325"/>
          <p:cNvPicPr/>
          <p:nvPr/>
        </p:nvPicPr>
        <p:blipFill>
          <a:blip r:embed="rId2"/>
          <a:stretch/>
        </p:blipFill>
        <p:spPr>
          <a:xfrm>
            <a:off x="179280" y="2293920"/>
            <a:ext cx="4248360" cy="2833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21065769371737"/>
          <p:cNvPicPr/>
          <p:nvPr/>
        </p:nvPicPr>
        <p:blipFill>
          <a:blip r:embed="rId3"/>
          <a:stretch/>
        </p:blipFill>
        <p:spPr>
          <a:xfrm>
            <a:off x="4643280" y="2276640"/>
            <a:ext cx="4272120" cy="2850840"/>
          </a:xfrm>
          <a:prstGeom prst="rect">
            <a:avLst/>
          </a:prstGeom>
          <a:ln w="0">
            <a:noFill/>
          </a:ln>
        </p:spPr>
      </p:pic>
      <p:sp>
        <p:nvSpPr>
          <p:cNvPr id="96" name="文本框 1"/>
          <p:cNvSpPr/>
          <p:nvPr/>
        </p:nvSpPr>
        <p:spPr>
          <a:xfrm>
            <a:off x="457200" y="5479920"/>
            <a:ext cx="538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ghryryd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277700020071203115409023_640"/>
          <p:cNvPicPr/>
          <p:nvPr/>
        </p:nvPicPr>
        <p:blipFill>
          <a:blip r:embed="rId2"/>
          <a:stretch/>
        </p:blipFill>
        <p:spPr>
          <a:xfrm>
            <a:off x="179280" y="476280"/>
            <a:ext cx="4284720" cy="2879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3048611720080824231555011_640"/>
          <p:cNvPicPr/>
          <p:nvPr/>
        </p:nvPicPr>
        <p:blipFill>
          <a:blip r:embed="rId3"/>
          <a:stretch/>
        </p:blipFill>
        <p:spPr>
          <a:xfrm>
            <a:off x="4572000" y="404640"/>
            <a:ext cx="4284720" cy="28562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1254210366013"/>
          <p:cNvPicPr/>
          <p:nvPr/>
        </p:nvPicPr>
        <p:blipFill>
          <a:blip r:embed="rId4"/>
          <a:stretch/>
        </p:blipFill>
        <p:spPr>
          <a:xfrm>
            <a:off x="179280" y="3645000"/>
            <a:ext cx="4321440" cy="2592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5229924320091007150155069_640"/>
          <p:cNvPicPr/>
          <p:nvPr/>
        </p:nvPicPr>
        <p:blipFill>
          <a:blip r:embed="rId5"/>
          <a:stretch/>
        </p:blipFill>
        <p:spPr>
          <a:xfrm>
            <a:off x="4643280" y="3645000"/>
            <a:ext cx="42498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FC12C-952C-475F-831D-7E0F93F5E95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inxing</cp:lastModifiedBy>
  <dcterms:modified xsi:type="dcterms:W3CDTF">2017-04-16T23:29:13Z</dcterms:modified>
  <cp:revision>1</cp:revision>
  <dc:subject/>
  <dc:title>幻灯片 1</dc:title>
</cp:coreProperties>
</file>