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D8E3-7433-46FE-9E7A-B932685E4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2A4A-1059-4822-AEA6-6EE1A51C4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A1FC-9692-4062-B696-C37476568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EF65-AD82-4E62-968B-D14CD33E6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ADD2-6472-4F1A-80B3-FFBC391D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AE2-F2EA-4A86-9B32-D1C84C10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347-A802-4779-9856-08854572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C846-6C78-4AA2-8C0E-EA423FBD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988-70D6-4783-A3D2-C94FCB03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27F1-C584-47B8-B7A3-886ED246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EBD-5593-4303-AE54-46009900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94C7-10FE-49A5-A9DA-BBB4106D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DB52-7850-4999-90C6-298E070F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A2A-4B55-46DC-A568-A4098E88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3E6-A96D-49FB-A917-B9D9FCC8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C54B-B082-4811-8E4A-D377EA9D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4E8C-B986-4206-B972-DD7E57E6E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卡通~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1430280" y="2133720"/>
            <a:ext cx="69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ff"/>
                </a:solidFill>
                <a:latin typeface="Arial"/>
                <a:ea typeface="幼圆"/>
              </a:rPr>
              <a:t>种  瓜  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447920" y="1197000"/>
            <a:ext cx="676728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（湘教版）二年级语文下册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230200" y="42591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卡通~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332000" y="1197000"/>
            <a:ext cx="61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从此，楚亭人也变得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勤快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起来。两地人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和睦相处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交流种瓜经验。瓜儿年年丰收，大家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都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过上了好日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细读课文，理解内容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地人都种瓜，是怎样种瓜的呢？瓜种得好不好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精心”是什么意思？说明梁亭人具什么样的品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对比梁亭人和楚亭人的行为，有何感受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79280" y="476280"/>
            <a:ext cx="914400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梁亭人不但不报复，反面帮助楚亭人，你赞成这样做吗？为什么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50920" y="2637000"/>
            <a:ext cx="8497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赞成。因为梁亭人如果以恶报恶，两地人定会结下仇恨，纠纷不断，祸及子孙。而梁亭人以善报恶的结果是，两地人和睦相处，大家都过上了好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0" y="-36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我会填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梁亭人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勤劳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而楚亭人（      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楚亭人起了（   ）心眼，梁亭人却（   ）心帮助他们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楚亭人也勤快起来，他们的生活由（   ）变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267920" y="1773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懒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117040" y="2565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885040" y="3357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2885040" y="4941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仿写句子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例：梁亭人种的瓜又大又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又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又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BD22-82EF-43A7-9965-D1995220D5F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学习目标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练习正确、流利地朗读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文章所蕴含的价值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体会不能以恶报恶，而应以善报恶，学会宽容别人的错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179280" y="476280"/>
            <a:ext cx="8964720" cy="629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tíng      zhǐ          è       chóu  hè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亭子     制止　 凶恶　　　仇　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huò          gěi                 f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祸害  　  交给　　　报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hǔ               zé                  sh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楚国　　    色泽　　     长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fēnfù         fēn                pé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吩咐　　   纠纷　　        赔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08000" y="189000"/>
            <a:ext cx="2016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亭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官方logo副本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2268360" y="0"/>
            <a:ext cx="2268720" cy="2565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2411280" y="115920"/>
            <a:ext cx="2016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止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6875640" y="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7054920" y="115920"/>
            <a:ext cx="2089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仇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"/>
          <p:cNvPicPr/>
          <p:nvPr/>
        </p:nvPicPr>
        <p:blipFill>
          <a:blip r:embed="rId5"/>
          <a:stretch/>
        </p:blipFill>
        <p:spPr>
          <a:xfrm>
            <a:off x="4572000" y="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"/>
          <p:cNvSpPr/>
          <p:nvPr/>
        </p:nvSpPr>
        <p:spPr>
          <a:xfrm>
            <a:off x="4716360" y="115920"/>
            <a:ext cx="1908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恶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"/>
          <p:cNvPicPr/>
          <p:nvPr/>
        </p:nvPicPr>
        <p:blipFill>
          <a:blip r:embed="rId6"/>
          <a:stretch/>
        </p:blipFill>
        <p:spPr>
          <a:xfrm>
            <a:off x="0" y="400536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2"/>
          <p:cNvSpPr/>
          <p:nvPr/>
        </p:nvSpPr>
        <p:spPr>
          <a:xfrm>
            <a:off x="108000" y="4076640"/>
            <a:ext cx="1944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恨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" descr=""/>
          <p:cNvPicPr/>
          <p:nvPr/>
        </p:nvPicPr>
        <p:blipFill>
          <a:blip r:embed="rId7"/>
          <a:stretch/>
        </p:blipFill>
        <p:spPr>
          <a:xfrm>
            <a:off x="2268360" y="4005360"/>
            <a:ext cx="2268720" cy="2565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4"/>
          <p:cNvSpPr/>
          <p:nvPr/>
        </p:nvSpPr>
        <p:spPr>
          <a:xfrm>
            <a:off x="2411280" y="4149720"/>
            <a:ext cx="19796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祸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5" descr=""/>
          <p:cNvPicPr/>
          <p:nvPr/>
        </p:nvPicPr>
        <p:blipFill>
          <a:blip r:embed="rId8"/>
          <a:stretch/>
        </p:blipFill>
        <p:spPr>
          <a:xfrm>
            <a:off x="4572000" y="400536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6"/>
          <p:cNvSpPr/>
          <p:nvPr/>
        </p:nvSpPr>
        <p:spPr>
          <a:xfrm>
            <a:off x="4716360" y="4076640"/>
            <a:ext cx="1908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给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"/>
          <p:cNvPicPr/>
          <p:nvPr/>
        </p:nvPicPr>
        <p:blipFill>
          <a:blip r:embed="rId9"/>
          <a:stretch/>
        </p:blipFill>
        <p:spPr>
          <a:xfrm>
            <a:off x="6875640" y="400536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8"/>
          <p:cNvSpPr/>
          <p:nvPr/>
        </p:nvSpPr>
        <p:spPr>
          <a:xfrm>
            <a:off x="6948360" y="4076640"/>
            <a:ext cx="20894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复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3059280" y="278136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文鼎齿轮体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0" y="692280"/>
            <a:ext cx="9144000" cy="557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精心耕作  色泽鲜亮  又大又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起坏心眼  趁着夜色   又少又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恶报恶  长势良好  非常气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纠纷不断  祸及子孙  赔礼认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和睦相处  年年丰收  结下仇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6"/>
          <p:cNvSpPr/>
          <p:nvPr/>
        </p:nvSpPr>
        <p:spPr>
          <a:xfrm>
            <a:off x="3059280" y="213660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卡通~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1547640" y="1916280"/>
            <a:ext cx="60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梁亭人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勤劳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精心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耕作，园子里的瓜结得多，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色泽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鲜亮，又大又甜，在市场上很受欢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卡通~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395280" y="83664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　楚亭人有些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懒惰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，常常忘了施肥、浇水。园子里的瓜又小又少，味道也不好，没人买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卡通~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2627280" y="1197000"/>
            <a:ext cx="4249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几个楚亭人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趁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夜色，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溜进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梁亭人的园子里，用手指轻轻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掐伤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卡通~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835280" y="1125360"/>
            <a:ext cx="62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“依我看，不如我们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趁夜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里给他们的瓜地施肥、浇水，让他们的瓜也长得好。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9:23:0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5:44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